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4.gif" ContentType="image/gif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70A-2960-497F-AD6F-090F3C99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BE4-41FB-4E19-9349-88A94AAF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117-0A53-4F70-B4FF-EFC6D95E7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30B7-A555-45D4-8D56-BE448E29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DE97-3626-4937-9DA4-C0D51799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D69F-0293-443F-A38F-E784CC8A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6B3B-AE2C-459F-89E3-9DC8688BE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BB75-1ABA-49C3-B49B-28D35864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094-F818-4D6E-B8DF-FCA8BCC7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B4B5-744F-4B7C-B989-A136AF33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9E8-3D4D-4FE5-8840-A62165FE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62C2-B0BC-4CD3-A8EB-9496B01F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B859-F486-4165-A698-190D851390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eekg.com/print/5288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243760" y="380880"/>
            <a:ext cx="2619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珍惜时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珍惜青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贵在坚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1283-41D9-4DB9-93FE-0FE79C8ED0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129528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</a:rPr>
              <a:t>给一分钟时间给你们，仔细回想一下，你最初希望用这半个学期的时间做什么？最后你用这些时间做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808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谁偷走了我们的时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583560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懒惰、拖拉、半途而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324480" y="914400"/>
            <a:ext cx="1333800" cy="133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93E4-9BE9-4520-A0FF-810E83199C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故事、大智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很久很久以前，在一个很远很远的地方，一位老酋长正病危。他找来村中最优秀的三个年轻人，对他们说：“这是我要离开你们的时候了，我要你们为我做最后一件事。你们三个都是身强体壮而又智慧过人的好孩子，现在，请你们尽其可能地去攀登那座我们一向奉为神圣的大山。你们要尽其可能爬到最高的、最凌越的地方，然后，折回头来告诉我你们的见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F192-5C97-46D2-A847-5A1B2C78C7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故事、大智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天后，第一个年轻人回来了，他笑生双靥，衣履光鲜：“酋长，我到达山顶了，我看到繁花夹道，流泉淙淙，鸟鸣嘤嘤，那地方真不坏啊！”老酋长笑笑说：“孩子，那条路我当年也走过，你说的鸟语花香的地方不是山顶，而是山麓。你回去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周以后，第二个年轻人也回来了，他神情疲倦，满脸风霜：“酋长，我到达山顶了。我看到高大肃穆的松树林，我看到秃鹰盘旋，那是一个好地方。” “可惜啊！孩子，那不是山顶，那是山腰。不过，也难为你了，你回去吧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0DD-6530-480F-9BFF-7F8926FBD6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故事、大智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48840"/>
            <a:ext cx="8686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月过去了，大家都开始为第三位年轻人的安危担心，他却一步一蹭，衣不蔽体地回来了。他发枯唇燥：“酋长，我终于到达山顶，只剩下清炯的眼神。但是，我该怎么说呢？那里只有高风悲旋，蓝天四垂。”“你难道在那里一无所见吗？难道连蝴蝶也没有一只吗？”“是的，酋长，高处一无所有。你所能看到的，只有你自己。只有‘一个人’被放在天地间的渺小感，只有想千古英雄的悲激心情。” “孩子，你到的是真的山顶。按照我们的传统，天意要立你做新酋长，祝福你。”真英雄何所遇？他遇到的是全身的伤痕，是孤单的长途，以及愈来愈真切的渺小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1625-674D-4A0C-8B16-F23DA8D3C9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05120" y="40968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请同学们来谈谈看完这则故事之后的感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43080" y="2881440"/>
            <a:ext cx="2923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Arial"/>
              </a:rPr>
              <a:t>贵在坚持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Arial"/>
              </a:rPr>
              <a:t>难在坚持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Arial"/>
              </a:rPr>
              <a:t>成在坚持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09A-0932-4103-AB8D-EB49B5FDB9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979640" cy="1916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a50021"/>
                </a:solidFill>
                <a:latin typeface="Arial"/>
              </a:rPr>
              <a:t>珍惜时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076480"/>
            <a:ext cx="756108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经意间，时间正一分一秒地从我们身边流逝。时间是不等人的。想挤出时间不容易，但失去时间却很容易。无论迎着多少无奈，无论听着多少感慨，它从不因势而变，因人而异。凡是在事业上取得成功的人，没有一个不是珍惜时间的典范。请看名人珍惜时间的故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EEE-975E-4E7A-AAB9-84820E30251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96372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438280" y="380880"/>
            <a:ext cx="36943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囊萤映雪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57240"/>
            <a:ext cx="2340000" cy="2305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012000" y="25560"/>
            <a:ext cx="3132000" cy="24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7D8-A64C-4220-93B2-6B3A774555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爱迪生的故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219640" y="1066680"/>
            <a:ext cx="3924360" cy="579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5219640" cy="3068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-119160" y="1058760"/>
            <a:ext cx="5334120" cy="275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F60D-B50C-4DD7-B763-192FF3EADE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爱迪生的故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084320"/>
            <a:ext cx="8540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迪生 一生只上过三个月的小学，他的学问是靠母亲的教导和自修得来的。他的成功，应该归功于母亲自小对他的谅解与耐心的教导，才使原来被人认为是低能儿的爱迪生，长大后成为举世闻名的“发明大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迪生从小就对很多事物感到好奇，而且喜欢亲自去试验一下，直到明白了其中的道理为止。长大以后，他就根据自己这方面的兴趣，一心一意做研究和发明的工作。他在新泽西州建立了一个实验室，一生共发明了电灯、电报机、留声机、电影机、磁力析矿机、压碎机等等总计两千余种东西。爱迪生的强烈研究精神，使他对改进人类的生活方式，作出了重大的贡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81E6-0F48-4A84-8A9B-CA8344AA48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爱迪生的故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127160"/>
            <a:ext cx="8540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浪费，最大的浪费莫过于浪费时间了。” 爱迪生常对助手说。“人生太短暂了，要多想办法，用极少的时间办更多的事情。”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一天，爱迪生在实验室里工作，他递给助手一个没上灯口的空玻璃灯泡，说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你量量灯泡的容量。”他又低头工作了。过了好半天，他问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容量多少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? ”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他没听见回答，转头看见助手拿着软尺在测量灯泡的周长、斜度，并拿了测得的数字伏在桌上计算。他说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时间，时间，怎么费那么多的时间呢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?”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爱迪生走过来，拿起那个空灯泡，向里面斟满了水，交给助手，说：“里面的水倒在量杯里，马上告诉我它的容量。”助手立刻读出了数字。爱迪生 说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这是多么容易的测量方法啊，它又准确，又节省时间，你怎么想不到呢？还去算，那岂不是白白地浪费时间吗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?” 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助手的脸红了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爱迪生喃喃地说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人生太短暂了，太短暂了，要节省时间，多做事情啊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!”  </a:t>
            </a:r>
            <a:br>
              <a:rPr sz="2700"/>
            </a:b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C50-2C44-4CB7-8B95-A920EF5837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28800" y="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我们的一生中，有很多事物是值得我们去珍惜和认真对待的，请仔细看下面五种事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理想、亲情、爱情、友谊、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2767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现在请同学们拿出纸和笔，在这五种事物中，迅速划去一个你认为不是很重要的事物，注意你只有一次选择的机会，不可以后悔。依此类推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E1E-FAF8-4CFD-B3E6-BE14FD2A6E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鲁迅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96000" cy="522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9D1-49B5-4890-A855-6DB8504B387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鲁迅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412640"/>
            <a:ext cx="85341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鲁迅的成功，有一个重要的  秘诀，就是珍惜时间。鲁迅十二岁在绍兴城读私塾的  时候，父亲正患着重病，两个弟弟年纪尚幼，鲁迅不仅经常上当铺，跑药店，还得帮助母亲做家务；为免影响学业，他必须作好精确的  时间安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后，鲁迅几乎每天都在挤时间。他说过：“时间，就像海绵里的  水，只要你挤，总是有的。”鲁迅读书的  兴趣十分广泛，又喜欢写作，他对于民间艺术，特别是传说、绘画，也深切爱好；正因为他广泛涉猎，多方面学习，所以时间对他来说，实在非常重要。他一生多病，工作条件和生活环境都不好，但他每天都要工作到深夜才肯罢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165A-0F25-47AA-A924-84968ACF86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鲁迅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412640"/>
            <a:ext cx="85406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鲁迅的眼中，时间就如同生命。“美国人说，时间就是金钱。但我想：时间就是性命。倘若无端的  空耗别人的时间，其实是无异于谋财害命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此，鲁迅最讨厌那些“成天东家跑跑，西家坐坐，说长道短”的人，在他忙于工作的  时候，如果有人来找他聊天或闲扯，即使是很要好的朋友，他也会毫不客气地对人家说：“唉，你又来了，就没有别的事好做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88AF-1694-4C11-8C00-89FA1D1C5A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110400" y="20160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白头翁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1679-668E-4B8C-83EF-0265DA3190C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白头翁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40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只“好看的小鸟”，它有尖尖的嘴﹑细细的脚﹑一头乌黑浓密的头发，它想学一套不平凡的本领，可不平凡的本领是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一天小鸟在树上玩，树顶上传来一阵“咔咔咔”的声音，原来是喜鹊在造房子，小鸟想这可能是不平凡的本领，它飞到喜鹊面前说：“喜鹊大哥，请教我造房子吧！”喜鹊说：“可以，但是造房子很辛苦，你能做到吗？”小鸟爽快地答应了喜鹊，小鸟说“这还不容易？”前几天，它很勤快，过了几天它想：“每天都要叼树枝，而且要一根一根地叼，太累了！”于是它拍拍翅膀飞走了，不干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A499-4A0A-4059-8F1B-E353E7A041B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白头翁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40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鸟飞到一棵大树上生气，它突然听到一阵悦耳的音乐，都忘记自己在树枝上跳起舞来了，它又想这么好听的歌声一定要学！它朝着声音的源地飞去了，它飞啊，飞啊，看到黄莺在树上唱歌，它到黄莺面前说：“黄莺大姐，请您教我唱歌吧！”黄莺说：“可以，但早上要练嗓子，你要坚持下来！”小鸟页答应了黄莺。刚练了几天，它就想：每天都要那么早起来练嗓子，太累了，太辛苦了！于是又飞走了。后来它又跟着小鹰学捕鱼，跟老鹰学捕猎，跟大雁学飞行，结果每次都是虎头蛇尾，到老了一种本领也没学会。小鸟长出了一头白发，为了吸取这个教训，它把白发传给了后代，让后代记住：世上没有后悔药吃，只有坚持才是成功的来源。小鸟的后代都有白头发，人们给它们取名叫“白头翁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2786-3757-47C8-9207-34889CE7D6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11E-3658-4175-AB9A-501ED071203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859280" y="1700280"/>
            <a:ext cx="27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170028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57200"/>
            <a:ext cx="87631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请同学们谈一谈看过       这些故事的感想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同学们知道一些关于珍惜时间的名人名言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038-3F74-44DB-BB0E-450D6972E7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珍惜时间的名人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切节省，归根到底都归结为时间的节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─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马克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利用时间是一个极其高级的规律。──恩格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理安排时间，就等于节约时间。──培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所做之事勿候明天，自己所做之事勿候他人 。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─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歌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应做的事没有做，明天再早也是耽误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──裴斯泰洛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浪费时间是一桩大罪过。              ──卢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B255-960E-4B8E-A4FC-90D0AE15EAF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珍惜时间的名人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盛年不重来，一日难再晨。及时当勉励，岁月不待人 。                                             ——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命是以时间为单位的，浪费别人的时间等于谋财害命；浪费自己的时间，等于慢性自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凡是较有成就的科学工作者，毫无例外地都是利用时间的能手，也都是在大量时间中投入大量劳动的人。                                          ——华罗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更灯火五更鸡，正是男儿读书时，黑发不知勤学早，白首方悔读书迟。                 ——颜真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796-AB28-4802-A6F7-75C97040828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029200" y="2667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后我们来看看结果。大部分同学留下来的也许都是时间，因为只要还有时间，我们就有希望去获取其他四样我们认为重要的事物。可是现实却是最残酷的，我们恰恰最留不住的就是－－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时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B85-F9D2-4246-8E94-29E83FFC5A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珍惜时间的名人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不可及，日不可留。 ——《黑子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圣人不贵尺之璧，而重寸之阴，时难得而易失也。 ——《淮南子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及时当勉励，岁月不待人。 ——（陶渊明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莫等闲白了少年头，空悲切。——（岳飞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寸光阴一寸金，寸金难买寸光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——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明朝（罗懋登）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464-019D-4045-A823-F70DC9F1301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珍惜时间的名人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光景不待人，须臾发成丝。 ——李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间，就象海绵里的水，只要愿挤，总还是有的。                              —— 鲁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热爱生命吗？那么别浪费时间，因为时间是组成生命的材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           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富兰克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放弃时间的人，时间也放弃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莎士比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CE7-1E48-4964-BB61-C4E3A6BA585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920" y="1196640"/>
            <a:ext cx="85406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禹圣者，乃惜寸阴，至于众人，当惜分阴。岂可逸游荒醉？生无益于时，死无闻于后，是自弃也。                                               ——晋（陶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节约时间，也就是使一个人的有限的生命，更加有效，而也就等于延长了人的寿命。 ——鲁 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以为世间最可贵的就是“今”，最易丧失得也是“今”。因为它最容易丧失，所以更觉得它宝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大钊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珍惜时间的名人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A9A0-1C01-417B-A5D0-6747A22C05E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珍惜时间的名人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必须记住我们学习的时间是有限的。时间有限，不只是由于人生短促，更由于人事纷繁。我们应该力求把我们所有的时间用去做最有益的事情。                               ——斯宾塞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人越知道时间的价值，越倍觉失时的痛苦呀！                                      ——但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D05-DF35-4656-965A-2F690EE763B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981080" y="5335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中的学习生活对于我们来说是艰苦而有富有挑战的生活，别让人生当中的最美好的时光从你的身边偷偷溜走，把时间利用起来吧，做一个善用时间的强者，而不做浪费时间的恶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657600"/>
            <a:ext cx="7010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6EA-3382-44A1-BC9D-28EF29EDEF6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几点建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自己制定一个有时间期限的学习目标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如为自己定一个星期目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理安排好各科的学习时间，尤其做好文理科时间的分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自己一天当中的时间盲点，利用这些时间给自己创造学习的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努力让自己的每一秒钟都过得充实有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FB21-3796-4D0E-888A-4C6D251074C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828800" y="194616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带着一脸的兴奋和茫然，我们已经度过了高二的大半个学期，时间在我们面前匆匆划过，留下一道道优美的弧线，或许也留下了挥之不去的遗憾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BFFA-A460-401F-A2A7-2FCCC37BFDB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0"/>
            <a:ext cx="6172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Arial"/>
              </a:rPr>
              <a:t>对于时间我们别无他法，唯有珍惜时间，持之以恒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9680-E745-454F-9FB1-4B77CAF4CF8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532720" y="6246720"/>
            <a:ext cx="611280" cy="6112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90520" y="533520"/>
            <a:ext cx="26182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隶书"/>
                <a:ea typeface="隶书"/>
              </a:rPr>
              <a:t>珍 惜 时 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2120" y="685800"/>
            <a:ext cx="26182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隶书"/>
              </a:rPr>
              <a:t>持  之  以 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9A90-ED4F-4FD7-A946-CADBA654CED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224156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828800" y="2362320"/>
            <a:ext cx="5562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激情燃烧冬三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不留遗憾在今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4D40-0018-43CF-A442-20236AA02B53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珍惜时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杨柳枯了，有再青的时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桃花谢了，有再开的时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燕子飞了，有再来的时候。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然而有一样东西却是一去不复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给勤奋者留下智慧和力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给懒惰者留下空虚和懊悔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是组成生命的材料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是衡量重量的标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它就是时间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AD5-7A65-474B-8AA1-D11958BC23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048120" y="3225960"/>
            <a:ext cx="5398920" cy="32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88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-76320" y="228600"/>
            <a:ext cx="77724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祝大家学习进步！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569B-710A-4763-A6ED-AFF88A3CCBE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光阴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096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春天的花开秋天的风以及冬天的落阳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忧郁的青春年少的我曾经无知的这么想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风车在四季轮回的歌里它天天地流转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风花雪月的诗句里我在年年的成长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命与告别光阴的故事改变了一个人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在那多愁善感而初次等待的青春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发黄的相片古老的信以及褪色的圣诞卡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轻时为你写的歌恐怕你早已忘了吧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去的誓言就象那课本里缤纷的书签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刻划着多少美丽的诗可是终究是一阵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命与告别光阴的故事改变了两个人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在那多愁善感而初次流泪的青春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遥远的路程昨日的梦以及远去的笑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再次的见面我们又历经了多少的路程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再是旧日熟悉的我有着旧日狂热的梦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不是旧日熟悉的你有着依然的笑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命与告别光阴的故事改变了我们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在那多愁善感而初次回忆的青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E96C-2022-4BD5-9F41-9C6D9797B4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936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象有一家银行每天早上都在你的帐户里存入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6,4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可是每天的帐户余额都不能结转到明天，一到结算时间，银行就会把你当日未用尽的款项全数删除。 </a:t>
            </a:r>
            <a:br>
              <a:rPr sz="3600"/>
            </a:b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这种情况下你会怎么做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657600"/>
            <a:ext cx="6019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然， 每天不留分文地全数提领是最佳选择。  你可能不晓得， 其实我们每个人都有这样的一个银行， 她的名字是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「时间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(TIME)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」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D5F1-EACA-4FB1-AFDC-9D130D3847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28800" y="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天早上「时间银行」总会为你在帐户里自动存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64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秒；一到晚上，她也会自动地把你当日虚掷掉的光阴全数注销，没有分秒可以结转到明天，你也不能提前预支片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8954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Arial"/>
              </a:rPr>
              <a:t>如果你没能适当使用这些时间存款，损失掉的只有你自己会承担。没有回头重来，也不能预提明天，你必须根据你所拥有的这些时间存款而活在现在。你应该善加投资运用，以换取最大的健康、快乐与成功。时间总是不停地在运转，努力让每个今天都有最佳收获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8998-2EC4-43FD-96B9-A2B469D468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体会时间的价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要体会「一年」有多少价值，你可以去问一个失败重修的学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要体会「一月」有多少价值，你可以去问一个不幸早产的母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要体会「一周」有多少价值，你可以去问一个定期周刊的编辑。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要体会「一小时」有多少价值，你可以去问一对等待相聚的恋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6091-EE8A-48C4-8EE6-226B3E4CD07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体会时间的价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要体会「一分钟」有多少价值，你可以去问一个错过火车的旅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要体会「一秒钟」有多少价值，你可以去问一个死里逃生的幸运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要体会「一毫秒」有多少价值，你可以去问一个错失金牌的运动员。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ECD9-19A8-4773-8BFA-F11236F2C7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7:53Z</dcterms:modified>
  <cp:revision>114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