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0BFF-248A-4317-8965-1C2CB1C9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8647-DA91-43BC-827C-7B83C473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2A6-5B7A-42ED-BA3F-0ADCB7AD3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2CA2-E14C-4AE8-9951-DF4CBF6B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224C-38BA-49DB-9B1E-D62BCD7A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F339-A729-42D7-9EB6-289E5BB2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836-11E9-466C-B574-034C0D74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4039-3BE8-49D1-9619-FFFA0DD6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05324-6D62-4FB1-AE85-A697830A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CA465-69A7-459E-8BC2-9F28E63A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0FB1-A5F5-4FED-93E4-6B986EF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CB15-F735-4FFC-83CD-63052C28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63A53-7414-4765-AA44-C6B4B742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D3A-6A9C-4CC4-9A49-0746D6DB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2587-A44A-44C3-97A1-7CD1323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8C79-BA02-4382-84D5-C8ED5E22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0E3-3DF4-4B75-9295-A4A12D2A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00B8C-9664-4573-B14C-A58633D17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F670-2E0E-4F99-A229-856A604EF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C344C-FD0F-45FF-98E4-913A15A0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49FCD-A8BE-414A-A909-3A4A79E4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5A856-1798-446B-A1E5-5C469D9A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652-1AD9-4947-A7BA-5AC7FA9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B56CF-CDDE-4401-B1B7-9DFD222A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22BC-CD8C-46F0-913F-D0BC53E5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567F-F296-4714-9CC4-B885BD41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85F85-6FDE-4C43-AA44-8510544E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B053-68AE-4AB6-834D-6FA6065F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C870-F576-4679-9535-7F6D55B5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F206D-D3C0-4664-914A-FEAAA436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BC35-403E-428E-966A-3714DB92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E2CBF-E8B8-40A2-8788-BEF443D3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D7794-09AF-4D08-AB20-E413CAB8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8EC7-FA31-4DAD-A9DC-F23FA08B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B8945-ECD2-4A6E-8970-DC47114D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0992-8A6F-4F39-BFA8-9B695351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36FFC-7D73-4799-9F18-1BB5C4A1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D4AE2-27EF-45C9-8B98-B56B25C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86F3B-A5B2-452E-AB21-DBF7767D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AA787-CD60-498B-9739-97987632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054C9-F4D1-48EC-BC02-F1251883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69F4D-DCA2-4E01-AF60-68108667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6E2C-7C1B-4A24-966E-02D33F82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16E-6F30-4929-AC72-2C8868CD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48D2-6071-459F-BCF5-FDA3E8C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A0E8-197F-48B6-A9AC-3A03215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78AC-077F-4873-8C97-3C478FF6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9E18-972C-4E45-B077-A23D8D286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DADA-2DED-4C14-B9C5-815F68D9C5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0073-DAE5-481C-9D28-AD4FA2DE07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E149-55D1-418A-9F95-990B9098F1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B2F1-5BB0-4774-9648-DAB12080A6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news3.xinhuanet.com/ziliao/2007-01/17/content_5615749.htm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h-aiguo.gov.cn/epublish/gb/paper276/46/class027600002/hwz1020015.htm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1447560"/>
            <a:ext cx="78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界上最长而又最短，最快而                    又最慢，最平凡而又最珍贵，最易   被忽视而又最令人后悔的就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</a:rPr>
              <a:t>时间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爱迪生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天，爱迪生在实验室里工作，他递给助手一个没上灯口的空玻璃灯泡，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量量灯泡的容量。”他又低头工作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过了好半天，他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容量多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 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他没听见回答，转头看见助手拿着软尺在测量灯泡的周长、斜度，并拿了测得的数字伏在桌上计算。他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时间，时间，怎么费那么多的时间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爱迪生走过来，拿起那个空灯泡，向里面斟满了水，交给助手，说：“里面的水倒在量杯里，马上告诉我它的容量。”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助手立刻读出了数字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爱迪生 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是多么容易的测量方法啊，它又准确，又节省时间，你怎么想不到呢？还去算，那岂不是白白地浪费时间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”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助手的脸红了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爱迪生喃喃地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“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人生太短暂了，太短暂了，要节省时间，多做事情啊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!”</a:t>
            </a:r>
            <a:r>
              <a:rPr b="0" lang="zh-CN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0"/>
            <a:ext cx="7238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鲁迅珍惜时间的故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鲁迅的成功，有一个重要的秘诀，就是珍惜时间。在鲁迅的眼中，时间就如同生命。鲁迅十二岁在绍兴城读私塾的时候，父亲正患着重病，两个弟弟年纪尚幼，鲁迅不仅经常上当铺，跑药店，还得帮助母亲做家务；为免影响学业，他必须作好精确的时间安排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此后，鲁迅几乎每天都在挤时间。他说过：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时间，就像海绵里的水，只要你挤，总是有的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1295280"/>
            <a:ext cx="23050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勤学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我们作为中学生，首要的任务就是学习。学习上要想有大的突破，首先要勤奋。付出与得到是成正比的。高中三年，如果你勤奋，痛并快乐着。如果你怕吃苦，那是没有快乐可言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ff"/>
                </a:solidFill>
                <a:latin typeface="Times New Roman"/>
                <a:ea typeface="隶书"/>
              </a:rPr>
              <a:t>勤能补拙是良训， 一分耕耘一分收获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业精于勤而荒于嬉，行成于思而毁于随 －－韩愈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才就是无止境刻苦勤奋的能力 －－卡莱尔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聪明出于勤奋，天才在于积累 －－华罗庚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好学而不勤奋非真好学者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书山有路勤为径，学海无涯苦作舟。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勤劳一日，可得一夜安眠；勤劳一生，可得幸福长眠 －－达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芬奇（意大利）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形成天才的决定因素应该是勤奋 －郭沫若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果你很有天赋，勤勉会使天赋更加完善；如果你的才能平平，勤勉会补足缺陷。 ——雷诺兹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76160" y="1064880"/>
            <a:ext cx="728316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林肯学习很刻苦。虽然自小出身农家，一生在学校的学习时间不足一年，但是他勤奋刻苦，抓住一切机会向他人请教，并且博览群书，特别努力钻研法律，结果当上了伊利诺斯州的律师。他曾四次被选入伊利诺斯州的立法会议，而且在联邦众议院中任过一届众议员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4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84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年）。他在美国内战期间领导联邦政府制服了叛乱，维护了美国的统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523880"/>
            <a:ext cx="2021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09680" y="188640"/>
            <a:ext cx="693432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梁刺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汉朝的孙敬刻苦好学，每天一早就起来读书，直至深夜。因为疲劳瞌睡，会不知不觉地打起盹来，他就把绳子的一头拴在屋梁上，一头系在自己的头发上。这样以来，如果打盹，头皮就会被扯疼。。另外，战国时的苏秦在游说秦国失败后，回到家里发愤学习，每当晚上读书读得疲倦打瞌睡时，他便用锥子刺自己的大腿，直至鲜血淋漓。他后来终于成为有名的政治家。这个成语形容人刻苦读书，坚韧不拔的精神。他后来终于成为儒学大师。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066680"/>
            <a:ext cx="24382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忍          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人之所以能，是相信能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I   believe   you   can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09000" cy="736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《匆匆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燕子去了，有再来的时候，杨柳枯了，有再青的时候，桃花谢了，有再开的时候。但是，聪明的，你告诉我，我们的日子为什么一去不复返呢？ “洗手的时候，日子从水盆里过去，吃饭的时候，日子从饭碗里过去。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620640"/>
            <a:ext cx="7772400" cy="50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一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班主题班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2276640"/>
            <a:ext cx="655308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惜时间，勤学习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惜时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的生命有限，而时间又是公平的。时间对于每一个人都是每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。勤奋的人利用时间创造价值，懒惰的人只会抱怨时间过的太慢。在这有限的时间里，万事万物有各自的生活方式，其中的共同点就是努力将自己的特点——展现，让自己在短暂的生命旅程中放出更加灿烂的光芒，这也就是生命的意义。我们也是如此，怎样才能把握这有限的生命，去做更多有意的事情呢？答案只有一个，就是珍惜时间。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们要学会珍惜生命中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每一分，每一秒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在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920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天当中，除去花在睡觉，吃饭等的时间，大概还有一万多天。成功与失败的区别在于，你是真的生活了一万多天，还是只生活了一天而重复了一万多次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cc33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33cc33"/>
                </a:solidFill>
                <a:latin typeface="Times New Roman"/>
              </a:rPr>
              <a:t>成功的人都是善于利用时间的人，我们要善于从最少的时间中获得最多的回报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8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3300"/>
                </a:solidFill>
                <a:latin typeface="Times New Roman"/>
                <a:ea typeface="华文隶书"/>
              </a:rPr>
              <a:t>一些珍惜时间的名言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要为已消尽之年华叹息，必须正视匆匆溜走的时光。——布莱希特【德】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当许多人在一条路上徘徊不前时，他们不得不让开一条大路，让那珍惜时间的人赶到他们的前面去。——苏格拉底【古希腊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  </a:t>
            </a: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敢于浪费哪怕一个钟头时间的人，说明他还不懂得珍惜生命的全部价值。——达尔文【英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完成工作的方法是爱惜每一分钟。 －－达尔文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合理安排时间，就等于节约时间。－－培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逝者如斯夫，不舍昼夜。——孔丘《孔子》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抛弃时间的人，时间也抛弃他。——莎士比亚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盛年不再来，一日难再晨。（陶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世界上我们只活一次，所以应该爱惜光阴。必须过真实的生活，过有价值的生活。——巴甫洛夫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一寸光阴一寸金，寸金难买寸光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时间是世界上一切成就的土壤。时间给空想者痛苦，给创造者幸福。——麦金西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华文行楷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今天所做之事勿候明天，自己所做之事勿候他人。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歌德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8:11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56Z</dcterms:modified>
  <cp:revision>25</cp:revision>
  <dc:subject>主题班会课件(分28大类): http://shop62905894.taobao.com</dc:subject>
  <dc:title>主题班会课件(分28大类): http://shop62905894.taobao.com</dc:title>
</cp:coreProperties>
</file>