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2E8-825C-4EFC-B616-67A2ADB7B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952D-704C-4903-A746-4D84D0C9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9395-FBD6-4331-AB1A-9EF30195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2BB5-97F9-45EF-9DF8-160C721D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30ED-DDF4-4CB7-BDA0-432A16E12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3938-7A37-4173-AF25-7544665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14B9-CF74-4AA8-83A1-7D5654EE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2A7B-1497-471C-9138-781B7B9F1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68BD-CBA4-425C-9180-95C22FE42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B897-2B6D-4D83-95BD-7D394FA4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1745-4BF2-4AEE-B6AF-207796B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5587-957F-49E6-BEF6-A0B2BCE3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50A8-C6D6-4C67-85B4-CB6ED9E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EE4-256A-4BAE-9B28-A9C3F945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79B9D-FB99-4508-8D2A-5B64553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8D70-A067-4337-A058-7B755D75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16E1-AFC6-4C49-B0FA-98DDAA54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EE546-6C85-4C93-BFBE-957E09A29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D392-15D9-475C-A9E5-346D0950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1A058-649C-4613-BC2F-B70DCD6D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6DD65-6195-42D8-9D44-1B8D76FF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1D79-B6E9-40CB-9477-53814026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3575-FDE1-41CC-8187-95601BF2A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3B229-58AD-4324-A3A3-F974766B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68C55-3263-4677-83EB-494BF921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D7C0-942C-49E1-9912-D082B8C1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8CE60-BEE5-431B-8B67-158486EB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4C29D-403A-4CD7-AC23-7EC2F2F4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2B5F-5F3C-43FA-B4B6-AB06A5C72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5A94-EB14-49F3-854F-5B2D8819E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99CA-DC7D-4D6C-AB85-589F9E7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B32-9DF7-4795-8B56-006CDC65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E3B0-141C-4EEA-AA27-9B7D8944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8FB3-273C-4542-963B-DB976C8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1B8-AF87-43BD-9C79-F7D8AADC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0C1-6F58-46D4-866E-74EB3DA7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7AE95-57AB-45DA-9949-8C6B184B85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E616-175D-4B3B-9FDA-F5002077909D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0A05-34A2-46D1-9474-417A30D73C5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124000" y="971640"/>
            <a:ext cx="540072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给梦想插上翅膀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4" name=""/>
          <p:cNvSpPr/>
          <p:nvPr/>
        </p:nvSpPr>
        <p:spPr>
          <a:xfrm>
            <a:off x="4583520" y="3860640"/>
            <a:ext cx="178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隶书"/>
              </a:rPr>
              <a:t>友谊、惜时、拼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900000" y="54936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333333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拼搏</a:t>
            </a:r>
            <a:endParaRPr b="1" lang="en-US" sz="6000" spc="1" strike="noStrike">
              <a:ln w="44280">
                <a:solidFill>
                  <a:srgbClr val="ffffff"/>
                </a:solidFill>
                <a:miter/>
              </a:ln>
              <a:solidFill>
                <a:srgbClr val="333333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9" name=""/>
          <p:cNvSpPr/>
          <p:nvPr/>
        </p:nvSpPr>
        <p:spPr>
          <a:xfrm>
            <a:off x="3921480" y="227664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、找差距，明目标，下功夫，出成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19280" y="3213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13000" y="31622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二、挑战自我，奋战中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16000" y="4581360"/>
            <a:ext cx="7315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用拼搏实现希望，用勇气收获未来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389240" y="696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重点强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4560" y="193824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、珍爱生命，注意安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4680" y="25858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二、严守校规班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01880" y="3284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三、做文明有礼的中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93240" y="4076640"/>
            <a:ext cx="203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四、在学习上，明确学习目的，端正学习态度，养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良好的学习习惯，培养学习能力。变“要我学”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        “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我要学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640" y="692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关于班级管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44280" y="1628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PMingLiU"/>
              </a:rPr>
              <a:t>实行班长责任制下的班委成员负责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9720" y="263700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、班委成员及其职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76160" y="3500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二、学科代表及其职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14280" y="4365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三、再次强调清洁卫生及纪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6320" y="51577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四、新学期作息时间安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844640" y="6746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关于语文学科的学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00000" y="16509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PMingLiU"/>
              </a:rPr>
              <a:t>一、注重“积累”和“感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094640" y="4221000"/>
            <a:ext cx="55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无论善人恶人普通人，总有一些人让我们感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无论好事丑事平常事，总有几件事让我们铭记。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51640" y="244332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基础知识的积累，生活的积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3920" y="330660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用心生活，用心体验和感悟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6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7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57160" y="692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PMingLiU"/>
              </a:rPr>
              <a:t>二、强调基础，突出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01880" y="26845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PMingLiU"/>
              </a:rPr>
              <a:t>三、强化阅读，坚持不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46920" y="3378240"/>
            <a:ext cx="4545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在整个语文学习中，阅读既是重点有是难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定要读之有法、练之有序。保底的做法，每周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少读两篇课外美文，体裁以记叙类、说明类、议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类为主，兼及其他。内容的涉及面尽量广一些。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周应不少于三次进行阅读训练，在保证量的基础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加强题型研究，在实践中总结解题心得和经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255040" y="145404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重视知识积累，注重培养联系生活实际和生活经验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运用所学的知识分析问题、解决问题的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66760" y="129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41520" y="90792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PMingLiU"/>
              </a:rPr>
              <a:t>四、养成良好的学习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12960" y="1846440"/>
            <a:ext cx="349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平时做阅读练习，一定要养成认真审题的好习惯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抓准题眼、抓住关键词句，再作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5840" y="3090960"/>
            <a:ext cx="45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书写也应重视，若平时书写潦草，则会在积累中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现错别字，在写作中丢掉书写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02200" y="4292640"/>
            <a:ext cx="499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俗话说“习惯成自然”，若平时不能养成良好的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和书写的习惯，考试时也就会出现一些不必要的丢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61360" y="54936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  <a:ea typeface="PMingLiU"/>
              </a:rPr>
              <a:t>五、一些具体做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19280" y="126828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认真对待每节课，记下笔记，课后回顾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21000" y="19162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充分利用早读课识记和背诵。养成大声诵读的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89800" y="2492280"/>
            <a:ext cx="26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3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坚持每天阅读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3—5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篇好文章。坚持写读书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305080" y="3214800"/>
            <a:ext cx="49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4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坚持每天练字，力争中考前练出一手漂亮的字。（每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第二节晚自习前十分钟为练字时间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95240" y="422280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5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端正写作态度，坚持写作训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95000" y="4799160"/>
            <a:ext cx="472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6.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从现在开始，必须用黑色钢笔或黑色铅字笔书写（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字笔笔尖不小于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0.5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。作业中禁止用涂改液。如有不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合要求的，一律重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87520" y="1125360"/>
            <a:ext cx="6342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辛苦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挥洒了汗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要的是丰硕的果实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奋进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抚平了伤痛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要的是美好的明天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  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精彩三年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经历了风雨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要的是璀璨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        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可以逃避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却不可以放弃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时间给了我们考验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梦想给了我们动力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纵然前方的路依旧凹凸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但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要一颗心不灭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一双脚不停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我们总会发现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成功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在阴霾之后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.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走过那一步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你会发现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PMingLiU"/>
                <a:ea typeface="PMingLiU"/>
              </a:rPr>
              <a:t>其实很简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00000" y="54936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333333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友谊</a:t>
            </a:r>
            <a:endParaRPr b="1" lang="en-US" sz="6000" spc="1" strike="noStrike">
              <a:ln w="44280">
                <a:solidFill>
                  <a:srgbClr val="ffffff"/>
                </a:solidFill>
                <a:miter/>
              </a:ln>
              <a:solidFill>
                <a:srgbClr val="333333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6" name=""/>
          <p:cNvSpPr/>
          <p:nvPr/>
        </p:nvSpPr>
        <p:spPr>
          <a:xfrm>
            <a:off x="3499200" y="198900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、珍惜同学情谊，团结互助，共创辉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76480" y="292428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二、正确处理早恋问题，把握人生美好时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2160" y="4005360"/>
            <a:ext cx="119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早恋是一朵带刺的玫瑰，我们常常被它的芬芳所吸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然而，一旦情不自禁地触摸，又常常被无情地刺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3080" y="124308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1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早恋的产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50280" y="2421000"/>
            <a:ext cx="509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早恋是青春期或青春期之前的少男少女所产生的过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恋爱的现象，一般 发生于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20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岁之前。这个时期，由于年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局限、涉世不深，缺乏必要的思考能 力，而更多的是跟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感觉走。感觉到异性的突出表现及特长，如学习好、长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好、有特长等，往往都会使他（她）们产生倾慕之情。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时如果把握不住 自已，便会走进情感误区，产生早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73080" y="33336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2.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正确处理早恋问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1480" y="907920"/>
            <a:ext cx="507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1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要清楚地认识到早恋的危害，用理智来战胜这不成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的感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3000" y="1844640"/>
            <a:ext cx="511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早恋最直接的危害是严重干扰学习。由于整日整夜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脑子想着自己喜欢的那个异性，因此， 会使你没心思去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习，也觉得学习没多大意思，上课注意力就难以集中。 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于没有认真听讲，因此，学习成绩就会越来越差。有人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事业的引力，爱情的驱力，歧视与压迫的反作用力，是人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的三大动力。因此，早恋处理得好，可以产生“合动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有关统计材料表明，那些在中学时代就耳鬓厮磨、如胶似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地恋着的，大都是学业荒废，爱情失败，甚至有的由“爱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深”变为“恨得深”。相反，那些把爱深深埋在心底一心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学的青少年，多数不仅事业有成，而且能够赢得爱神的青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因此，青少年要把眼光放得远一点，要用理智战胜自己的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情。毅力的真谛是战胜自己，你能战胜自己，便会摆脱早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85120" y="873000"/>
            <a:ext cx="127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2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要注意心理卫生，不看不适宜的报刊杂志、影视节目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把精力投入到学习中去，多看一些伟人的传记，培养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己的意志力树立远大的奋斗目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2960" y="2421000"/>
            <a:ext cx="509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有些青少年早恋或者单恋，喜欢夸大自己在对方心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中的地位， 认为对方的一言一行都与自己有关，甚至是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自己影响的。对方成绩下降，挨了老师批评， 以为这是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为自己的缘故，因此，替对方难过；对方近日精神不振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者瘦了，认为这是因为对方想念自己的缘故，因此，自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很感动。青少年的这种心理，其实是一种“自作多情”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青少年在这种对异性的想念和思念中，除了使学习下降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还能得到什么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952080" y="1316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3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要正确处理早恋和男女生正常交往的关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10480" y="2205000"/>
            <a:ext cx="4935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每一个步入青春期的少男少女， 随着生理的逐步成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会开始关注异性同学，并希望了解他们，与他们交往，这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一种正常的心理现象。青少年对异性的依恋并不是有些家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和老师所认为的那样，是一件丢人和见不得人的事。这与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德品质无多大关系。绝大多数青少年都“早恋” 或“单恋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过一个自己很喜欢的异性。关键是青少年如何正确处理早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和男女生正常交往的关系。不要过分地敏感，不要以为异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对你好一点就是爱上了，也不要动不动就向人家表达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961440" y="878040"/>
            <a:ext cx="119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4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多参加集体活动，分散独自喜欢一个异性的注意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不要与异性单独交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855800" y="2349360"/>
            <a:ext cx="527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通过参加有意义的集体活动，可以陶冶自己的情操，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立远大的理想， 并能获得同学们的帮助和友谊。同时，这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做，能分散你早恋的注意力，减轻你的烦恼。 也能使你头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冷静下来思考，淡化你对你喜欢的异性的强烈情感。现在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有早恋，也许不久就会早恋， 因此，应尽量避免同异性同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单独交往，因为受生理、心理因素的影响， 青少年“爱”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火焰，随时都会被异性点燃，到那时，你就是想让它熄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也都难以做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29800" y="1027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（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5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）设法摆脱早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72360" y="1886040"/>
            <a:ext cx="545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当有人向你表示爱意或求爱时，当你对异性萌生爱意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可采取如下方法：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3164040"/>
            <a:ext cx="49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①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转移法：把精力转移到学习上去，用探求知识的乐趣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取代不成熟的感情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②冷处理法：逐步疏远彼此的关系，以冷却灼热的恋情。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③搁置法：即中止恋情，使双方的心扉不向对方开启，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    </a:t>
            </a:r>
            <a:r>
              <a:rPr b="1" lang="zh-CN" sz="2400" spc="-1" strike="noStrike">
                <a:solidFill>
                  <a:srgbClr val="0033cc"/>
                </a:solidFill>
                <a:latin typeface="PMingLiU"/>
                <a:ea typeface="PMingLiU"/>
              </a:rPr>
              <a:t>保持着纯洁的、珍贵的友谊。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00000" y="549360"/>
            <a:ext cx="1524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44280">
                  <a:solidFill>
                    <a:srgbClr val="ffffff"/>
                  </a:solidFill>
                  <a:miter/>
                </a:ln>
                <a:solidFill>
                  <a:srgbClr val="333333">
                    <a:alpha val="77000"/>
                  </a:srgbClr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惜时</a:t>
            </a:r>
            <a:endParaRPr b="1" lang="en-US" sz="6000" spc="1" strike="noStrike">
              <a:ln w="44280">
                <a:solidFill>
                  <a:srgbClr val="ffffff"/>
                </a:solidFill>
                <a:miter/>
              </a:ln>
              <a:solidFill>
                <a:srgbClr val="333333">
                  <a:alpha val="77000"/>
                </a:srgbClr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4" name=""/>
          <p:cNvSpPr/>
          <p:nvPr/>
        </p:nvSpPr>
        <p:spPr>
          <a:xfrm>
            <a:off x="4078800" y="184464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一、充分利用课堂四十分钟，努力提高课堂效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25760" y="26370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二、有效利用课余时间，注重知识的反复与巩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45480" y="3429000"/>
            <a:ext cx="10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三、合理安排自习课时间，学会自主学习，养成良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学习习惯，培养学习能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640" y="4581360"/>
            <a:ext cx="24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四、不要忽略周末和假期对知识的温习，勤于思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       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  <a:ea typeface="PMingLiU"/>
              </a:rPr>
              <a:t>做到“温故而知新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5:26:34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9:24Z</dcterms:modified>
  <cp:revision>1</cp:revision>
  <dc:subject>主题班会课件(分28大类): http://shop62905894.taobao.com</dc:subject>
  <dc:title>主题班会课件(分28大类): http://shop62905894.taobao.com</dc:title>
</cp:coreProperties>
</file>