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596-6315-43B6-A3FF-EB43AEB0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A80B-D046-4C9A-88BF-662FD52A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813C8-209B-4DED-9E45-CEC98C21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9CDE4-F16C-4F60-8237-0B45469E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B11CC-2F6D-4570-B897-A3D986AD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C35AD1-F0D7-4B8E-B9AA-FAC43F4A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4206A-CA3B-4AF5-B46D-FB2F99B9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5ACA44-A84E-43F4-A38C-EC2BA163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AA0BF-654F-4078-A1D8-BCBEEFC6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EA308-C02C-4611-B535-BA79D15B8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ED13B-1B92-449D-9B3F-4446CCDA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31DB-90C4-4412-A867-F86A93FB3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253C-4216-4870-AE66-742A3094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A98F-8446-467E-8AA2-62009FCA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D256-67ED-4242-AFE2-601011F6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03CD-F516-4DE3-B385-92D1E7DC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1728-1A0C-45C1-9B1B-F271D040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921B-22AB-4C1C-A96C-59F94D23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239B-6F70-4551-9578-0C798F9B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60E9-007D-48AE-BF01-52F9C33C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453-09D5-4712-8416-20EAA3A4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2ECF-5D1C-48ED-8869-2772C2A3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30F6-62E0-4AA6-9019-742A7B58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96D5F-B334-434D-B4F6-D4F0281E7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86C5-3768-4E63-AACB-2842046C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FEDE-98A3-4A00-AD85-D59D7C30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387D5-0AC7-416E-86E5-3625F9D7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B4495-C720-4574-863D-2E4506C19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7D3AE-C911-4142-9AFC-48C24A2D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7A949-9D12-402C-B905-19DCEF7D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68CD5-83C3-4954-A37C-C33C5F27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7F73-A7E4-4661-AF5D-E93466FC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E9548-17F1-4CBB-B68F-64EEF2C5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532BD-713B-4E88-8AA0-FC9C8774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FA081-0D4C-4DB5-AEFE-35C61B6A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BFFDC-23D8-487B-81F2-4682E98E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CA73F-EA3D-42D7-BBD2-A6F4D820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45B2B-5396-48F4-B77C-4CF7D4A1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0C665-6596-473C-BD34-13692307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F73E7-9A1D-4AF9-A4BF-56E249CA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B92A7-F4D0-42F2-91F7-A0124F131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42FB4-B65C-49CE-8E33-E2876407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57BB-84BC-449B-9903-A6230F2D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3C067-5CA5-4952-A4E0-AA93564B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11E37-ECF4-41C9-9A2F-B55E4301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6B9EB-6921-4BC6-845F-5545E20C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EE4D0-8557-40A6-8AC8-0EE4C67C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BF8F7A-6F95-4EFC-ADA2-978B295A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ED17C-B0EC-4168-9A82-DD59A5FF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87A37-CAE6-477B-BC87-6E9E80A1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09B27-993D-4EFA-BC43-5829E3C1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1B66C-7FB1-4ADC-80B0-01B04512B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C8629E-9924-428C-BBBF-CB68EEB9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CF83-A1A4-4C5F-9617-B02BD3E2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ADD0E-6356-41A7-8840-91213789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12E74-7BAC-418F-93B4-EE84BC5E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16EE7-BE4B-46A7-A39D-CEC54CD9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35DCB7-C1A3-4FC6-A3A6-708E03BE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F2874-C117-4D9A-9A8B-DE656FFE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6129B8-BEE3-4E42-B1C4-278ABB3A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C5FFD-3B00-4FA6-B89E-607E0893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3BF51-70D6-4FD2-AEB0-97253123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DDD489-BF2F-4413-ADBF-776B282C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46664C-D22C-4690-9D20-D89DDFF7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7DA-E250-46BF-9BC9-E8FC3FBE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394414-849C-4702-BE32-F7577CD3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1AAB8-C8FD-4997-B9E7-56A02BA3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CFE9B-A52B-42A7-801C-21D42069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E9F19-85C6-4381-AB30-B0868235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904C1-CF7C-4971-A1D8-4BC738FA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94CA3-E650-4E31-B968-08D64CCF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BC4F1-8D6E-4600-96E3-4F9DDB5D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C0883-DD73-4119-B443-9A3787F7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03BA4-A8B0-4DEE-A45E-110B444D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1FBB0-3CA5-4C9E-9C18-F89099545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2E7-DBAB-47AE-9F55-E8E07A0C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F47D8-EABF-4A51-A916-78C630CE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10DD8-8D30-4251-A103-CD3D83FD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A245E-CEC3-41A9-A272-5BB2A8FB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2605F-4749-4881-8116-A1CCE52E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933DB-0BA7-4110-A8BC-BA3039EB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4CF6A-FD15-40FD-9132-5FAD6AB8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255D8-BBB6-445D-ACF4-E405602B5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29F5B-C49E-40B3-B0E4-FF3EC66B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C78BD-91EE-440D-B28F-6ADFF597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146E3-3C8F-41F4-B72F-B0DEC66D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E87-417C-4C39-ACAE-9EB4E3BA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52600-08BD-4278-AD9A-396ACDF9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DBF89-EB41-4372-8943-322F2F9F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C807D-B9F1-49D7-8C87-8394AB48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2459F-0094-4F19-B665-AF1533AAC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75B77-BDFC-4892-ADF1-5671B781A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E71C4-4CB4-47FF-B121-FF39C17A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346E9-9215-4EDC-A71C-D046735F4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0E745-3484-4923-8C5B-1BEBC747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91AEB-CE17-4547-B516-A0B07B4F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3B51D-4160-4339-B521-28E93F5E1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6C03-C970-4151-845D-3BEB92E6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1FCD2-9C2E-4B51-9199-111D5649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772BC-7A0D-49C4-AA7B-AE10F5F0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C4DBD0-A730-40FC-B38B-115112C5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47CD1-18C5-46F7-A358-1EA6B924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BF606-8EFE-4E0E-A656-A63D8ECCA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B919E-53FA-4A05-AF96-DA1429393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446CB-EFDE-48B1-BDDC-33B6D27B8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4879D8-5507-4140-AD00-34353C2C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6D98F-3404-49A3-B36E-05BCD1F6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CD4F82-1315-4E18-B179-DD46A3D03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4EC7-7B9E-46D0-9411-A8D9D8CF899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C04D6-E89F-40D6-BED1-BFFBCC7756DC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982B-3AA2-4A04-AAE4-3A2D8BCB1B7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2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96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98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0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6302-0C41-4FC9-8634-E3486391B7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53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57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59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26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DA85-3BF7-48F3-8306-5156056DBB7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1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DFD7-966B-4C6A-B810-4130E70761A0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6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07E1-FF69-49CB-AC58-12AF7796B36D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B8C5-D7DA-40A5-B336-EA23F7CE675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5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5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dt" idx="25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7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D209-43E7-4E3B-82BB-EAD52C39E4AE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3024360" cy="981000"/>
          </a:xfrm>
          <a:prstGeom prst="rect">
            <a:avLst/>
          </a:prstGeom>
          <a:solidFill>
            <a:srgbClr val="dfbfd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猜谜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341000"/>
            <a:ext cx="8604360" cy="3816360"/>
          </a:xfrm>
          <a:prstGeom prst="rect">
            <a:avLst/>
          </a:prstGeom>
          <a:solidFill>
            <a:srgbClr val="ccff99">
              <a:alpha val="41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1" lang="zh-CN" sz="4400" spc="-1" strike="noStrike">
                <a:solidFill>
                  <a:srgbClr val="0033cc"/>
                </a:solidFill>
                <a:latin typeface="华文新魏"/>
                <a:ea typeface="华文新魏"/>
              </a:rPr>
              <a:t>世界上哪样东西最长又是最短的，最快又是最慢的，最能分割又是最广大的，最不受重视又是最值得惋惜的；没有它，什么事情都做不成；它使一切渺小的东西归于消灭，使一切伟大的东西生命不绝。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132000" y="5300640"/>
            <a:ext cx="30481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猜二个字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9" dur="5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056720" cy="647640"/>
          </a:xfrm>
          <a:prstGeom prst="rect">
            <a:avLst/>
          </a:prstGeom>
          <a:solidFill>
            <a:srgbClr val="ccff99">
              <a:alpha val="3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00ff"/>
                </a:solidFill>
                <a:latin typeface="Arial"/>
                <a:ea typeface="华文新魏"/>
              </a:rPr>
              <a:t>小测试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95280" y="620280"/>
            <a:ext cx="874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要求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组派六位代表进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限时２分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赛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基础题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位同学做完一件事或一道题积１分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选作题部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完成基础题后才能选作，每做对一道题积２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6659640" y="5877000"/>
            <a:ext cx="216036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试题首页</a:t>
            </a:r>
            <a:endParaRPr b="1" lang="en-US" sz="6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</a:rPr>
              <a:t>表演</a:t>
            </a:r>
            <a:r>
              <a:rPr b="1" lang="en-US" sz="5400" spc="-1" strike="noStrike" u="sng">
                <a:solidFill>
                  <a:srgbClr val="0000ff"/>
                </a:solidFill>
                <a:uFillTx/>
                <a:latin typeface="Arial"/>
              </a:rPr>
              <a:t>《</a:t>
            </a:r>
            <a:r>
              <a:rPr b="1" lang="zh-CN" sz="5400" spc="-1" strike="noStrike" u="sng">
                <a:solidFill>
                  <a:srgbClr val="0000ff"/>
                </a:solidFill>
                <a:uFillTx/>
                <a:latin typeface="Arial"/>
              </a:rPr>
              <a:t>黎小桐的一天</a:t>
            </a:r>
            <a:r>
              <a:rPr b="1" lang="en-US" sz="5400" spc="-1" strike="noStrike" u="sng">
                <a:solidFill>
                  <a:srgbClr val="0000ff"/>
                </a:solidFill>
                <a:uFillTx/>
                <a:latin typeface="Arial"/>
              </a:rPr>
              <a:t>》</a:t>
            </a: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71640" y="2349360"/>
            <a:ext cx="748800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编剧：陈雅莹　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表演：吴思婷　张彩霞　陈惠麟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32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ahoma"/>
              </a:rPr>
              <a:t>浪费时间的事情统计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上课开小差、发呆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做题时在某道题上纠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做作业三心二意，说话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生活是做事拖拉、不听安排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课余，假日玩得太多，学习、运动却少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0" y="-177840"/>
            <a:ext cx="9396360" cy="703584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43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班主任的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250920" y="5013360"/>
            <a:ext cx="7993080" cy="15192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-360" y="1125000"/>
            <a:ext cx="8172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我们生活在有限的时间里，黑夜与白昼有规律地交替，哪一方也不会更多地占去另一方的时间．生命则被分为有限的几个阶段：少年、青年、中年、老年。每一个阶段都有只适于这个年龄段的特殊工作，就如同种庄稼，一旦错过了季节，一切劳作都将是白费工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55640" y="1125360"/>
            <a:ext cx="684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什么样的选择决定什么样的生活．今天的生活是由几年前我们的选择决定的，而今天我们的抉择将决定我们几年后的生活．请珍惜现在的一切，做时间的主人，为明天美好的生活做出正确的抉择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7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0" y="400536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99">
              <a:alpha val="3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小组节目选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15640" y="1916280"/>
            <a:ext cx="705636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二组：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满江红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策   划：陈品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表演者： 全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7812000" y="5445000"/>
            <a:ext cx="1096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1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2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3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4" dur="5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133512" fill="hold"/>
                                        <p:tgtEl>
                                          <p:spTgt spid="5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893080" cy="100836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做时间的主人主题班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95280" y="4005360"/>
            <a:ext cx="9144000" cy="916920"/>
          </a:xfrm>
          <a:prstGeom prst="rect">
            <a:avLst/>
          </a:prstGeom>
          <a:solidFill>
            <a:srgbClr val="efefa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感谢您的光临指导，再见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2"/>
          <a:stretch/>
        </p:blipFill>
        <p:spPr>
          <a:xfrm>
            <a:off x="7451640" y="55897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75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7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8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232452" fill="hold"/>
                                        <p:tgtEl>
                                          <p:spTgt spid="5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620120" cy="507708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华文新魏"/>
              </a:rPr>
              <a:t>做时间的主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899640" y="5157720"/>
            <a:ext cx="7304040" cy="982800"/>
          </a:xfrm>
          <a:prstGeom prst="rect">
            <a:avLst/>
          </a:prstGeom>
          <a:solidFill>
            <a:srgbClr val="dfbfdf">
              <a:alpha val="38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——</a:t>
            </a:r>
            <a:r>
              <a:rPr b="1" lang="zh-CN" sz="5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七</a:t>
            </a:r>
            <a:r>
              <a:rPr b="1" lang="en-US" sz="5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(2)</a:t>
            </a:r>
            <a:r>
              <a:rPr b="1" lang="zh-CN" sz="5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班主题班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8028000" y="5734080"/>
            <a:ext cx="90000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26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8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9" dur="5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1" dur="8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2" dur="8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3" dur="8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4" dur="8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hsl" dir="cw">
                                      <p:cBhvr>
                                        <p:cTn id="36" dur="8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8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8" dur="8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39" dur="80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32452" fill="hold"/>
                                        <p:tgtEl>
                                          <p:spTgt spid="5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55280" y="980640"/>
            <a:ext cx="3970440" cy="1143000"/>
          </a:xfrm>
          <a:prstGeom prst="rect">
            <a:avLst/>
          </a:prstGeom>
          <a:solidFill>
            <a:srgbClr val="ccff99">
              <a:alpha val="42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新魏"/>
              </a:rPr>
              <a:t>说一说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619280" y="2491920"/>
            <a:ext cx="63374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00ff"/>
                </a:solidFill>
                <a:latin typeface="Arial"/>
              </a:rPr>
              <a:t>关于时间的名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468360" y="4365720"/>
            <a:ext cx="785016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1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53" dur="5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7" dur="3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" dur="3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9" dur="3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0" dur="30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追溯历史</a:t>
            </a:r>
            <a:br>
              <a:rPr sz="6600"/>
            </a:br>
            <a:br>
              <a:rPr sz="4800"/>
            </a:br>
            <a:r>
              <a:rPr b="1" lang="zh-CN" sz="5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说一说古代计时工具及用法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  <a:ea typeface="华文新魏"/>
              </a:rPr>
              <a:t>。</a:t>
            </a: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5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说出古代计时工具的名字及用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4897440" cy="3907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250920" y="50846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日晷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guǐ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又称“日规”，是我国古代利用日影测得时刻的一种计时仪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076720" y="836640"/>
            <a:ext cx="37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在晷面的正反两面刻划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个大格，每个大格代表两个小时。当太阳光照在日晷上时，晷针的影子就会投向晷面，太阳由东向西移动，投向晷面的晷针影子也慢慢地由西向东移动。于是，移动着的晷针影子好像是现代钟表的指针，晷面则是钟表的表面，以此来显示时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678560" cy="60483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00360" y="549000"/>
            <a:ext cx="433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沙漏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8000" y="1483920"/>
            <a:ext cx="4356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沙漏又称“沙钟”，是我国古代一种计量时间的仪器。它是根据流沙从一个容器漏到另一个容器的数量来计量时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4076640"/>
            <a:ext cx="9144000" cy="27813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99">
              <a:alpha val="3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小组节目选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05636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组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聚萤读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策划：伍颖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故事改编：朱恩  伍颖濠　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演者：许舜铭 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19640" y="5013360"/>
            <a:ext cx="28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ff"/>
                </a:solidFill>
                <a:uFillTx/>
                <a:latin typeface="Arial"/>
              </a:rPr>
              <a:t>点击观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0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1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2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13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ffcc"/>
                </a:solidFill>
                <a:latin typeface="Arial"/>
                <a:ea typeface="华文新魏"/>
              </a:rPr>
              <a:t>小品表演</a:t>
            </a:r>
            <a:r>
              <a:rPr b="0" lang="en-US" sz="6000" spc="-1" strike="noStrike">
                <a:solidFill>
                  <a:srgbClr val="00ffcc"/>
                </a:solidFill>
                <a:latin typeface="Arial"/>
                <a:ea typeface="华文新魏"/>
              </a:rPr>
              <a:t>《</a:t>
            </a:r>
            <a:r>
              <a:rPr b="0" lang="zh-CN" sz="6000" spc="-1" strike="noStrike">
                <a:solidFill>
                  <a:srgbClr val="00ffcc"/>
                </a:solidFill>
                <a:latin typeface="Arial"/>
                <a:ea typeface="华文新魏"/>
              </a:rPr>
              <a:t>费时面馆</a:t>
            </a:r>
            <a:r>
              <a:rPr b="0" lang="en-US" sz="6000" spc="-1" strike="noStrike">
                <a:solidFill>
                  <a:srgbClr val="00ffcc"/>
                </a:solidFill>
                <a:latin typeface="Arial"/>
                <a:ea typeface="华文新魏"/>
              </a:rPr>
              <a:t>》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9640" y="227664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故事编剧：高楠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表       演：张坤  林亮雄　等   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9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1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42" dur="5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9144000" cy="29242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99">
              <a:alpha val="38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Arial"/>
                <a:ea typeface="华文新魏"/>
              </a:rPr>
              <a:t>小组节目选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15640" y="1916280"/>
            <a:ext cx="705636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三组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匆匆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策   划：彭朝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表演者：黄翘思  陈婷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7740720" y="5300640"/>
            <a:ext cx="11700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4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5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6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7" dur="5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59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285307" fill="hold"/>
                                        <p:tgtEl>
                                          <p:spTgt spid="5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9:19Z</dcterms:modified>
  <cp:revision>28</cp:revision>
  <dc:subject>主题班会课件(分28大类): http://shop62905894.taobao.com</dc:subject>
  <dc:title>主题班会课件(分28大类): http://shop62905894.taobao.com</dc:title>
</cp:coreProperties>
</file>