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7BD5-C6BB-4951-8C02-676B2460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848-FE1B-4C40-806A-22DA996C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412-0E6E-4963-8B4F-254E7D26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43BC-29FD-4910-8682-2F873A3B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E0AC-48AE-4C6E-81E9-F70D2F25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4EFB-A051-478B-8383-76651499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165A-0DD8-4E80-89A5-65B3E816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BEF2-B04B-4112-8E1B-3FE02AFF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0616-FAFE-4BEB-A598-E452A2F4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5333-9A90-4BD2-8A67-2651D0EA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F18D-D5E2-412E-BA9C-381A99B7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87ED-7460-4E10-B3BF-2C0826B4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F9A5-C3DB-45F8-9D02-12C6B1EB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7531-98EA-439B-805A-FE2A573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D3FA-2840-429D-8826-79531C45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1AC1-4098-4231-8CD3-86284931E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9490-1176-4832-9B31-C2CF478E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B64C-792B-45FF-AA03-382337DC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3F06-2CA1-4EAB-A31C-490E9541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340-20B9-4924-B27E-05778C65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3BEE-74A2-45E7-8AF0-9CD73848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D08F-910E-4B43-B103-E06F4B47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720-4D3D-405E-92A0-28E8970C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543-ECB4-4131-ACF7-ADA9DD8B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C7C7-00CB-4DC5-ADC9-EFB18566FCF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9873-8726-4EEE-9978-FCC868C9D5DA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124000" y="2205000"/>
            <a:ext cx="525636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人生最初的财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71640" y="8366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故事欣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晚上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于中午没有休息，第一节晚自习特别想睡。但又觉得睡觉太耽误时间了，勉强拿起化学作业本，看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还没有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题化学选择题。小明想，我做作业困，拿点杂志提提神，结果一发而不可收拾，看了一节课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。第二节课先做比较拿手的数学。数学开始还容易，可后面的那道题太难了，放弃吗？不行，不能遇难而退，我一定要把它给解决了。结果这一道题目耗了他半个多小时还没有解出来。这个时候他决定放弃。可一看表，只有几分钟了了，还有物理作业化学作业政治作业没有做，没有办法，只有抄后面的答案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"/>
          <p:cNvSpPr/>
          <p:nvPr/>
        </p:nvSpPr>
        <p:spPr>
          <a:xfrm>
            <a:off x="220500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6019920"/>
          <a:ext cx="914400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19920"/>
                    <a:ext cx="91440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350028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143000" y="457200"/>
          <a:ext cx="214308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457200"/>
                    <a:ext cx="2143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5791320" y="533520"/>
          <a:ext cx="2143080" cy="5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533520"/>
                    <a:ext cx="2143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0" y="41400"/>
          <a:ext cx="9144000" cy="65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1400"/>
                    <a:ext cx="914400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 txBox="1"/>
          <p:nvPr/>
        </p:nvSpPr>
        <p:spPr>
          <a:xfrm>
            <a:off x="5791320" y="0"/>
            <a:ext cx="25905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f66"/>
                </a:solidFill>
                <a:latin typeface="隶书"/>
              </a:rPr>
              <a:t>讨论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ef66"/>
              </a:solidFill>
              <a:latin typeface="隶书"/>
              <a:ea typeface="隶书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6" name=""/>
          <p:cNvGraphicFramePr/>
          <p:nvPr/>
        </p:nvGraphicFramePr>
        <p:xfrm>
          <a:off x="0" y="0"/>
          <a:ext cx="9144000" cy="655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5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50920" y="1052640"/>
            <a:ext cx="8893080" cy="40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b200"/>
                </a:solidFill>
                <a:uFillTx/>
                <a:latin typeface="Times New Roman"/>
                <a:ea typeface="黑体"/>
                <a:hlinkClick r:id="rId4" action="ppaction://hlinksldjump"/>
              </a:rPr>
              <a:t>陷阱一：做事不分轻重缓急，缺乏计划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陷阱二：以各种借口拖延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陷阱三：做事犹豫 不决，重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陷阱四：做事效率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2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时间管理策略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黑体"/>
              </a:rPr>
              <a:t>让时间表位你服务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方正姚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方正姚体"/>
              </a:rPr>
              <a:t>制定计划：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方正舒体"/>
              </a:rPr>
              <a:t>制定一个时间管理表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华文仿宋"/>
              </a:rPr>
              <a:t>这个表有三个部分组成，第一部分是要做的事情，然后就重要性进行排序，接着就是执行，执行好了以后做标记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"/>
          <p:cNvSpPr/>
          <p:nvPr/>
        </p:nvSpPr>
        <p:spPr>
          <a:xfrm>
            <a:off x="261936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4191120" y="1219320"/>
          <a:ext cx="390528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219320"/>
                    <a:ext cx="39052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" y="-4344840"/>
            <a:ext cx="9144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时间：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i="1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10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月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Times New Roman"/>
              </a:rPr>
              <a:t>21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今日时间管理表”参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38080" y="838080"/>
            <a:ext cx="7696080" cy="5639040"/>
            <a:chOff x="838080" y="838080"/>
            <a:chExt cx="7696080" cy="5639040"/>
          </a:xfrm>
        </p:grpSpPr>
        <p:grpSp>
          <p:nvGrpSpPr>
            <p:cNvPr id="237" name=""/>
            <p:cNvGrpSpPr/>
            <p:nvPr/>
          </p:nvGrpSpPr>
          <p:grpSpPr>
            <a:xfrm>
              <a:off x="843840" y="839880"/>
              <a:ext cx="7683120" cy="5635080"/>
              <a:chOff x="843840" y="839880"/>
              <a:chExt cx="7683120" cy="563508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843840" y="839880"/>
                <a:ext cx="1000440" cy="255960"/>
                <a:chOff x="843840" y="839880"/>
                <a:chExt cx="1000440" cy="2559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931680" y="839880"/>
                  <a:ext cx="82476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时间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43840" y="839880"/>
                  <a:ext cx="10004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1844640" y="839880"/>
                <a:ext cx="4155840" cy="255960"/>
                <a:chOff x="1844640" y="839880"/>
                <a:chExt cx="4155840" cy="25596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32840" y="83988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计划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844640" y="83988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001200" y="839880"/>
                <a:ext cx="1354680" cy="255960"/>
                <a:chOff x="6001200" y="839880"/>
                <a:chExt cx="1354680" cy="255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89040" y="83988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重要性排序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001200" y="83988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7356240" y="839880"/>
                <a:ext cx="1170720" cy="255960"/>
                <a:chOff x="7356240" y="839880"/>
                <a:chExt cx="1170720" cy="25596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444080" y="83988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完成情况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7356240" y="83988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843840" y="1095840"/>
                <a:ext cx="1000440" cy="1536840"/>
                <a:chOff x="843840" y="1095840"/>
                <a:chExt cx="1000440" cy="15368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931680" y="1095840"/>
                  <a:ext cx="824760" cy="15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早上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43840" y="1095840"/>
                  <a:ext cx="1000440" cy="15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1844640" y="1095840"/>
                <a:ext cx="4155840" cy="255960"/>
                <a:chOff x="1844640" y="1095840"/>
                <a:chExt cx="4155840" cy="2559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1932840" y="109584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预习语文第五课（第一节有课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844640" y="109584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001200" y="1095840"/>
                <a:ext cx="1354680" cy="255960"/>
                <a:chOff x="6001200" y="1095840"/>
                <a:chExt cx="1354680" cy="25596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089040" y="109584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001200" y="109584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356240" y="1095840"/>
                <a:ext cx="1170720" cy="255960"/>
                <a:chOff x="7356240" y="1095840"/>
                <a:chExt cx="1170720" cy="25596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444080" y="109584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356240" y="109584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1844640" y="1352160"/>
                <a:ext cx="4155840" cy="255960"/>
                <a:chOff x="1844640" y="1352160"/>
                <a:chExt cx="4155840" cy="2559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932840" y="135216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背昨天的单词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844640" y="135216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6001200" y="1352160"/>
                <a:ext cx="1354680" cy="255960"/>
                <a:chOff x="6001200" y="1352160"/>
                <a:chExt cx="1354680" cy="2559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6089040" y="135216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001200" y="135216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7356240" y="1352160"/>
                <a:ext cx="1170720" cy="255960"/>
                <a:chOff x="7356240" y="1352160"/>
                <a:chExt cx="1170720" cy="25596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7444080" y="135216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356240" y="135216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1844640" y="1608120"/>
                <a:ext cx="4155840" cy="255960"/>
                <a:chOff x="1844640" y="1608120"/>
                <a:chExt cx="4155840" cy="2559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932840" y="160812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背今天的单词（第三节有课，上新课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844640" y="160812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6001200" y="1608120"/>
                <a:ext cx="1354680" cy="255960"/>
                <a:chOff x="6001200" y="1608120"/>
                <a:chExt cx="1354680" cy="25596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6089040" y="160812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001200" y="160812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7356240" y="1608120"/>
                <a:ext cx="1170720" cy="255960"/>
                <a:chOff x="7356240" y="1608120"/>
                <a:chExt cx="1170720" cy="25596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7444080" y="160812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356240" y="160812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1844640" y="1864080"/>
                <a:ext cx="4155840" cy="255960"/>
                <a:chOff x="1844640" y="1864080"/>
                <a:chExt cx="4155840" cy="2559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1932840" y="186408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政治上一章概念（今天没有政治课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1844640" y="186408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6001200" y="1864080"/>
                <a:ext cx="1354680" cy="255960"/>
                <a:chOff x="6001200" y="1864080"/>
                <a:chExt cx="1354680" cy="25596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6089040" y="186408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001200" y="186408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7356240" y="1864080"/>
                <a:ext cx="1170720" cy="255960"/>
                <a:chOff x="7356240" y="1864080"/>
                <a:chExt cx="1170720" cy="25596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7444080" y="186408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7356240" y="186408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844640" y="2120400"/>
                <a:ext cx="4155840" cy="255960"/>
                <a:chOff x="1844640" y="2120400"/>
                <a:chExt cx="4155840" cy="25596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932840" y="212040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找到那件紫色衣服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844640" y="212040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6001200" y="2120400"/>
                <a:ext cx="1354680" cy="255960"/>
                <a:chOff x="6001200" y="2120400"/>
                <a:chExt cx="1354680" cy="25596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6089040" y="212040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001200" y="212040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7356240" y="2120400"/>
                <a:ext cx="1170720" cy="255960"/>
                <a:chOff x="7356240" y="2120400"/>
                <a:chExt cx="1170720" cy="25596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7444080" y="212040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7356240" y="212040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1844640" y="2376720"/>
                <a:ext cx="4155840" cy="255960"/>
                <a:chOff x="1844640" y="2376720"/>
                <a:chExt cx="4155840" cy="25596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932840" y="237672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844640" y="237672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6001200" y="2376720"/>
                <a:ext cx="1354680" cy="255960"/>
                <a:chOff x="6001200" y="2376720"/>
                <a:chExt cx="1354680" cy="2559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6089040" y="237672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001200" y="237672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7356240" y="2376720"/>
                <a:ext cx="1170720" cy="255960"/>
                <a:chOff x="7356240" y="2376720"/>
                <a:chExt cx="1170720" cy="2559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7444080" y="237672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356240" y="237672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843840" y="2632680"/>
                <a:ext cx="1000440" cy="1536840"/>
                <a:chOff x="843840" y="2632680"/>
                <a:chExt cx="1000440" cy="15368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931680" y="2632680"/>
                  <a:ext cx="824760" cy="15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中午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843840" y="2632680"/>
                  <a:ext cx="1000440" cy="1536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1844640" y="2632680"/>
                <a:ext cx="4155840" cy="255960"/>
                <a:chOff x="1844640" y="2632680"/>
                <a:chExt cx="4155840" cy="25596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1932840" y="263268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朋友心情不好，找她聊天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1844640" y="263268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001200" y="2632680"/>
                <a:ext cx="1354680" cy="255960"/>
                <a:chOff x="6001200" y="2632680"/>
                <a:chExt cx="1354680" cy="25596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089040" y="263268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01200" y="263268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7356240" y="2632680"/>
                <a:ext cx="1170720" cy="255960"/>
                <a:chOff x="7356240" y="2632680"/>
                <a:chExt cx="1170720" cy="25596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7444080" y="263268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356240" y="263268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1844640" y="2889000"/>
                <a:ext cx="4155840" cy="255960"/>
                <a:chOff x="1844640" y="2889000"/>
                <a:chExt cx="4155840" cy="25596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1932840" y="288900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洗衣服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1844640" y="288900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6001200" y="2889000"/>
                <a:ext cx="1354680" cy="255960"/>
                <a:chOff x="6001200" y="2889000"/>
                <a:chExt cx="1354680" cy="25596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6089040" y="288900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001200" y="288900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7356240" y="2889000"/>
                <a:ext cx="1170720" cy="255960"/>
                <a:chOff x="7356240" y="2889000"/>
                <a:chExt cx="1170720" cy="25596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7444080" y="288900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356240" y="288900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844640" y="3144960"/>
                <a:ext cx="4155840" cy="255960"/>
                <a:chOff x="1844640" y="3144960"/>
                <a:chExt cx="4155840" cy="25596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932840" y="314496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整理衣柜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844640" y="314496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001200" y="3144960"/>
                <a:ext cx="1354680" cy="255960"/>
                <a:chOff x="6001200" y="3144960"/>
                <a:chExt cx="1354680" cy="25596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6089040" y="314496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001200" y="314496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356240" y="3144960"/>
                <a:ext cx="1170720" cy="255960"/>
                <a:chOff x="7356240" y="3144960"/>
                <a:chExt cx="1170720" cy="25596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7444080" y="314496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356240" y="314496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1844640" y="3401280"/>
                <a:ext cx="4155840" cy="255960"/>
                <a:chOff x="1844640" y="3401280"/>
                <a:chExt cx="4155840" cy="2559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932840" y="340128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做物理作业选择题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844640" y="340128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6001200" y="3401280"/>
                <a:ext cx="1354680" cy="255960"/>
                <a:chOff x="6001200" y="3401280"/>
                <a:chExt cx="1354680" cy="25596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6089040" y="340128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01200" y="340128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7356240" y="3401280"/>
                <a:ext cx="1170720" cy="255960"/>
                <a:chOff x="7356240" y="3401280"/>
                <a:chExt cx="1170720" cy="25596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7444080" y="340128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356240" y="340128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844640" y="3657600"/>
                <a:ext cx="4155840" cy="255960"/>
                <a:chOff x="1844640" y="3657600"/>
                <a:chExt cx="4155840" cy="25596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932840" y="365760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超市买点牛奶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844640" y="365760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6001200" y="3657600"/>
                <a:ext cx="1354680" cy="255960"/>
                <a:chOff x="6001200" y="3657600"/>
                <a:chExt cx="1354680" cy="2559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6089040" y="365760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001200" y="365760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7356240" y="3657600"/>
                <a:ext cx="1170720" cy="255960"/>
                <a:chOff x="7356240" y="3657600"/>
                <a:chExt cx="1170720" cy="25596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7444080" y="365760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356240" y="365760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1844640" y="3913560"/>
                <a:ext cx="4155840" cy="255960"/>
                <a:chOff x="1844640" y="3913560"/>
                <a:chExt cx="4155840" cy="25596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932840" y="391356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844640" y="391356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001200" y="3913560"/>
                <a:ext cx="1354680" cy="255960"/>
                <a:chOff x="6001200" y="3913560"/>
                <a:chExt cx="1354680" cy="2559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089040" y="391356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6001200" y="391356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7356240" y="3913560"/>
                <a:ext cx="1170720" cy="255960"/>
                <a:chOff x="7356240" y="3913560"/>
                <a:chExt cx="1170720" cy="25596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7444080" y="391356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356240" y="391356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843840" y="4169520"/>
                <a:ext cx="1000440" cy="2305080"/>
                <a:chOff x="843840" y="4169520"/>
                <a:chExt cx="1000440" cy="230508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931680" y="4169520"/>
                  <a:ext cx="824760" cy="230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晚上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843840" y="4169520"/>
                  <a:ext cx="1000440" cy="2305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1844640" y="4169520"/>
                <a:ext cx="4155840" cy="255960"/>
                <a:chOff x="1844640" y="4169520"/>
                <a:chExt cx="4155840" cy="2559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1932840" y="416952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把例题和错题看一遍，明天数学要单元考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1844640" y="416952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001200" y="4169520"/>
                <a:ext cx="1354680" cy="255960"/>
                <a:chOff x="6001200" y="4169520"/>
                <a:chExt cx="1354680" cy="2559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089040" y="416952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6001200" y="416952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7356240" y="4169520"/>
                <a:ext cx="1170720" cy="255960"/>
                <a:chOff x="7356240" y="4169520"/>
                <a:chExt cx="1170720" cy="25596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444080" y="416952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356240" y="416952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844640" y="4425840"/>
                <a:ext cx="4155840" cy="255960"/>
                <a:chOff x="1844640" y="4425840"/>
                <a:chExt cx="4155840" cy="25596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1932840" y="442584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英语一份试卷，今天晚上交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1844640" y="442584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001200" y="4425840"/>
                <a:ext cx="1354680" cy="255960"/>
                <a:chOff x="6001200" y="4425840"/>
                <a:chExt cx="1354680" cy="2559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089040" y="442584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001200" y="442584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356240" y="4425840"/>
                <a:ext cx="1170720" cy="255960"/>
                <a:chOff x="7356240" y="4425840"/>
                <a:chExt cx="1170720" cy="25596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444080" y="442584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356240" y="442584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844640" y="4681800"/>
                <a:ext cx="4155840" cy="255960"/>
                <a:chOff x="1844640" y="4681800"/>
                <a:chExt cx="4155840" cy="25596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932840" y="468180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化学作业，有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</a:t>
                  </a: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题，明早交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844640" y="468180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001200" y="4681800"/>
                <a:ext cx="1354680" cy="255960"/>
                <a:chOff x="6001200" y="4681800"/>
                <a:chExt cx="1354680" cy="25596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089040" y="468180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001200" y="468180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356240" y="4681800"/>
                <a:ext cx="1170720" cy="255960"/>
                <a:chOff x="7356240" y="4681800"/>
                <a:chExt cx="1170720" cy="25596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444080" y="468180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356240" y="468180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844640" y="4938120"/>
                <a:ext cx="4155840" cy="255960"/>
                <a:chOff x="1844640" y="4938120"/>
                <a:chExt cx="4155840" cy="25596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932840" y="493812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政治单元练习后天交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844640" y="493812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001200" y="4938120"/>
                <a:ext cx="1354680" cy="255960"/>
                <a:chOff x="6001200" y="4938120"/>
                <a:chExt cx="1354680" cy="25596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089040" y="493812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001200" y="493812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356240" y="4938120"/>
                <a:ext cx="1170720" cy="255960"/>
                <a:chOff x="7356240" y="4938120"/>
                <a:chExt cx="1170720" cy="25596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444080" y="493812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356240" y="493812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844640" y="5194440"/>
                <a:ext cx="4155840" cy="255960"/>
                <a:chOff x="1844640" y="5194440"/>
                <a:chExt cx="4155840" cy="25596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932840" y="519444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物理作业明天早上交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844640" y="519444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001200" y="5194440"/>
                <a:ext cx="1354680" cy="255960"/>
                <a:chOff x="6001200" y="5194440"/>
                <a:chExt cx="1354680" cy="25596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089040" y="519444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001200" y="519444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356240" y="5194440"/>
                <a:ext cx="1170720" cy="255960"/>
                <a:chOff x="7356240" y="5194440"/>
                <a:chExt cx="1170720" cy="25596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444080" y="519444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356240" y="519444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1844640" y="5450400"/>
                <a:ext cx="4155840" cy="255960"/>
                <a:chOff x="1844640" y="5450400"/>
                <a:chExt cx="4155840" cy="255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932840" y="545040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地理作业今天晚上交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844640" y="545040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001200" y="5450400"/>
                <a:ext cx="1354680" cy="255960"/>
                <a:chOff x="6001200" y="5450400"/>
                <a:chExt cx="1354680" cy="25596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089040" y="545040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001200" y="545040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356240" y="5450400"/>
                <a:ext cx="1170720" cy="255960"/>
                <a:chOff x="7356240" y="5450400"/>
                <a:chExt cx="1170720" cy="2559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444080" y="545040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356240" y="545040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1844640" y="5706360"/>
                <a:ext cx="4155840" cy="255960"/>
                <a:chOff x="1844640" y="5706360"/>
                <a:chExt cx="4155840" cy="2559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1932840" y="570636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另朋友心情不好，需要我的开导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1844640" y="570636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6001200" y="5706360"/>
                <a:ext cx="1354680" cy="255960"/>
                <a:chOff x="6001200" y="5706360"/>
                <a:chExt cx="1354680" cy="2559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89040" y="570636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001200" y="570636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7356240" y="5706360"/>
                <a:ext cx="1170720" cy="255960"/>
                <a:chOff x="7356240" y="5706360"/>
                <a:chExt cx="1170720" cy="25596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7444080" y="570636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7356240" y="570636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844640" y="5962680"/>
                <a:ext cx="4155840" cy="255960"/>
                <a:chOff x="1844640" y="5962680"/>
                <a:chExt cx="4155840" cy="2559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932840" y="596268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上个星期的笔记需要重新整理一下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844640" y="596268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6001200" y="5962680"/>
                <a:ext cx="1354680" cy="255960"/>
                <a:chOff x="6001200" y="5962680"/>
                <a:chExt cx="1354680" cy="25596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6089040" y="596268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001200" y="596268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7356240" y="5962680"/>
                <a:ext cx="1170720" cy="255960"/>
                <a:chOff x="7356240" y="5962680"/>
                <a:chExt cx="1170720" cy="25596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7444080" y="596268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7356240" y="596268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844640" y="6219000"/>
                <a:ext cx="4155840" cy="255960"/>
                <a:chOff x="1844640" y="6219000"/>
                <a:chExt cx="4155840" cy="25596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932840" y="6219000"/>
                  <a:ext cx="397944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844640" y="6219000"/>
                  <a:ext cx="415584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6001200" y="6219000"/>
                <a:ext cx="1354680" cy="255960"/>
                <a:chOff x="6001200" y="6219000"/>
                <a:chExt cx="1354680" cy="25596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6089040" y="6219000"/>
                  <a:ext cx="117900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6001200" y="6219000"/>
                  <a:ext cx="135468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7356240" y="6219000"/>
                <a:ext cx="1170720" cy="255960"/>
                <a:chOff x="7356240" y="6219000"/>
                <a:chExt cx="1170720" cy="25596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7444080" y="6219000"/>
                  <a:ext cx="994320" cy="25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3716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7356240" y="6219000"/>
                  <a:ext cx="1170720" cy="255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8" name=""/>
            <p:cNvSpPr/>
            <p:nvPr/>
          </p:nvSpPr>
          <p:spPr>
            <a:xfrm>
              <a:off x="838080" y="838080"/>
              <a:ext cx="7696080" cy="5639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0" y="228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月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Times New Roman"/>
                <a:ea typeface="黑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日时间管理表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32720" y="6165720"/>
            <a:ext cx="4111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  <a:ea typeface="方正舒体"/>
              </a:rPr>
              <a:t>时间管理策略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b200"/>
                </a:solidFill>
                <a:uFillTx/>
                <a:latin typeface="宋体"/>
                <a:ea typeface="黑体"/>
                <a:hlinkClick r:id="rId1" action="ppaction://hlinksldjump"/>
              </a:rPr>
              <a:t>和时间赛跑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当日事当日完成，绝不拖延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做事要有明确的始、终时间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提高平时学习效率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  <a:ea typeface="黑体"/>
              </a:rPr>
              <a:t>善于利用零碎时间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"/>
          <p:cNvSpPr/>
          <p:nvPr/>
        </p:nvSpPr>
        <p:spPr>
          <a:xfrm>
            <a:off x="261936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4191120" y="1219320"/>
          <a:ext cx="3905280" cy="63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91120" y="1219320"/>
                    <a:ext cx="390528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和时间赛跑 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［台湾］林清玄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读小学的时候，我的外祖母过世了。那哀痛的日子，断断续续地持续了很久，爸妈也不知道如何安慰我。他们知道与其骗我说外祖母睡着了，还不如对我说实话：外祖母永远不会回来了。“什么是永远不会回来？”我问着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  <a:ea typeface="黑体"/>
              </a:rPr>
              <a:t>所有时间里的事物，都永远不会回来了。你的昨天过去，它就永远变成昨天，你不能再回到昨天。爸爸以前也和你一样小，现在也不能回到你这么小的童年了；有一天你会长大，你会像外祖母一样老；有一天你度过了你的时间，就永远不会回来了。”爸爸说…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0" y="549000"/>
            <a:ext cx="8820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一天我放学回家，看到太阳快落山了，就下决心说：“我要比太阳更快地回家。”我狂奔回去，站在庭院前喘气的时候，看到太阳还露着半边脸，我高兴地跳跃起来，那一天我跑赢了太阳。以后我就时常做那样的游戏，有时和太阳赛跑，有时和西北风比快，有时一个暑假才能做完的作业，我十天就做完了。那时我三年级，常常把哥哥五年级的作业拿来做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每一次比赛胜过时间，我就快乐得不知道怎么形容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果将来我有什么要教给孩子，我会告诉他：假若你一直和时间比赛，你就可以成功！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101080" y="5805360"/>
            <a:ext cx="71100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 </a:t>
            </a:r>
            <a:r>
              <a:rPr b="0" lang="zh-CN" sz="7200" spc="-1" strike="noStrike">
                <a:solidFill>
                  <a:srgbClr val="000000"/>
                </a:solidFill>
                <a:latin typeface="方正卡通简体"/>
                <a:ea typeface="方正卡通简体"/>
              </a:rPr>
              <a:t>今日歌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今日复今日，今日何其好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抓住今日有金日，丢了金日哪里找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人生百年几今日，莫让明日空烦恼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若说且看明日至，明日之事何时了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为君聊赋今日诗，今日更比昨日好。</a:t>
            </a:r>
            <a:r>
              <a:rPr b="0" lang="zh-CN" sz="2800" spc="-1" strike="noStrike">
                <a:solidFill>
                  <a:srgbClr val="ffffff"/>
                </a:solidFill>
                <a:latin typeface="方正卡通简体"/>
                <a:ea typeface="方正卡通简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05920" cy="9144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319560" y="24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1143000" y="838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文件:75.jpg  &lt;br&gt;  尺寸:480 × 640 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 rot="5400000">
            <a:off x="371520" y="847440"/>
            <a:ext cx="2000160" cy="167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隶书"/>
              </a:rPr>
              <a:t>作业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68" name=""/>
          <p:cNvSpPr/>
          <p:nvPr/>
        </p:nvSpPr>
        <p:spPr>
          <a:xfrm>
            <a:off x="3733920" y="167652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今日时间管理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15756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057400"/>
            <a:ext cx="73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做时间的主人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5772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95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52480" y="3429000"/>
          <a:ext cx="373392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3429000"/>
                    <a:ext cx="37339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286000" y="4419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343400" y="1676520"/>
            <a:ext cx="4419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</a:t>
            </a:r>
            <a:r>
              <a:rPr b="0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不能管理时间便什么都不能管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</a:t>
            </a:r>
            <a:r>
              <a:rPr b="0" lang="zh-CN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--</a:t>
            </a:r>
            <a:r>
              <a:rPr b="0" lang="zh-CN" sz="48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彼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德鲁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ShockwaveFlash1"/>
          <p:cNvGraphicFramePr/>
          <p:nvPr/>
        </p:nvGraphicFramePr>
        <p:xfrm>
          <a:off x="533520" y="1676520"/>
          <a:ext cx="236196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4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676520"/>
                    <a:ext cx="2361960" cy="4190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-11050200"/>
            <a:ext cx="146160" cy="132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800" spc="-1" strike="noStrike">
              <a:solidFill>
                <a:srgbClr val="000000"/>
              </a:solidFill>
              <a:latin typeface="华文细黑"/>
              <a:ea typeface="华文细黑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6720" y="2260080"/>
            <a:ext cx="7269480" cy="29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假设我们可以活到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岁，带有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0~8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刻度的纸条象征人的一生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找到你现在的年龄刻度，把走过的人生撕掉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通常人们在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岁退休，找到那个年龄刻度，把那之后的人生撕掉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想想你希望自己什么时候做到事业有成，找到那个年龄刻度，把那之后的人生也撕掉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活动中你感悟了什么？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/>
          <p:nvPr/>
        </p:nvSpPr>
        <p:spPr>
          <a:xfrm>
            <a:off x="193356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333360"/>
            <a:ext cx="3600360" cy="170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撕纸游戏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268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华文细黑"/>
                <a:ea typeface="华文细黑"/>
              </a:rPr>
              <a:t>活动规则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77724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个钟表代表过去的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黑体"/>
                <a:ea typeface="黑体"/>
                <a:hlinkClick r:id="rId3" action="ppaction://hlinksldjump"/>
              </a:rPr>
              <a:t>回忆过去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黑体"/>
                <a:ea typeface="黑体"/>
                <a:hlinkClick r:id="rId4" action="ppaction://hlinksldjump"/>
              </a:rPr>
              <a:t>24</a:t>
            </a:r>
            <a:r>
              <a:rPr b="0" lang="zh-CN" sz="3200" spc="-1" strike="noStrike" u="sng">
                <a:solidFill>
                  <a:srgbClr val="00b200"/>
                </a:solidFill>
                <a:uFillTx/>
                <a:latin typeface="黑体"/>
                <a:ea typeface="黑体"/>
                <a:hlinkClick r:id="rId5" action="ppaction://hlinksldjump"/>
              </a:rPr>
              <a:t>小时内自己所做的活动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估计各项活动的百分比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1" lang="zh-CN" sz="3200" spc="-1" strike="noStrike" u="sng">
                <a:solidFill>
                  <a:srgbClr val="00b200"/>
                </a:solidFill>
                <a:uFillTx/>
                <a:latin typeface="黑体"/>
                <a:ea typeface="黑体"/>
                <a:hlinkClick r:id="rId6" action="ppaction://hlinksldjump"/>
              </a:rPr>
              <a:t>根据百分比将上述活动时间馅饼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●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自己的时间馅饼打分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193356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38240" y="15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0" y="228600"/>
            <a:ext cx="5410080" cy="18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过去的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4</a:t>
            </a: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时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"/>
          <p:cNvGraphicFramePr/>
          <p:nvPr/>
        </p:nvGraphicFramePr>
        <p:xfrm>
          <a:off x="0" y="0"/>
          <a:ext cx="9058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58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2776680" y="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PMingLiU"/>
              </a:rPr>
              <a:t>统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睡觉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上课时间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自学时间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日常事务时间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聊天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吃饭时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不知道干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</a:rPr>
              <a:t>了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什么时间</a:t>
            </a: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PMingLi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MingLiU"/>
                <a:ea typeface="PMingLiU"/>
              </a:rPr>
              <a:t>娱乐时间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257800" y="533520"/>
            <a:ext cx="2933640" cy="2003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给自己的时间管理情况打分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10</a:t>
            </a: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分满分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332000" y="981000"/>
          <a:ext cx="6553080" cy="53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981000"/>
                    <a:ext cx="655308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 txBox="1"/>
          <p:nvPr/>
        </p:nvSpPr>
        <p:spPr>
          <a:xfrm>
            <a:off x="0" y="228600"/>
            <a:ext cx="5410080" cy="18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过去的</a:t>
            </a:r>
            <a:r>
              <a:rPr b="0" lang="en-US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24</a:t>
            </a:r>
            <a:r>
              <a:rPr b="0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时</a:t>
            </a:r>
            <a:endParaRPr b="0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86" name=""/>
          <p:cNvSpPr/>
          <p:nvPr/>
        </p:nvSpPr>
        <p:spPr>
          <a:xfrm>
            <a:off x="365760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52880" y="403848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434340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起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4876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洗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67080" y="4724280"/>
            <a:ext cx="3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叠被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382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62440" y="10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200400" y="3962520"/>
            <a:ext cx="1752480" cy="25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62520" y="556272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黑体"/>
              </a:rPr>
              <a:t>小明的时间管理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2280" y="1557360"/>
            <a:ext cx="8763120" cy="30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早上：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明是高一的同学。今天早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点半就醒了，想早点起来去教室看看书，可又很想睡觉，便打消了看书念头，继续睡。结果起床铃打过了都不知道，醒来看看表，只剩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就上早读了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匆匆跑到教室早读，他发现自己不知该先看什么书，拿起英语课本觉得应该先看语文。拿起语文课本觉得还是该先看英语。拿起又放下好几次以后终于决定用一种最简便的方法决定，那就是抛硬币。结果是先看语文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/>
          <p:nvPr/>
        </p:nvSpPr>
        <p:spPr>
          <a:xfrm>
            <a:off x="193824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0" y="6705720"/>
          <a:ext cx="9144000" cy="30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705720"/>
                    <a:ext cx="914400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277668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9564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195640" y="1197000"/>
          <a:ext cx="475272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5640" y="1197000"/>
                    <a:ext cx="47527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午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到寝室，想休息一下，可寝室的同学聊得热火朝天。他想，与其被别人吵不如我自己吵，于是加入到了讨论的行列。有个同学谈着谈着说自己要去教室抄单词，并问他去不去。（因为早上的单词默写太差而导致被罚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遍。他也有份。老师说第二天检查）他说，“我明天再抄好了，说不定明天老师忘记了我就不用抄了。不过昨天老师布置的作业下午上课前要交，我还没有开始做。看来无论如何自己得牺牲中午的休息时间了。”还好，中午时间比较多，不用那么急，两人边走边逛。结果一逛不打紧，原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的路自己硬是走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钟。写好作业，发觉今天下午要上物理课，而自己的课本居然没有带。要赶紧回去拿，不然下午要出问题。匆匆忙忙赶回来后发现好象自己头发还没有打理。这太影响形象了，一定要回去收拾一下。又匆忙跑回宿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3324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304920"/>
          <a:ext cx="411480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4114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3324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5105520" y="304920"/>
          <a:ext cx="4038480" cy="4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920"/>
                    <a:ext cx="40384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5:12:58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9:04Z</dcterms:modified>
  <cp:revision>1</cp:revision>
  <dc:subject>主题班会课件(分28大类): http://shop62905894.taobao.com</dc:subject>
  <dc:title>主题班会课件(分28大类): http://shop62905894.taobao.com</dc:title>
</cp:coreProperties>
</file>