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1720-83C4-4D89-A957-80E5C4EFDF0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一个时间管理的小故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吴教授在给即将毕业的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MBA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班的学生上最后一次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令学生们不解的是，讲桌上放着一个大铁桶，旁边还有一堆拳头大小的石块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能教给你们的都教了，今天我们只做一个小小的测验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教授把石块一一放进铁桶里。当铁桶里再也装不下一块石头时，教授停下了来。教授问：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铁桶里是不是再也装不下什么东西了？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是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们回答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真的吗？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授问。随后，他不紧不慢地从桌子底下拿出了一小桶碎石。他抓起一把碎石，放在已装满石块的铁桶表面，然后慢慢摇晃，然后又抓起一把碎石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不一会儿，这一小桶碎石全装进了铁桶里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铁桶里是不是再也装不下什么东西了？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授又问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……可以吧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了上一次的经验，学生们变得谨慎了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没错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授一边说，一边从桌子底下拿出一小桶细沙，倒在铁桶的表面。教授慢慢摇晃铁桶。大约半分钟后，铁桶的表面就看不到细沙了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现在铁桶装满了吗？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……没有。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学生们虽然这样回答，但心里其实没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没错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教授看起来很兴奋。这一次，他从桌子底下拿出的是一罐水。他慢慢地把水往铁桶里倒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　　水罐里的水倒完了，教授抬起头来，微笑着问：“这个小实验说明了什么？”一个学生马上站起来说：“它说明，你的日程表排得再满，你都能挤出时间做更多的事。”“有点道理。但你还是没有说到点子上。”教授顿了顿，说：“它告诉我们：如果你不是首先把石块装进铁桶里，那么你就再也没有机会把石块装进铁桶里了，因为铁桶里早已装满了碎石、沙子和水。而当你先把石块装进去，铁桶里会有很多你意想不到的空间来装剩下的东西。在以后的职业生涯中，你们必须分清楚什么是石块，什么是碎石、沙子和水，并且总是把石块放在第一位。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0621-EAC5-42E2-93B6-15E5BAA8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A44F-3367-47F7-80B3-A8A53661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AF7-FDCF-41E7-B262-41A5C9EFB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7568-C4D3-4EE5-ADAE-55F5B75C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046F9-995E-4AE5-BA55-614492C2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EF59-ED08-4ED0-9DF9-786224C5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1BAE-7BB5-4664-B895-210E64B2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2FA6-471A-4FD4-A186-588AFC5C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3282-B3F7-44E6-9E75-D7967D2C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FB96-CE43-4175-A6EE-EC4806A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9521-597C-4767-BCEC-C278638E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4B9-6C19-46AC-8E10-A9533DC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20A47-934C-42C9-B12A-C933777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7201-80D1-4921-AAE4-35F1140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4DE8-7C3C-43DD-B7B8-61B27F8D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FB53-F2F4-4E16-A303-BD0650A8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F40A-022E-414B-A012-893A0FCF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75FCA-B82A-4C89-ADE7-61392CF2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B0129-BE37-4329-A93F-84A291B2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FF74D-3E1F-4068-ACBA-743F9ED6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24B6-9C8F-4B19-966B-D0D5F155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10887-94AC-4ECB-8470-F0643B3D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2563-FC58-4464-89D4-05BDE241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89CAB-C1D6-481D-AE0D-D620E6E8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171B7-9FED-46C1-8AF7-2C3ED026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3942B-EB48-4949-B940-381FE045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B6407-470F-4773-8DED-A95AECF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2C664-B869-4B13-A106-A954B27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CF050-E041-47F8-86E4-498DFFB03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DA0AF-03F2-43B4-A6B8-5AC2D4B91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914-67A0-444B-905D-917EADF4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F7C-1C42-4FE7-B68E-F8FB86B9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F79E-D257-480F-9813-316728EC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ACA8-8D6C-4249-99D0-438CEFD4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17D-8B52-4CF6-BFB1-FA45AD04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B475-E3A3-483D-84AC-662FE169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B807B-DB0A-48A1-8D32-2310EC59B9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F38F-4B6D-45C7-8970-36F603147F1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7C41-D131-4D4C-8467-F418C42CCC25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23398;&#20064;&#26085;&#24535;.do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523880" y="2133720"/>
            <a:ext cx="609624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时间的主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635800" y="2308320"/>
            <a:ext cx="3508200" cy="45496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Comic Sans MS"/>
                <a:ea typeface="华文行楷"/>
              </a:rPr>
              <a:t>鲁迅先生说过：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时间就像海绵里的水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只要愿挤，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总还是有的</a:t>
            </a:r>
            <a:r>
              <a:rPr b="0" lang="zh-CN" sz="5400" spc="-1" strike="noStrike">
                <a:solidFill>
                  <a:srgbClr val="000000"/>
                </a:solidFill>
                <a:latin typeface="Comic Sans MS"/>
                <a:ea typeface="华文行楷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我们现在的生活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2890800"/>
          <a:ext cx="7242120" cy="3778200"/>
        </p:xfrm>
        <a:graphic>
          <a:graphicData uri="http://schemas.openxmlformats.org/drawingml/2006/table">
            <a:tbl>
              <a:tblPr/>
              <a:tblGrid>
                <a:gridCol w="1744200"/>
                <a:gridCol w="1289160"/>
                <a:gridCol w="216000"/>
                <a:gridCol w="2018160"/>
                <a:gridCol w="1974600"/>
              </a:tblGrid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0-6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起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2:00-13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午间休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00-6: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7:10-19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作业</a:t>
                      </a: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补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20-7: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上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9:30-21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作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7:05-7: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早自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1:30-22: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作业</a:t>
                      </a: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/</a:t>
                      </a:r>
                      <a:r>
                        <a:rPr b="1" lang="zh-CN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复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3352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一个有良好习惯的，才能够把生活、工作、学习安排得井井有条的人，才有可能成为成功人士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62320" y="1371600"/>
            <a:ext cx="45720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800080"/>
                </a:solidFill>
                <a:latin typeface="宋体"/>
              </a:rPr>
              <a:t>My Former Boss</a:t>
            </a:r>
            <a:endParaRPr b="1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8720" y="136008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omic Sans MS"/>
                <a:ea typeface="华文行楷"/>
              </a:rPr>
              <a:t>我们每天的事情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95280" y="2057400"/>
            <a:ext cx="5791320" cy="4191120"/>
            <a:chOff x="1295280" y="2057400"/>
            <a:chExt cx="5791320" cy="4191120"/>
          </a:xfrm>
        </p:grpSpPr>
        <p:sp>
          <p:nvSpPr>
            <p:cNvPr id="210" name=""/>
            <p:cNvSpPr/>
            <p:nvPr/>
          </p:nvSpPr>
          <p:spPr>
            <a:xfrm flipV="1">
              <a:off x="4114800" y="2057400"/>
              <a:ext cx="0" cy="4191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95280" y="4191120"/>
              <a:ext cx="579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572000" y="2895480"/>
            <a:ext cx="190512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紧急且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289548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紧急不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45720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紧急不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4572000"/>
            <a:ext cx="1905120" cy="91440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不紧急但重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8720" y="136008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0066"/>
                </a:solidFill>
                <a:latin typeface="Comic Sans MS"/>
                <a:ea typeface="华文行楷"/>
              </a:rPr>
              <a:t>我们每天的事情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85800" y="2057040"/>
            <a:ext cx="7543440" cy="4571640"/>
            <a:chOff x="685800" y="2057040"/>
            <a:chExt cx="7543440" cy="4571640"/>
          </a:xfrm>
        </p:grpSpPr>
        <p:sp>
          <p:nvSpPr>
            <p:cNvPr id="219" name=""/>
            <p:cNvSpPr/>
            <p:nvPr/>
          </p:nvSpPr>
          <p:spPr>
            <a:xfrm flipV="1">
              <a:off x="4358160" y="2057040"/>
              <a:ext cx="0" cy="45716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" y="4384800"/>
              <a:ext cx="754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4572000" y="2895480"/>
            <a:ext cx="3429000" cy="10670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第二天要交的回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作业（口头和笔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2895480"/>
            <a:ext cx="3353040" cy="106704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马上要把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xx</a:t>
            </a: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送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老师办公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4572000"/>
            <a:ext cx="3276720" cy="99072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看喜欢的电视剧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上网聊天、游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5720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复习中考英语词汇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华文新魏"/>
              </a:rPr>
              <a:t>周作业、学习日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2590920" y="2209680"/>
            <a:ext cx="41907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楷体_GB2312"/>
              </a:rPr>
              <a:t>学习日志</a:t>
            </a:r>
            <a:endParaRPr b="1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4267080"/>
            <a:ext cx="259056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912960" y="2438280"/>
            <a:ext cx="8231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规划自己每一天的学习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“自我监督”帮助你及时发现自己的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问题，不断提高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8287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66"/>
                </a:solidFill>
                <a:latin typeface="Comic Sans MS"/>
                <a:ea typeface="楷体_GB2312"/>
              </a:rPr>
              <a:t>学习日志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940360" y="4724280"/>
            <a:ext cx="1785960" cy="1127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600200"/>
            <a:ext cx="7543800" cy="1752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660066"/>
                </a:solidFill>
                <a:latin typeface="Comic Sans MS"/>
                <a:ea typeface="华文新魏"/>
              </a:rPr>
              <a:t>上交时间：</a:t>
            </a:r>
            <a:endParaRPr b="0" lang="en-US" sz="7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66"/>
                </a:solidFill>
                <a:latin typeface="Comic Sans MS"/>
                <a:ea typeface="华文新魏"/>
              </a:rPr>
              <a:t>下周四第二节课之前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5:08:5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59Z</dcterms:modified>
  <cp:revision>1</cp:revision>
  <dc:subject>主题班会课件(分28大类): http://shop62905894.taobao.com</dc:subject>
  <dc:title>主题班会课件(分28大类): http://shop62905894.taobao.com</dc:title>
</cp:coreProperties>
</file>