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D7B-AC51-4FD3-B7C7-16CA8BDE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50C0-F7C0-4AA2-83B5-04F313E7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386-1500-4B91-9DBA-99F51E22E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BE18-6122-4C70-A32E-B14F7D9CB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D4E0-551F-4C10-A8F0-1F8D64125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76C2-463C-4218-B5E8-1F64F070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754-4A55-42E9-8D62-A73FBA84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ED1-1586-4272-9920-C3E52477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4E2A-D8E4-44E7-B0FD-69A7BFA0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EB6F-DB64-4398-85C3-EF2659CE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E64-2E29-4402-A67A-84E20E29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D98-CD29-4BD6-B79D-4FBEB2A50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027E-6610-4262-8651-9E1000D9C5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267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63640" y="1773360"/>
            <a:ext cx="5977080" cy="183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做时间的主人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四、遇事马上做，现在就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养成遇事马上做 、现在就做的习惯，不仅克服了拖延，而且能占“笨鸟先飞”的先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久而久之，必然培育出当机立断的大智大勇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五、第一次做好，次次做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要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00%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认真地学习，第一次没做好，同时也就浪费了没做好事情的时间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六、专心致志，不要有头无尾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七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珍惜今天，当日事当日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ff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制定每日的学习时间进度表。每天都有目标，有结果，日清日新。今日不清，必然累积，累积就会拖延，拖延必堕落、颓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八、养成整洁和调理的习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要用最好的时间来做最重要的事情，而用零碎的时间来做不重要的事情，这样才能体现真正的品质和高效，保持能量，节省体力，节约时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九、养成快速的的节奏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养成快速的节奏，不仅提高效率节约时间，给人以良好的作风印象，而且也是健康的表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十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、设定完成期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有期限才有紧迫感，也才能珍惜时间。设定期限，是时间管理的重要标志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十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十一、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善用零碎时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善用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零碎时间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，短期内也许没有什么明显的感觉，但成年累月将会有惊人的成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十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十二、分秒不浪费，成功日计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用日记来记录当天的重要事情和成长学习心得，用日记来总结经验，用日记来规划明天、明确目标，用日记来管理时间、集中精力抓住大事……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记日记就是在善用生命，设计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十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十三、善用节省时间的工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现代便捷的通讯、交通等工具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请你回答下列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分钟可以做多少事情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(What Can you do in a minute 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你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天内浪费了多少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分钟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十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大家自己说一条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间不可预测、无从草稿、难以回放、无法修改、不能重来、永世难逢、全是一次性的。这一年永远不是那一年，这一月永远见不着下一月，这一周永远都是唯一的一周，这一天永远都是唯一的一天，这一个早晨过去了永远不会再有这一个早晨，就连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每一刻、每一分、每一秒其实都凝聚着某种永恒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弯腰捡起一片躺在地上静静睡着的树叶，轻轻捧在手上仔细端详，仿佛手里捏着一段遥远的岁月，不，那是一段稍纵即逝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3068280"/>
            <a:ext cx="829152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朱自清曾经说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你洗手的时候，时间从你指间溜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你吃饭的时候，时间从你的碗边溜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聪明的你，快快珍惜时间，我们一同做和时间赛跑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26920" y="620640"/>
            <a:ext cx="78454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努力做到珍惜时间，学会合理使用时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一年即将过去，新年就将到来，在你抓紧复习迎考的同时，规划好你的明天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333360"/>
            <a:ext cx="8244000" cy="137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你学会了吗？赶快实行吧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26920" y="1700280"/>
            <a:ext cx="7148520" cy="24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现在你知道时间的珍贵了吧？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765000"/>
            <a:ext cx="91440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我们不能买来时间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但是我们可以更好的运用时间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请你说说你是怎样合理的运用时间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539640" y="2492280"/>
            <a:ext cx="7772400" cy="205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下面我们看一下时间管理的十四大法则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一、明确目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目标能最大限度地聚集你的资源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包括时间。因此，只有目标明确才能最大限度地节约时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二、分清轻重缓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始终做最重要的事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时间管理的精髓即在于分清轻重缓急，设定优先顺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时间管理十四大法则之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三、制定计划，写成清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相信笔记，不相信记忆。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养成“凡事预则立”的习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要只定进度表，要列学习表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比较大或长期的任务要拆散成几个小事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09:09:13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8:20Z</dcterms:modified>
  <cp:revision>65</cp:revision>
  <dc:subject>主题班会课件(分28大类): http://shop62905894.taobao.com</dc:subject>
  <dc:title>主题班会课件(分28大类): http://shop62905894.taobao.com</dc:title>
</cp:coreProperties>
</file>