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F10E-495C-4F20-9555-75CE72BF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4470-BD9C-4CDA-A769-5BFE8086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CEE-AF46-47D4-BC2F-BEAB160C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0822-287C-4FA8-B256-31D926C2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4EDF-86DF-4139-A9CD-C7A426D3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2EBE-13A4-4C88-94CB-CC038068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A5A9-7577-4771-A191-EC44E0E9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65335-E571-4D9C-867C-D948CBD0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31BD-B78A-49BE-9EBF-523B88EB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0352-FCCB-485E-922B-19861C81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1AC8-4C0D-434C-9D1D-A610B316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F65-9D5F-418C-BCEF-CFD14175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9954-D18B-45BE-81BD-BEA738E5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7651C-FB7B-495D-9331-E3D8B27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EA0D-F3BA-4ACC-A6B3-4339A755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17E6-0CC4-48ED-AAA0-DC9FD3B42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F739-B6D0-4F22-9303-414093B5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63DC-70F5-426B-B04E-5175122E5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D02E-67C1-464D-8D40-AABD68BBD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B6A-942B-40E3-B747-8211D8E3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2A1-116C-43EF-9F10-B2B8E6C2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8A0-467E-441C-9DF7-5520770B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38E-39CD-4282-8894-B57D899F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30F8-C2F9-4985-96B8-927EB8C4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7035-0282-4E3B-A4AB-32DD3D3721B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9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ED0D-8BF4-477F-9D5B-1BE1701893E4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0" y="1484280"/>
            <a:ext cx="9144000" cy="424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珍惜现在，珍惜拥有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1600" y="4365720"/>
            <a:ext cx="6947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茫无目标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想学习时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··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830920" cy="4379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420280" y="351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上网少年“饿死”不回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-92160" y="944640"/>
            <a:ext cx="923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年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小明（化名）独自在网吧待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宿，没有饭吃就饿着，困了就歪在椅子上打个盹，他却不知道焦急的父母为了找到他已经哭肿了眼睛。庆幸的是小明在众人的帮忙下被找到了，但令人担忧的是小明还是对上网执迷不悟，一家人使尽了浑身的解数，还是唤不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上初二时，父母发觉小明变了，回家很晚，问他做什么他也不说，成绩也明显下滑。后来小明的父母才知道自己的儿子迷恋上网，并谈起了恋爱。两个人苦口婆心地劝了又劝，逆反的火焰在燃烧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不但不听，反而上网的次数越来越频繁，功课都荒废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3840" y="1341360"/>
            <a:ext cx="905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见到父母时，小明也哭了，毕竟他还小。可这孩子嘴很硬，当父母劝他回家时，他还倔强地说：“我不和你们说，我们没有共同语言。”父母问他没饭吃为什么不回家时，小明还嘴硬着说“饿死拉倒”。无论怎么劝说，小明还是不愿意回家。后来结交了一帮＂朋友＂，走上了犯罪道路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20704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623240" y="477360"/>
            <a:ext cx="78984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隶书"/>
              </a:rPr>
              <a:t>在公共场所的中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43280" y="0"/>
            <a:ext cx="53290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91240" y="559800"/>
            <a:ext cx="789840" cy="63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隶书"/>
              </a:rPr>
              <a:t>他们还是中学生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5120" y="496800"/>
            <a:ext cx="6858000" cy="5904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13440" y="157284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隶书"/>
              </a:rPr>
              <a:t>他们的行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419640" y="216000"/>
            <a:ext cx="4437000" cy="645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38720" y="765000"/>
            <a:ext cx="1277640" cy="59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四川一女生早恋被奶奶看见    怕奶奶告密她，杀死奶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5760" y="1052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华文彩云"/>
              </a:rPr>
              <a:t>早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4840" y="4743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  <a:ea typeface="华文彩云"/>
              </a:rPr>
              <a:t>犯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6000" y="1719360"/>
            <a:ext cx="71640" cy="3095640"/>
          </a:xfrm>
          <a:prstGeom prst="line">
            <a:avLst/>
          </a:prstGeom>
          <a:ln w="76320">
            <a:solidFill>
              <a:srgbClr val="99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867280" y="981000"/>
            <a:ext cx="3276720" cy="32050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867280" cy="4237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78960" y="386064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  <a:ea typeface="隶书"/>
              </a:rPr>
              <a:t>行动计划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3840" y="4797360"/>
            <a:ext cx="898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目前你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状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言，根据自己学习潜能、学习成绩、努力程度等实际情况，制定自己的行动计划，主要是明确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将要在哪些方面采取什么样的措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79280" y="1916280"/>
            <a:ext cx="8640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再见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ShockwaveFlash1"/>
          <p:cNvGraphicFramePr/>
          <p:nvPr/>
        </p:nvGraphicFramePr>
        <p:xfrm>
          <a:off x="466560" y="260280"/>
          <a:ext cx="82090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260280"/>
                    <a:ext cx="8209080" cy="59054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500360" cy="38862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219640" y="1054080"/>
            <a:ext cx="3522600" cy="2814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684360" y="4076640"/>
            <a:ext cx="7632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想到什么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55640" y="5589720"/>
            <a:ext cx="7561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你想说些什么？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851280" y="0"/>
            <a:ext cx="5292720" cy="4229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1413000"/>
            <a:ext cx="3492360" cy="2793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0" y="4724280"/>
            <a:ext cx="914400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片中他们的梦可能是什么？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24360" y="3924360"/>
            <a:ext cx="4319640" cy="2960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516720" cy="425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47880" y="494172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行楷"/>
              </a:rPr>
              <a:t>知识改变命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476360" y="26028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根稻草  两种命运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476360" y="26028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一根稻草  两种命运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111" name=""/>
          <p:cNvSpPr/>
          <p:nvPr/>
        </p:nvSpPr>
        <p:spPr>
          <a:xfrm>
            <a:off x="108000" y="134136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一年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肖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年级，妹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肖燕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年级。要开学了，两个土家族小姑娘却在妈妈手里攥着的两根稻草前呆住了——“家里只供得起你们中的一个上学，这两根草一长一短，抽到长的去上学，短的留在家里做事……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8000" y="400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果，妹妹抓了长的去上学，并经过勤苦学习，进入吉首大学。而成绩一向优异的姐姐肖琴只能辍学回家，从此放牛打草，当农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041880" y="4181400"/>
            <a:ext cx="2651400" cy="1839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80320" y="433404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d9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37520" y="562932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222760" y="5477040"/>
            <a:ext cx="5464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肖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97960" y="4181400"/>
            <a:ext cx="729360" cy="459720"/>
          </a:xfrm>
          <a:prstGeom prst="rect">
            <a:avLst/>
          </a:prstGeom>
          <a:solidFill>
            <a:srgbClr val="d9d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肖燕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476360" y="260280"/>
            <a:ext cx="58672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张艺谋命运的改变</a:t>
            </a:r>
            <a:endParaRPr b="1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7272360" cy="545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3989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73760" y="1477800"/>
            <a:ext cx="3162240" cy="25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9280" y="4309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Comic Sans MS"/>
                <a:ea typeface="隶书"/>
              </a:rPr>
              <a:t>     </a:t>
            </a:r>
            <a:r>
              <a:rPr b="1" lang="zh-CN" sz="4800" spc="-1" strike="noStrike">
                <a:solidFill>
                  <a:srgbClr val="0000cc"/>
                </a:solidFill>
                <a:latin typeface="Comic Sans MS"/>
                <a:ea typeface="隶书"/>
              </a:rPr>
              <a:t>就目前你的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隶书"/>
              </a:rPr>
              <a:t>学习状态</a:t>
            </a:r>
            <a:r>
              <a:rPr b="1" lang="zh-CN" sz="4800" spc="-1" strike="noStrike">
                <a:solidFill>
                  <a:srgbClr val="0000cc"/>
                </a:solidFill>
                <a:latin typeface="Comic Sans MS"/>
                <a:ea typeface="隶书"/>
              </a:rPr>
              <a:t>而言，你觉得当务之急应做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2:03:14Z</dcterms:created>
  <dc:creator>书利华教育网 www.ShuLiHua.Net</dc:creator>
  <dc:description/>
  <dc:language>en-US</dc:language>
  <cp:lastModifiedBy>User</cp:lastModifiedBy>
  <dcterms:modified xsi:type="dcterms:W3CDTF">2013-04-13T11:39:33Z</dcterms:modified>
  <cp:revision>34</cp:revision>
  <dc:subject/>
  <dc:title>书利华教育网 www.ShuLiHua.Net</dc:title>
</cp:coreProperties>
</file>