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E61-365A-4609-B781-1595DF0C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A04-F160-4992-B5CE-8C353E19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3FAD-2F9A-4248-A4B1-82CA78158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9CD5-C6E0-4D04-A2E8-DA3A1D437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A08-6D34-44D3-9F02-3BCA07CE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A641-B875-4567-BE1A-32491D5D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883F-AEC5-4A0D-AF92-993D7FC5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E09-7FDF-4EA7-B328-E160E561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C69-5764-4839-BDBF-F936E146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BBCD-06A2-4130-A758-82EB8436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82D2-7F4D-4F20-9BD7-9BAC873F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C33E-4349-4F34-9D6C-261D9D39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E62B-7FD3-499C-A535-26A0932F76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file:///../Local%20Settings/Temp/Rar$DI00.922/&#22218;&#33828;&#26144;&#38634;.flv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ekg.com/print/5288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33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珍惜时间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做管理时间的能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610320" y="4849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924680" y="6248520"/>
            <a:ext cx="1219320" cy="380880"/>
          </a:xfrm>
          <a:custGeom>
            <a:avLst/>
            <a:gdLst>
              <a:gd name="textAreaLeft" fmla="*/ 24480 w 1219320"/>
              <a:gd name="textAreaRight" fmla="*/ 1194840 w 1219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104" h="21600">
                <a:moveTo>
                  <a:pt x="0" y="0"/>
                </a:moveTo>
                <a:lnTo>
                  <a:pt x="69104" y="0"/>
                </a:lnTo>
                <a:lnTo>
                  <a:pt x="69104" y="21600"/>
                </a:lnTo>
                <a:lnTo>
                  <a:pt x="0" y="21600"/>
                </a:lnTo>
                <a:close/>
              </a:path>
              <a:path fill="lightenLess" w="69104" h="21600">
                <a:moveTo>
                  <a:pt x="0" y="0"/>
                </a:moveTo>
                <a:lnTo>
                  <a:pt x="69104" y="0"/>
                </a:lnTo>
                <a:lnTo>
                  <a:pt x="67704" y="1400"/>
                </a:lnTo>
                <a:lnTo>
                  <a:pt x="1400" y="1400"/>
                </a:lnTo>
                <a:close/>
              </a:path>
              <a:path fill="darken" w="69104" h="21600">
                <a:moveTo>
                  <a:pt x="69104" y="0"/>
                </a:moveTo>
                <a:lnTo>
                  <a:pt x="69104" y="21600"/>
                </a:lnTo>
                <a:lnTo>
                  <a:pt x="67704" y="20200"/>
                </a:lnTo>
                <a:lnTo>
                  <a:pt x="67704" y="1400"/>
                </a:lnTo>
                <a:close/>
              </a:path>
              <a:path fill="darkenLess" w="69104" h="21600">
                <a:moveTo>
                  <a:pt x="69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04" y="20200"/>
                </a:lnTo>
                <a:close/>
              </a:path>
              <a:path fill="lighten" w="69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04" h="21600">
                <a:moveTo>
                  <a:pt x="27545" y="8406"/>
                </a:moveTo>
                <a:lnTo>
                  <a:pt x="31976" y="8406"/>
                </a:lnTo>
                <a:lnTo>
                  <a:pt x="36397" y="3794"/>
                </a:lnTo>
                <a:lnTo>
                  <a:pt x="36397" y="17806"/>
                </a:lnTo>
                <a:lnTo>
                  <a:pt x="31976" y="13194"/>
                </a:lnTo>
                <a:lnTo>
                  <a:pt x="27545" y="13194"/>
                </a:lnTo>
                <a:close/>
              </a:path>
              <a:path fill="darken" w="69104" h="21600">
                <a:moveTo>
                  <a:pt x="38051" y="10800"/>
                </a:moveTo>
                <a:lnTo>
                  <a:pt x="41558" y="10800"/>
                </a:lnTo>
              </a:path>
              <a:path fill="darken" w="69104" h="21600">
                <a:moveTo>
                  <a:pt x="38051" y="8406"/>
                </a:moveTo>
                <a:lnTo>
                  <a:pt x="41558" y="5639"/>
                </a:lnTo>
              </a:path>
              <a:path fill="darken" w="69104" h="21600">
                <a:moveTo>
                  <a:pt x="38051" y="13194"/>
                </a:moveTo>
                <a:lnTo>
                  <a:pt x="41558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56B5-2ACF-4A6C-BE44-571EE0A01D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周恩来进卫生间后，有时坐在抽水马桶上就按电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铃按钮在马桶旁的小条几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把值班秘书叫进来，向他报告电话记录、待批阅的紧急文件和一天的工作安排等。有时候，他叫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多半是周恩来熟悉的老部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卫生间来汇报工作，交谈的时间是几分钟，也可长达几十分钟。所以，日子一长，西花厅的工作人员赋予卫生间一个雅号，叫做“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第二办公室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假如“老资格”的周恩来办公室工作人员将卫生间戏称为“第二办公室”的话，那么卧室就被称之为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“第三办公室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周恩来起床后便到“第二办公室”开始了一天的工作日程，但周恩来是在卧室的床上结束一天工作的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EF9-C007-4FD4-BBC1-00D40C5214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2438280" y="380880"/>
            <a:ext cx="369432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囊萤映雪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0" y="57240"/>
            <a:ext cx="2340000" cy="230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12000" y="25560"/>
            <a:ext cx="3132000" cy="248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B2C-19BE-4ECF-9C2D-5A91603CDE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爱迪生的故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219640" y="1066680"/>
            <a:ext cx="3924360" cy="5791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5219640" cy="3068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-119160" y="1058760"/>
            <a:ext cx="5334120" cy="275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F3D0-E21F-436D-AB55-2EB100D7A0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759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迪生的故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410680" cy="54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迪生 一生只上过三个月的小学，他的学问是靠母亲的教导和自修得来的。他的成功，应该归功于母亲自小对他的谅解与耐心的教导，才使原来被人认为是低能儿的爱迪生，长大后成为举世闻名的“发明大王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迪生从小就对很多事物感到好奇，而且喜欢亲自去试验一下，直到明白了其中的道理为止。长大以后，他就根据自己这方面的兴趣，一心一意做研究和发明的工作。他在新泽西州建立了一个实验室，一生共发明了电灯、电报机、留声机、电影机、磁力析矿机、压碎机等等总计两千余种东西。爱迪生的强烈研究精神，使他对改进人类的生活方式，作出了重大的贡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4FA-CB60-4285-882D-5570C2EB45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迪生的故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360" y="1126800"/>
            <a:ext cx="8791560" cy="57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浪费，最大的浪费莫过于浪费时间了。” 爱迪生常对助手说。“人生太短暂了，要多想办法，用极少的时间办更多的事情。”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一天，爱迪生在实验室里工作，他递给助手一个没上灯口的空玻璃灯泡，说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你量量灯泡的容量。”他又低头工作了。过了好半天，他问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容量多少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? ”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他没听见回答，转头看见助手拿着软尺在测量灯泡的周长、斜度，并拿了测得的数字伏在桌上计算。他说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时间，时间，怎么费那么多的时间呢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?”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爱迪生走过来，拿起那个空灯泡，向里面斟满了水，交给助手，说：“里面的水倒在量杯里，马上告诉我它的容量。”助手立刻读出了数字。爱迪生 说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这是多么容易的测量方法啊，它又准确，又节省时间，你怎么想不到呢？还去算，那岂不是白白地浪费时间吗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?” 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助手的脸红了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爱迪生喃喃地说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人生太短暂了，太短暂了，要节省时间，多做事情啊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!”  </a:t>
            </a:r>
            <a:br>
              <a:rPr sz="2700"/>
            </a:b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F143-AFF1-47AC-956B-B167B7E533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鲁迅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8496000" cy="522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AF7-CED1-46F0-8323-871B2C42E8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鲁迅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412640"/>
            <a:ext cx="85341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迅的成功，有一个重要的  秘诀，就是珍惜时间。鲁迅十二岁在绍兴城读私塾的  时候，父亲正患着重病，两个弟弟年纪尚幼，鲁迅不仅经常上当铺，跑药店，还得帮助母亲做家务；为免影响学业，他必须作好精确的  时间安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后，鲁迅几乎每天都在挤时间。他说过：“时间，就像海绵里的  水，只要你挤，总是有的。”鲁迅读书的  兴趣十分广泛，又喜欢写作，他对于民间艺术，特别是传说、绘画，也深切爱好；正因为他广泛涉猎，多方面学习，所以时间对他来说，实在非常重要。他一生多病，工作条件和生活环境都不好，但他每天都要工作到深夜才肯罢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CAA5-7EDB-41FB-A378-8BCA5E22FE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鲁迅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412640"/>
            <a:ext cx="853416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鲁迅的成功，有一个重要的  秘诀，就是珍惜时间。鲁迅十二岁在绍兴城读私塾的  时候，父亲正患着重病，两个弟弟年纪尚幼，鲁迅不仅经常上当铺，跑药店，还得帮助母亲做家务；为免影响学业，他必须作好精确的  时间安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此后，鲁迅几乎每天都在挤时间。他说过：“时间，就像海绵里的  水，只要你挤，总是有的。”鲁迅读书的  兴趣十分广泛，又喜欢写作，他对于民间艺术，特别是传说、绘画，也深切爱好；正因为他广泛涉猎，多方面学习，所以时间对他来说，实在非常重要。他一生多病，工作条件和生活环境都不好，但他每天都要工作到深夜才肯罢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1855-98E3-4FBC-87E9-886B82A839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鲁迅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412640"/>
            <a:ext cx="85406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鲁迅的眼中，时间就如同生命。“美国人说，时间就是金钱。但我想：时间就是性命。倘若无端的  空耗别人的时间，其实是无异于谋财害命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因此，鲁迅最讨厌那些“成天东家跑跑，西家坐坐，说长道短”的人，在他忙于工作的  时候，如果有人来找他聊天或闲扯，即使是很要好的朋友，他也会毫不客气地对人家说：“唉，你又来了，就没有别的事好做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85D5-06AE-4A28-BF61-F8EA8210C59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</a:rPr>
              <a:t>珍惜时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07960" y="1447920"/>
            <a:ext cx="812808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E134-63EC-4AF0-9D2A-873F5AE281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752480" y="936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象有一家银行每天早上都在你的帐户里存入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6,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可是每天的帐户余额都不能结转到明天，一到结算时间，银行就会把你当日未用尽的款项全数删除。 </a:t>
            </a:r>
            <a:br>
              <a:rPr sz="3600"/>
            </a:b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这种情况下你会怎么做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657600"/>
            <a:ext cx="601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然， 每天不留分文地全数提领是最佳选择。  你可能不晓得， 其实我们每个人都有这样的一个银行， 她的名字是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「时间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(TIME)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」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949-A85B-4B47-B837-3A2543F152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859280" y="170028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170028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457200"/>
            <a:ext cx="87631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同学们知道一些关于珍惜时间的名人名言、警句、诗词吗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0D6-1CD9-45C6-8BCA-2F5BB38AA0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珍惜时间的名人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切节省，归根到底都归结为时间的节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─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马克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利用时间是一个极其高级的规律。──恩格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理安排时间，就等于节约时间。──培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今天所做之事勿候明天，自己所做之事勿候他人 。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                                                      ──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歌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今天应做的事没有做，明天再早也是耽误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──裴斯泰洛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浪费时间是一桩大罪过。              ──卢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年不重来，一日难再晨。及时当勉励，岁月不待人 。                                             ——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生命是以时间为单位的，浪费别人的时间等于谋财害命；浪费自己的时间，等于慢性自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-——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鲁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2E8C-8834-49FB-ACFA-AF9D051405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珍惜时间的名人名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光景不待人，须臾发成丝。 ——李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时间，就象海绵里的水，只要愿挤，总还是有的。</a:t>
            </a:r>
            <a:r>
              <a:rPr b="0" lang="zh-CN" sz="2400" spc="-1" strike="noStrike">
                <a:solidFill>
                  <a:srgbClr val="cc3300"/>
                </a:solidFill>
                <a:latin typeface="Arial"/>
              </a:rPr>
              <a:t>－—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 鲁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热爱生命吗？那么别浪费时间，因为时间是组成生命的材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.           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富兰克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放弃时间的人，时间也放弃他。      ——莎士比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时当勉励，岁月不待人。 ——（陶渊明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莫等闲白了少年头，空悲切。——（岳飞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寸光阴一寸金，寸金难买寸光阴。－－ 明朝（罗懋登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凡是较有成就的科学工作者，毫无例外地都是利用时间的能手，也都是在大量时间中投入大量劳动的人。    ——华罗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更灯火五更鸡，正是男儿读书时，黑发不知勤学早，白首方悔读书迟。                 ——颜真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9BC9-D5A9-4AFD-B7F7-930AA95AEC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-32400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1828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时间馅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2590920"/>
            <a:ext cx="3673440" cy="3241440"/>
          </a:xfrm>
          <a:prstGeom prst="ellipse">
            <a:avLst/>
          </a:prstGeom>
          <a:gradFill rotWithShape="0">
            <a:gsLst>
              <a:gs pos="0">
                <a:srgbClr val="33cc3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4114800"/>
            <a:ext cx="1800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2997360"/>
            <a:ext cx="149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7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3634920" y="2637000"/>
            <a:ext cx="631800" cy="163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124080" y="4221000"/>
            <a:ext cx="1160640" cy="126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00360" y="3645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睡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40360" y="443700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一天中吃饭用多少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上厕所的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娱乐时间（包括看课外书、课外活动、上网、使用手机等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打扮时间（包括关注自己的服装和发型的时间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发呆时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（其余教师没想到的）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9AE2-038D-454B-9858-5057A678F4A5}" type="slidenum">
              <a:t>23</a:t>
            </a:fld>
          </a:p>
        </p:txBody>
      </p:sp>
    </p:spTree>
  </p:cSld>
  <p:transition spd="slow">
    <p:wheel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457200"/>
            <a:ext cx="83059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统计一下你们还剩多少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部分时间就可以作为你们自主学习的时间。有没有同学已超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8.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再用一分钟时间往回看一下，哪些时间可以节省下来？一共可以节省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32004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所以说时间是最公平的。对于学习好的学生而言，一天不会变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小时；对于目前成绩弱的学生而言，一天也不会变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小时。假如我们能把那些无须浪费的时间节省下来，就可以为自己赢得更多学习的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CE2-8763-4DF8-92BA-037DE16F345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6782040" cy="7714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43000" y="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如何管理自己的时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155600"/>
            <a:ext cx="82296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充分利用零碎（边角料）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合理利用属于正常的学习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准个人学习的最佳时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善于制定计划，明确学习任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要简朴，朋友要挑选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顽强的毅力，排除对学习的干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努力让自己的每一秒钟都过得充实有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361B-AB88-40CE-9B4A-DDD42E0B783F}" type="slidenum">
              <a:t>25</a:t>
            </a:fld>
          </a:p>
        </p:txBody>
      </p:sp>
    </p:spTree>
  </p:cSld>
  <p:transition spd="slow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981080" y="9144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生活对于我们来说是艰苦而有富有挑战的生活，别让人生当中的最美好的时光从你的身边偷偷溜走，把时间利用起来吧，做一个善用时间的强者，而不做浪费时间的恶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657600"/>
            <a:ext cx="7010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E4C-46F3-4EDC-8EB0-30F129729F8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981000"/>
            <a:ext cx="8893080" cy="302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能干什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你有没有想过这个问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一秒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干什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秒钟可以决定比赛的胜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以决定金银牌的得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可以改变许多人的命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....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一分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干什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分钟可以让我们多做几道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以把一个人从死亡边缘救回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可以让一个新的生命由此诞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....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一小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干什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小时可以做一篇卷纸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考察自己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以让宇航员成功飞上太空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可以让一个商人谈成一笔生意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让他成为百万富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....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一天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干什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天时间可以在学校学到很多知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天时间可以让两个国家友好谈判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可以阻止一场战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....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一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干什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年的时间可以让高中生学习知识改变命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以让一棵棵小树长到很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可以让所有的学生知道自己这一年的学习效果如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.....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一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时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能干什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生的时间可以让有些人享受生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可以发明有创造性的东西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也可以让你知道比头发多的知识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...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4880" y="188280"/>
            <a:ext cx="108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朗诵《时间的价值》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E36-7703-425D-A3E0-8CBDE2F540F1}" type="slidenum">
              <a:t>27</a:t>
            </a:fld>
          </a:p>
        </p:txBody>
      </p:sp>
    </p:spTree>
  </p:cSld>
  <p:transition spd="slow">
    <p:cover dir="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828800" y="194616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带着一脸的兴奋和茫然，我们即将度过了初中三年，时间在我们面前匆匆划过，留下一道道优美的弧线，或许也留下了挥之不去的遗憾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2A8-860B-4718-85A1-7EA596C1710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914400" y="1219320"/>
            <a:ext cx="6172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</a:rPr>
              <a:t>对于时间我们别无他法，唯有珍惜时间，持之以恒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E50D-92F4-4FC0-9F0C-61A4A9CCC80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28800" y="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天早上「时间银行」总会为你在帐户里自动存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64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秒；一到晚上，她也会自动地把你当日虚掷掉的光阴全数注销，没有分秒可以结转到明天，你也不能提前预支片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895480"/>
            <a:ext cx="6172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Arial"/>
              </a:rPr>
              <a:t>如果你没能适当使用这些时间存款，损失掉的只有你自己会承担。没有回头重来，也不能预提明天，你必须根据你所拥有的这些时间存款而活在现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149-3ED3-4ED0-9D5D-79F706ECA9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828800" y="2362320"/>
            <a:ext cx="5562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激情燃烧冬三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不留遗憾在今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0B99-73D0-46A8-A2D2-52E121C8030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048120" y="3225960"/>
            <a:ext cx="5398920" cy="32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88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76320" y="228600"/>
            <a:ext cx="777240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祝大家学习进步！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E681-6EBD-4CE6-8D4D-53C6F6F2F31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5335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珍惜时间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做管理时间的能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10320" y="4849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14680" y="5410080"/>
            <a:ext cx="742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2259-43AF-48C0-A0B1-8F12C22CDA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6104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520" y="533520"/>
            <a:ext cx="8353440" cy="83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离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中考还有</a:t>
            </a:r>
            <a:r>
              <a:rPr b="1" i="1" lang="zh-CN" sz="4400" spc="-1" strike="noStrike">
                <a:solidFill>
                  <a:srgbClr val="ff33cc"/>
                </a:solidFill>
                <a:latin typeface="Arial"/>
              </a:rPr>
              <a:t>176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元旦：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天     春节：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清明：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天      五一：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端午节：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天    周末：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27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实际在课堂时间</a:t>
            </a:r>
            <a:r>
              <a:rPr b="1" i="1" lang="zh-CN" sz="4000" spc="-1" strike="noStrike">
                <a:solidFill>
                  <a:srgbClr val="ff33cc"/>
                </a:solidFill>
                <a:latin typeface="Arial"/>
              </a:rPr>
              <a:t>120</a:t>
            </a:r>
            <a:r>
              <a:rPr b="1" i="1" lang="zh-CN" sz="4000" spc="-1" strike="noStrike">
                <a:solidFill>
                  <a:srgbClr val="ff0000"/>
                </a:solidFill>
                <a:latin typeface="Arial"/>
              </a:rPr>
              <a:t>天左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4F1B-9F26-4793-8B78-B617CD721100}" type="slidenum">
              <a:t>5</a:t>
            </a:fld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533520"/>
            <a:ext cx="83534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离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高考还有</a:t>
            </a:r>
            <a:r>
              <a:rPr b="1" i="1" lang="zh-CN" sz="6000" spc="-1" strike="noStrike">
                <a:solidFill>
                  <a:srgbClr val="ff33cc"/>
                </a:solidFill>
                <a:latin typeface="Arial"/>
              </a:rPr>
              <a:t>176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如何充分、有效地利用这</a:t>
            </a:r>
            <a:r>
              <a:rPr b="1" i="1" lang="zh-CN" sz="4400" spc="-1" strike="noStrike">
                <a:solidFill>
                  <a:srgbClr val="ff33cc"/>
                </a:solidFill>
                <a:latin typeface="Arial"/>
              </a:rPr>
              <a:t>120</a:t>
            </a:r>
            <a:r>
              <a:rPr b="1" i="1" lang="zh-CN" sz="4400" spc="-1" strike="noStrike">
                <a:solidFill>
                  <a:srgbClr val="ff33cc"/>
                </a:solidFill>
                <a:latin typeface="Arial"/>
              </a:rPr>
              <a:t>天</a:t>
            </a: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你想好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1A1-2A3C-48D8-806D-ADED732365CA}" type="slidenum">
              <a:t>6</a:t>
            </a:fld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745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85800" y="2590920"/>
            <a:ext cx="304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2666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名人珍惜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A2F3-4E06-462F-809E-C6F7B77AC6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979640" cy="19162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a50021"/>
                </a:solidFill>
                <a:latin typeface="Arial"/>
              </a:rPr>
              <a:t>珍惜时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76480"/>
            <a:ext cx="81532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经意间，时间正一分一秒地从我们身边流逝。时间是不等人的。想挤出时间不容易，但失去时间却很容易。无论迎着多少无奈，无论听着多少感慨，它从不因势而变，因人而异。凡是在事业上取得成功的人，没有一个不是珍惜时间的典范。请看名人珍惜时间的故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3020-87CA-4BDC-B487-0B26749F129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法拉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年以后，为了节省时间，把整个身心都用在科学创造上，严格控制自己，拒绝参加一切与科学无关的活动，甚至辞去皇家学院主席的职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居里夫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不使来访者拖延拜访的时间，会客室里从来不放坐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76</a:t>
            </a: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岁的爱因斯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病倒了，有位老朋友问他想要什么东西，他说，我只希望还有若干小时的时间，让我把一些稿子整理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周恩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党内做工作最多的人，也是最忙的人。为了争分夺秒，他开辟了“第二办公室”和“第三办公室”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77D0-E7C0-4C45-8463-DD2B854BCF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8:33Z</dcterms:modified>
  <cp:revision>142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