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21.jpeg" ContentType="image/jpeg"/>
  <Override PartName="/ppt/media/image17.gif" ContentType="image/gif"/>
  <Override PartName="/ppt/media/image3.png" ContentType="image/png"/>
  <Override PartName="/ppt/media/image19.png" ContentType="image/png"/>
  <Override PartName="/ppt/media/image16.gif" ContentType="image/gi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8AC0-B94D-4E48-918A-36A416742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5B08-A35B-42A3-95E9-0D7F4B0F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D96-2836-4292-A042-74B2B9EE2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A37-A978-4302-8110-51BD8FE4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3D2E83-D724-4ADA-8AF5-657F65D9D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91899-29CE-4540-8661-0F9B58D5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CE89E0-707C-4502-8309-AF703072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D7802-6DEE-405D-AB3D-9700AA161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5D8484-7310-49F6-817D-3064A36A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618E2-07C1-4E01-816B-32C41B38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F995D-7CAD-4F64-A9B7-6595592E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EB5-8A85-47DA-9E8B-4DB96440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4A7B74-FB99-48A4-83D4-42096D15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09DB2-B391-42C6-BF19-C5FA3F3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CC7AD-B238-4B40-B291-920E91A4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0E8D5-6434-4F8B-98B1-C1E7E9C2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2D815-C8E6-4743-99E5-24469ABDD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1DB0C-DB33-4DEF-B596-944B7E97C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02AD4-7938-40CC-BCD8-73553F017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A879F-F30A-40DB-A904-EC09BF28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6327B-838D-4016-B482-5EC1E53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12E5-8C09-4007-8FDE-E2815A01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66A-83DF-44D3-99D4-3FEC36030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69A5B-F38F-46DB-9B9D-52253B07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9CB13-E64A-4BD4-8EB8-6C1A1219F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77B22-81A8-40DA-B177-25A01FD7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2660-EF88-4524-99AF-46BC277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B13F4-6DA7-4CFD-974C-92B122B5F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E6A3B-69C8-41D2-BDDA-5BC05BB8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55697-7EDA-4C3B-8537-E82EFBF4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09CA7-DB28-4960-8884-C6DB7602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AC8D-8EB8-434E-9ED0-8948D53F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18D5F-A0EF-46F3-AAE1-752154FF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D59-A9A6-4905-A817-1C43491E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A1D02-DE8A-4CD5-BABB-F5B66FEF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136F-03CB-4D4D-8ACA-A4252EBF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E845-560A-448A-B840-22B0A231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E4F42-5677-4E4F-8938-2C34896C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5B564-AA29-46EE-AD08-5F310A45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EEAE1-09CB-409C-B484-A821DB1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B0CA2-486B-4C43-AE55-DAF3780CF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28C32-6E84-41E1-8DE1-EFE0A7DC0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709A-562E-4D63-8BFA-D461101A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8294D2-53DD-492E-9ADB-8E3B90F06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A7F-C7DA-4A68-A584-3463D5F4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477001-E904-40D8-9E77-85D0C7F5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4AB63-8E01-40BE-BECF-DD093ED3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DF5B7F-67A5-447B-93F7-0B255AC39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0FC5A8-8470-4CA3-B234-DF76FC21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C23ABA-FB09-48AA-8F83-7B324E45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47F1E-C73A-47D1-9423-D1D85E9E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1B7CE3-5AE2-4C2C-8A6B-5222ED93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9BA5D-6F83-4D0C-BF28-67080E2C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43E5E5-4634-481E-9A4F-9332FC19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026ECA-2CFE-4A64-A858-69AA2889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5608-0241-4C0A-9FA4-ACB259C8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D0BD37-6C90-41BE-B2C1-DD4106FC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80CB1-E7AD-49C8-B707-648ABF30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BA9FB-D448-4F5B-979C-05617BCB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2A9AA-17F0-4453-BBE0-FD849DB0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DE152-005D-4B48-90BB-B37C863D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22B47-2EEA-4EE3-863C-99CA710E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18AFE-A1F0-4A69-889F-3ADA836B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07DBD-D2FB-4E1E-906D-6B505CCB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18D03-A627-401D-B60C-7FA1908D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B148A-B557-4067-8915-3BAD0D69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70C-153D-4395-A34F-58148ED9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B63DC-07BD-4F37-A377-1E7448C9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9020E-FD42-4D9B-B4FE-A58392F8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DC77-628F-45ED-B55E-BB6E5EA3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DA52-5647-4B84-BE29-47E04E2F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0FB62-D6B8-4867-8023-E35CDF0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4A99-3D7B-4405-BB9D-B3D93E2F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9C7A8-E147-4372-8EA4-023433E6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0380C-B26E-4F91-A28F-148AB1010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6EF5C-6AD6-441B-8DE2-66D14793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E8CE2-814B-49DC-AD1A-7DAAF027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58A-9464-492D-BDFC-3AE8D306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E2C4C-0F92-48D7-8CFD-2F78F6A5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B3D55-7946-4C6F-9DE3-22EA749F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241C-B050-4570-B124-4419FF7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610FB-948F-44A1-9AB6-719F34A0C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66648-7A6B-4631-A5AF-1BFD01D4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48BF0-AE95-4C44-B849-67888475D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52DCA-B524-41C7-BDEF-E0EB9CBF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25093-D7B3-4AB8-BDEA-91A9E052B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16E7A-685A-40E4-9734-9280A2C5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BCBC8-ED1D-4435-855F-BA60823D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0B9A-1BDC-460E-B18F-76AE4D20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BD4CF-4EE2-4C40-855E-E4637B64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0EE3B-7631-4794-AAC6-5CE569C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CAA4F-C826-435E-AF2A-3C24E6D0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CB7E5-0D17-4B80-860C-15403B74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C36ED-EB4B-4258-9C5A-3B2DBA6D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081FBB-5598-4A5F-8FF8-AE5EB555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4B033-D1AD-41B2-ADA6-22DE18A7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8607-1881-4321-B65E-78617EC34A2E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601FC-60B2-4106-B087-35ACAF2623A3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2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2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3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C11-2857-465A-B88F-89F4F4825B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31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31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3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dt" idx="1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049C-F104-4198-9316-B1471CA5BD03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1647-B0FB-4D2A-9F07-A2A8788FBC9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09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10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5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57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58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0601-06DA-4BB0-BDAF-BDE217BB50EB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ECF9-8D1B-4D10-A4B2-0F9C160EB7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2B0F-B987-4C4D-9A2C-90ED4AE9A43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hi.baidu.com/&#39118;&#33465;/album/item/f36b47343968b82c5ab5f528.html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fl.cqnews.net/shdd/200809/t20080928_2331300.htm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.baidu.com/i?ct=503316480&amp;z=0&amp;tn=baiduimagedetail&amp;word=%B9%C5%F3%DD&amp;in=24752&amp;cl=2&amp;cm=1&amp;sc=0&amp;lm=-1&amp;pn=129&amp;rn=1&amp;di=1019966361&amp;ln=2000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hi.baidu.com/383577270/album/item/a9f6718b43d6df06c9fc7aa5.html" TargetMode="External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blog.pt80.com/html/29/t-57929.htm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&#1127;&#1008;&amp;in=10036&amp;cl=2&amp;cm=1&amp;sc=0&amp;lm=-1&amp;pn=13&amp;rn=1&amp;di=481857292&amp;ln=2000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hi.baidu.com/ruiaileilei/album/item/8b8ed8dd6bcfe1cc8d10295f.html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jmxinghe.cn/Article.asp?id=312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3.iecool.com/show/100/7439.htm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www.souvod.net/v/qhnjpu/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www.funbq.com/list/174/" TargetMode="External"/><Relationship Id="rId8" Type="http://schemas.openxmlformats.org/officeDocument/2006/relationships/image" Target="../media/image16.gif"/><Relationship Id="rId9" Type="http://schemas.openxmlformats.org/officeDocument/2006/relationships/hyperlink" Target="http://www.ycrmlxx.net/grzj/grzj.asp?id=014216" TargetMode="External"/><Relationship Id="rId10" Type="http://schemas.openxmlformats.org/officeDocument/2006/relationships/image" Target="../media/image17.gi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inshishi.gov.cn/jinshi/ShowClass.asp?ClassID=4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hyperlink" Target="http://www.997788.com/mini/shopstation/SHOP_AUCTION/detail.asp?table=&#36830;&#29615;&#30011;&amp;id=00235640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www.997788.com/mini/shopstation/SHOP_AUCTION/detail.asp?table=&#36830;&#29615;&#30011;&amp;id=431872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image.baidu.com/i?ct=503316480&amp;z=0&amp;tn=baiduimagedetail&amp;word=%C4%D2&#1257;&amp;in=3873&amp;cl=2&amp;cm=1&amp;sc=0&amp;lm=-1&amp;pn=81&amp;rn=1&amp;di=1334655056&amp;ln=218" TargetMode="External"/><Relationship Id="rId3" Type="http://schemas.openxmlformats.org/officeDocument/2006/relationships/image" Target="../media/image22.jpeg"/><Relationship Id="rId4" Type="http://schemas.openxmlformats.org/officeDocument/2006/relationships/hyperlink" Target="http://www.superschool.net/Video_Class.asp?ClassID=17&amp;page=8" TargetMode="External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lang="zh-CN" sz="6600" spc="-1" strike="noStrike">
                <a:solidFill>
                  <a:srgbClr val="000066"/>
                </a:solidFill>
                <a:latin typeface="Arial"/>
              </a:rPr>
              <a:t>珍惜时间</a:t>
            </a:r>
            <a:br>
              <a:rPr sz="6600"/>
            </a:br>
            <a:br>
              <a:rPr sz="6600"/>
            </a:b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主题班会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88" name="" descr=""/>
          <p:cNvPicPr/>
          <p:nvPr/>
        </p:nvPicPr>
        <p:blipFill>
          <a:blip r:embed="rId2"/>
          <a:stretch/>
        </p:blipFill>
        <p:spPr>
          <a:xfrm>
            <a:off x="8047080" y="5761080"/>
            <a:ext cx="1096920" cy="109692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0390" fill="hold"/>
                                        <p:tgtEl>
                                          <p:spTgt spid="6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故事三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2591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爱迪生的故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2" name="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924360" cy="57326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5219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节目五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995640" y="476280"/>
            <a:ext cx="339408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名人名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95280" y="1628640"/>
            <a:ext cx="7759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盛年不重来，一日难再晨。及时当勉励，岁月不待人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-------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晋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陶渊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生命是以时间为单位的，浪费别人的时间等于谋财害命；浪费自己的时间，等于慢性自杀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--------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鲁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凡是较有成就的科学工作者，毫无例外地都是利用时间的能手，也都是在大量时间中投入大量劳动的人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--------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华罗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三更灯火五更鸡，正是男儿读书时，黑发不知勤学早，白首方悔读书迟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--------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颜真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54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Garamond"/>
              </a:rPr>
              <a:t>名人名言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光景不待人，须臾发成丝。 ——李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时间，就象海绵里的水，只要愿挤，总还是有的。 —— 鲁迅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你热爱生命吗？那么别浪费时间，因为时间是组成生命的材料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. </a:t>
            </a: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－－富兰克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Garamond"/>
              </a:rPr>
              <a:t>放弃时间的人，时间也放弃他。——莎士比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cc00"/>
                </a:solidFill>
                <a:latin typeface="Arial"/>
              </a:rPr>
              <a:t>节目六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93840" y="5300640"/>
            <a:ext cx="51498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请欣赏歌曲《隐形的翅膀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3"/>
          <a:stretch/>
        </p:blipFill>
        <p:spPr>
          <a:xfrm>
            <a:off x="8047080" y="576108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345957" fill="hold"/>
                                        <p:tgtEl>
                                          <p:spTgt spid="7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ahoma"/>
              </a:rPr>
              <a:t>隐形的翅膀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3527280" cy="45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    </a:t>
            </a: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让梦恒久比天长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留一个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愿望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让自己想象每一次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都在徘徊孤单中坚强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每一次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就算很受伤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也不闪泪光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我知道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我一直有双隐形的翅膀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带我飞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飞过绝望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不去想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他们拥有美丽的太阳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我看见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每天的夕阳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也会有变化</a:t>
            </a:r>
            <a:br>
              <a:rPr sz="2400"/>
            </a:br>
            <a:r>
              <a:rPr b="1" lang="zh-CN" sz="2400" spc="-1" strike="noStrike">
                <a:solidFill>
                  <a:srgbClr val="cccc00"/>
                </a:solidFill>
                <a:latin typeface="Tahoma"/>
              </a:rPr>
              <a:t>我知道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225840" y="692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张韶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356000" y="1197000"/>
            <a:ext cx="4176720" cy="63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我一直有双隐形的翅膀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带我飞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给我希望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我终于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看到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所有梦想都开花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追逐的年轻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歌声多嘹亮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我终于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翱翔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用心凝望不害怕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哪里会有风</a:t>
            </a:r>
            <a:br>
              <a:rPr sz="3200"/>
            </a:b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就飞多远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-468360" y="-123840"/>
            <a:ext cx="9612360" cy="698184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4284720" y="765000"/>
            <a:ext cx="1008000" cy="100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再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284720" y="2205000"/>
            <a:ext cx="1008000" cy="100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00"/>
                </a:solidFill>
                <a:latin typeface="Comic Sans MS"/>
                <a:ea typeface="华文彩云"/>
              </a:rPr>
              <a:t>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403280" y="3860640"/>
            <a:ext cx="1871640" cy="158292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要努力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-468360" y="1412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cc00"/>
                </a:solidFill>
                <a:latin typeface="Arial"/>
                <a:ea typeface="黑体"/>
              </a:rPr>
              <a:t>节目一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0" y="3644640"/>
            <a:ext cx="5626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朗诵诗歌《时间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" descr="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1628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Tahoma"/>
              </a:rPr>
              <a:t>时间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84000" y="2076480"/>
            <a:ext cx="75610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cc00"/>
                </a:solidFill>
                <a:latin typeface="Tahoma"/>
              </a:rPr>
              <a:t>不经意间，时间正一分一秒地从我们身边流逝。 </a:t>
            </a:r>
            <a:br>
              <a:rPr sz="3200"/>
            </a:br>
            <a:r>
              <a:rPr b="1" lang="zh-CN" sz="3200" spc="-1" strike="noStrike">
                <a:solidFill>
                  <a:srgbClr val="00cc00"/>
                </a:solidFill>
                <a:latin typeface="Tahoma"/>
              </a:rPr>
              <a:t>时间是不等人的。 </a:t>
            </a:r>
            <a:br>
              <a:rPr sz="3200"/>
            </a:br>
            <a:r>
              <a:rPr b="1" lang="zh-CN" sz="3200" spc="-1" strike="noStrike">
                <a:solidFill>
                  <a:srgbClr val="00cc00"/>
                </a:solidFill>
                <a:latin typeface="Tahoma"/>
              </a:rPr>
              <a:t>想挤出时间不容易，但失去时间却很容易。 </a:t>
            </a:r>
            <a:br>
              <a:rPr sz="3200"/>
            </a:br>
            <a:r>
              <a:rPr b="1" lang="zh-CN" sz="3200" spc="-1" strike="noStrike">
                <a:solidFill>
                  <a:srgbClr val="00cc00"/>
                </a:solidFill>
                <a:latin typeface="Tahoma"/>
              </a:rPr>
              <a:t>无论迎着多少无奈，无论听着多少感慨，它从不因势而变，因人而异。 </a:t>
            </a:r>
            <a:br>
              <a:rPr sz="3200"/>
            </a:br>
            <a:r>
              <a:rPr b="1" lang="zh-CN" sz="3200" spc="-1" strike="noStrike">
                <a:solidFill>
                  <a:srgbClr val="00cc00"/>
                </a:solidFill>
                <a:latin typeface="Tahoma"/>
              </a:rPr>
              <a:t>凡是在事业上取得成功的人，没有一个不是珍惜时间的典范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2580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cc00"/>
                </a:solidFill>
                <a:latin typeface="Arial"/>
              </a:rPr>
              <a:t>节目二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古筝舞蹈表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4005360"/>
            <a:ext cx="4356000" cy="285264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005360"/>
            <a:ext cx="4788000" cy="28526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76920" y="0"/>
            <a:ext cx="4267080" cy="4005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7"/>
          <a:stretch/>
        </p:blipFill>
        <p:spPr>
          <a:xfrm>
            <a:off x="8317080" y="3213000"/>
            <a:ext cx="82692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8699" fill="hold"/>
                                        <p:tgtEl>
                                          <p:spTgt spid="7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节目三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5843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小品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5640" y="2349360"/>
            <a:ext cx="30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学习与逛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1484280"/>
            <a:ext cx="5076720" cy="5373720"/>
          </a:xfrm>
          <a:prstGeom prst="rect">
            <a:avLst/>
          </a:prstGeom>
          <a:ln w="0">
            <a:noFill/>
          </a:ln>
        </p:spPr>
      </p:pic>
      <p:pic>
        <p:nvPicPr>
          <p:cNvPr id="70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0"/>
            <a:ext cx="5076720" cy="148428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357720"/>
            <a:ext cx="40672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3284640"/>
            <a:ext cx="5076720" cy="3573360"/>
          </a:xfrm>
          <a:prstGeom prst="rect">
            <a:avLst/>
          </a:prstGeom>
          <a:ln w="0">
            <a:noFill/>
          </a:ln>
        </p:spPr>
      </p:pic>
      <p:pic>
        <p:nvPicPr>
          <p:cNvPr id="7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84640"/>
            <a:ext cx="4067280" cy="3573360"/>
          </a:xfrm>
          <a:prstGeom prst="rect">
            <a:avLst/>
          </a:prstGeom>
          <a:ln w="0">
            <a:noFill/>
          </a:ln>
        </p:spPr>
      </p:pic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小品二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cc00"/>
                </a:solidFill>
                <a:latin typeface="Arial"/>
              </a:rPr>
              <a:t>玩电脑打篮球是最开心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0"/>
            <a:ext cx="3059280" cy="191628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51640" y="260280"/>
            <a:ext cx="1692360" cy="227664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227640" y="333360"/>
            <a:ext cx="1224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35280" cy="4076640"/>
          </a:xfrm>
          <a:prstGeom prst="rect">
            <a:avLst/>
          </a:prstGeom>
          <a:ln w="0">
            <a:noFill/>
          </a:ln>
        </p:spPr>
      </p:pic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987640" y="404280"/>
            <a:ext cx="417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Arial"/>
              </a:rPr>
              <a:t>节目四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708000" y="2420640"/>
            <a:ext cx="33116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cc00"/>
                </a:solidFill>
                <a:latin typeface="Arial"/>
              </a:rPr>
              <a:t>讲故事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0" y="4076640"/>
            <a:ext cx="3635280" cy="278136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72360" y="0"/>
            <a:ext cx="2771640" cy="36957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35280" y="3645000"/>
            <a:ext cx="5508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-963720"/>
            <a:ext cx="9144000" cy="782172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42920" y="-571680"/>
            <a:ext cx="259236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故事一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411280" y="549360"/>
            <a:ext cx="36943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囊萤读书的故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963720"/>
            <a:ext cx="2340000" cy="23050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012000" y="-963720"/>
            <a:ext cx="3132000" cy="24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</a:rPr>
              <a:t>故事二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44:16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31Z</dcterms:modified>
  <cp:revision>62</cp:revision>
  <dc:subject>主题班会课件(分28大类): http://shop62905894.taobao.com</dc:subject>
  <dc:title>主题班会课件(分28大类): http://shop62905894.taobao.com</dc:title>
</cp:coreProperties>
</file>