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5.jpeg" ContentType="image/jpeg"/>
  <Override PartName="/ppt/media/image6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31.jpeg" ContentType="image/jpeg"/>
  <Override PartName="/ppt/media/image29.jpeg" ContentType="image/jpeg"/>
  <Override PartName="/ppt/media/image7.gif" ContentType="image/gif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2DDA-5464-4F7C-BBCD-57B41AD6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208-CC48-4703-BAAB-B1017824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B90C-047D-45A0-9E58-2E38FC0FF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7317-A8DB-488B-8CEF-8A9C1D0B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4797-50E0-4C3C-9ECB-F8175A41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0EC2-45DF-46DE-92AD-365C1334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46E5-353D-419F-AF0C-035F3DE2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DF648-748C-4B03-BE9E-7B892BCF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9E6B-23BC-4F9A-BF54-1308C338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640D-3817-4363-B2FD-7BEB2275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32FA-C813-4D26-A456-DD493E2C9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C7A-E5AA-42AB-92FD-51C8B410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1F8E-458E-402A-BEE1-73D32ED6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C1C-1628-477A-B958-F8B634F55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E5D2-9C7C-4F62-B225-AA28BF48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9AA5-7744-4CB6-AA7B-2089E82F0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6ADE-E177-432E-A38A-34E172E90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32E-8612-418A-90A5-1FA441E2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3C0-4089-4B9C-9BC7-8248B584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FDA-0158-4934-BD19-1E7D7139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E6BE-9A16-4F74-B216-2C8B854A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756-297A-4DC7-BC04-7BBE00704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F03C-9063-4FDC-AAE7-1EC872947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7EF-79CA-4164-AD71-67C8E97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062B-BC2D-4A18-9E84-584E5870F91D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F0AC-1ED2-48CD-B35C-959F6439ABE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hupanliu.myrice.com/" TargetMode="External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4321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-28440" y="189000"/>
            <a:ext cx="917244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抓紧时间，力争上游</a:t>
            </a:r>
            <a:endParaRPr b="0" lang="en-US" sz="8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0" y="5589360"/>
            <a:ext cx="9144000" cy="12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cc33"/>
                </a:solidFill>
                <a:latin typeface="Times New Roman"/>
              </a:rPr>
              <a:t>Gao san 70 ban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463720" y="0"/>
            <a:ext cx="3680280" cy="70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黑体"/>
              </a:rPr>
              <a:t>合理安排时间，就等于节约时间</a:t>
            </a:r>
            <a:r>
              <a:rPr b="0" lang="zh-CN" sz="3600" spc="-1" strike="noStrike">
                <a:solidFill>
                  <a:srgbClr val="990099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黑体"/>
              </a:rPr>
              <a:t>—— </a:t>
            </a:r>
            <a:r>
              <a:rPr b="0" lang="zh-CN" sz="3600" spc="-1" strike="noStrike">
                <a:solidFill>
                  <a:srgbClr val="ff66ff"/>
                </a:solidFill>
                <a:latin typeface="Arial"/>
                <a:ea typeface="黑体"/>
              </a:rPr>
              <a:t>培根 </a:t>
            </a:r>
            <a:br>
              <a:rPr sz="44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4000" y="0"/>
            <a:ext cx="4176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盛年不重来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一日难在晨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及时作勉励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岁月不待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 —— 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  <a:ea typeface="幼圆"/>
              </a:rPr>
              <a:t>陶渊明：《杂诗》 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022360" y="0"/>
            <a:ext cx="4121640" cy="68580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逆水行舟用力撑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一篙松劲退千寻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古云：“此日足可惜”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吾辈更应惜秒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——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董必武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395280" y="1413000"/>
            <a:ext cx="83566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有多少可以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有效利用的时间</a:t>
            </a: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?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1116000" y="1268280"/>
            <a:ext cx="741672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发表自己的想法</a:t>
            </a:r>
            <a:endParaRPr b="1" lang="en-US" sz="8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88000" y="623736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四川大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方正舒体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时间是个常数，但对勤奋者说来，是个变数。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分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"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方正舒体"/>
              </a:rPr>
              <a:t>来计算时间的人，时间多五十九倍。 —— 雷巴柯夫 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无限的“过去”都以“现在”为归宿，无限的“未来”都以“现在”为渊源。“过去”、“未来”的中间全仗有“现在”以成其连续，以成其永远，以成其无始无终的大实在。一掣现在的铃，无限的过去未来皆遥相呼应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 ——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李大钊：《今》 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516720" y="616572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北京大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7031880" y="0"/>
            <a:ext cx="2112120" cy="6858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故不积跬步，无以至千里；不积小流，无以成江海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 ——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方正舒体"/>
              </a:rPr>
              <a:t>荀子：《劝学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》 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0" y="0"/>
            <a:ext cx="6804000" cy="6858000"/>
            <a:chOff x="0" y="0"/>
            <a:chExt cx="6804000" cy="685800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80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1640" y="260280"/>
              <a:ext cx="244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66cc"/>
                  </a:solidFill>
                  <a:latin typeface="Arial"/>
                </a:rPr>
                <a:t>中山大学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24000" y="0"/>
            <a:ext cx="5940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华文行楷"/>
              </a:rPr>
              <a:t>三更灯火五更鸡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华文行楷"/>
              </a:rPr>
              <a:t>正是男儿读书时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华文行楷"/>
              </a:rPr>
              <a:t>黑发不知勤学早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华文行楷"/>
              </a:rPr>
              <a:t>白发方悔读书迟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Arial"/>
                <a:ea typeface="华文行楷"/>
              </a:rPr>
              <a:t>－－－－颜真卿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637236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47520" y="0"/>
            <a:ext cx="729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00"/>
                </a:solidFill>
                <a:latin typeface="Arial"/>
                <a:ea typeface="华文仿宋"/>
              </a:rPr>
              <a:t>昨天不能唤回来，明天还不确实，而能确有把握的就是今天。今日一天，当明日两天。－－－耶曼逊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1484280"/>
            <a:ext cx="9144000" cy="1434600"/>
          </a:xfrm>
          <a:prstGeom prst="rect">
            <a:avLst/>
          </a:prstGeom>
          <a:solidFill>
            <a:srgbClr val="0000cc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去的尽管去了，来的尽管来着；去来的中间，又怎样地匆匆呢？早上我起来的时候，小屋里射进两三方斜斜的太阳。太阳他有脚啊，轻轻悄悄地挪移了；我也茫茫然跟着旋转。于是——洗手的时候，日子从水盆里过去；吃饭的时候，日子从饭碗里过去；默默时，便从凝然的双眼前过去。我觉察他去的匆匆了，伸出手遮挽时，他又从遮挽着的手边过去，天黑时，我躺在床上，他便伶伶俐俐地从我身上跨过，从我脚边飞去了。等我睁开眼和太阳再见，这算又溜走了一日。我掩面叹息。但是新来的日子的影儿又开始在叹息里闪过了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----------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朱自清《匆匆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8360" y="476280"/>
            <a:ext cx="3657600" cy="92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美文欣赏</a:t>
            </a:r>
            <a:endParaRPr b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803640" y="0"/>
            <a:ext cx="18468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学而不思则罔</a:t>
            </a: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思而不学则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——</a:t>
            </a: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(</a:t>
            </a: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孔子</a:t>
            </a:r>
            <a:r>
              <a:rPr b="1" lang="zh-CN" sz="3200" spc="-1" strike="noStrike">
                <a:solidFill>
                  <a:srgbClr val="feec94"/>
                </a:solidFill>
                <a:latin typeface="Arial"/>
                <a:ea typeface="华文新魏"/>
              </a:rPr>
              <a:t>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616572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cc"/>
                </a:solidFill>
                <a:latin typeface="Arial"/>
                <a:ea typeface="隶书"/>
              </a:rPr>
              <a:t>武汉大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-210240" y="476280"/>
            <a:ext cx="13993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Arial"/>
                <a:ea typeface="隶书"/>
              </a:rPr>
              <a:t>满招损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  <a:ea typeface="隶书"/>
              </a:rPr>
              <a:t>,</a:t>
            </a:r>
            <a:r>
              <a:rPr b="1" lang="zh-CN" sz="4000" spc="-1" strike="noStrike">
                <a:solidFill>
                  <a:srgbClr val="ff66cc"/>
                </a:solidFill>
                <a:latin typeface="Arial"/>
                <a:ea typeface="隶书"/>
              </a:rPr>
              <a:t>谦受益</a:t>
            </a:r>
            <a:r>
              <a:rPr b="0" lang="zh-CN" sz="1800" spc="-1" strike="noStrike">
                <a:solidFill>
                  <a:srgbClr val="ff66cc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24720" y="26028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66ff"/>
                </a:solidFill>
                <a:latin typeface="Arial"/>
              </a:rPr>
              <a:t>厦门大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0" y="0"/>
            <a:ext cx="7524720" cy="6858000"/>
            <a:chOff x="0" y="0"/>
            <a:chExt cx="7524720" cy="685800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9483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392360" y="0"/>
              <a:ext cx="313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苏州大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6669000" y="0"/>
            <a:ext cx="2475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业精于勤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,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荒于嬉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,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行成于思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,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毁于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——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(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韩愈</a:t>
            </a:r>
            <a:r>
              <a:rPr b="0" lang="zh-CN" sz="3600" spc="-1" strike="noStrike">
                <a:solidFill>
                  <a:srgbClr val="66ffff"/>
                </a:solidFill>
                <a:latin typeface="方正舒体"/>
                <a:ea typeface="方正舒体"/>
              </a:rPr>
              <a:t>)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2268360" y="0"/>
            <a:ext cx="6875280" cy="6860520"/>
            <a:chOff x="2268360" y="0"/>
            <a:chExt cx="6875280" cy="6860520"/>
          </a:xfrm>
        </p:grpSpPr>
        <p:pic>
          <p:nvPicPr>
            <p:cNvPr id="197" name="" descr=""/>
            <p:cNvPicPr/>
            <p:nvPr/>
          </p:nvPicPr>
          <p:blipFill>
            <a:blip r:embed="rId1"/>
            <a:stretch/>
          </p:blipFill>
          <p:spPr>
            <a:xfrm>
              <a:off x="2268360" y="0"/>
              <a:ext cx="6875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883200" y="6400800"/>
              <a:ext cx="22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3300"/>
                  </a:solidFill>
                  <a:latin typeface="Arial"/>
                </a:rPr>
                <a:t>北京大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-838080" y="0"/>
            <a:ext cx="307800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少年辛苦终身事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,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方正舒体"/>
              </a:rPr>
              <a:t>莫向光阴惰寸功。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0"/>
            <a:ext cx="9144000" cy="66690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cc"/>
                </a:solidFill>
                <a:latin typeface="Times New Roman"/>
                <a:ea typeface="幼圆"/>
              </a:rPr>
              <a:t>做时间的主人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24000" y="189000"/>
            <a:ext cx="4103640" cy="141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</a:rPr>
              <a:t>忆一忆：</a:t>
            </a:r>
            <a:endParaRPr b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000" y="2133360"/>
            <a:ext cx="86756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、平时哪些浪费时间的现象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68840" y="3573360"/>
            <a:ext cx="3307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2</a:t>
            </a:r>
            <a:r>
              <a:rPr b="1" lang="zh-CN" sz="48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、怎样才能做 时间的主人？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4653000"/>
            <a:ext cx="291600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826920" y="333360"/>
            <a:ext cx="7561440" cy="247176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995640" y="2781360"/>
            <a:ext cx="1440000" cy="1714320"/>
          </a:xfrm>
          <a:prstGeom prst="downArrow">
            <a:avLst>
              <a:gd name="adj1" fmla="val 50000"/>
              <a:gd name="adj2" fmla="val 29763"/>
            </a:avLst>
          </a:prstGeom>
          <a:solidFill>
            <a:srgbClr val="cc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24000" y="4508640"/>
            <a:ext cx="5616720" cy="15570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9600" spc="-1" strike="noStrike">
                <a:solidFill>
                  <a:srgbClr val="ffffff"/>
                </a:solidFill>
                <a:latin typeface="Times New Roman"/>
              </a:rPr>
              <a:t>充分利用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5300640"/>
            <a:ext cx="2050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0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2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4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小西每天早上上学几乎都要迟到，因为他   起来后要做很多事情。事情如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刷牙、洗脸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；    烧开水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整理书包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；      吃饭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15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听英语磁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共要花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50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新宋体"/>
              </a:rPr>
              <a:t>分钟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5222880"/>
            <a:ext cx="9144000" cy="119124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思考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、小西这样安排合理吗？为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方正舒体"/>
              </a:rPr>
              <a:t>、你认为该如何安排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79280" y="189000"/>
            <a:ext cx="367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考一考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2" name=""/>
          <p:cNvSpPr/>
          <p:nvPr/>
        </p:nvSpPr>
        <p:spPr>
          <a:xfrm>
            <a:off x="5320440" y="40464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Arial"/>
              </a:rPr>
              <a:t>忙碌的小西：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2050920" cy="16286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0415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260280"/>
            <a:ext cx="7704360" cy="2546280"/>
          </a:xfrm>
          <a:prstGeom prst="ellipse">
            <a:avLst/>
          </a:prstGeom>
          <a:solidFill>
            <a:srgbClr val="055495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  <a:ea typeface="幼圆"/>
              </a:rPr>
              <a:t>做时间的主人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64000" y="2781360"/>
            <a:ext cx="1584360" cy="2448000"/>
          </a:xfrm>
          <a:prstGeom prst="downArrow">
            <a:avLst>
              <a:gd name="adj1" fmla="val 50000"/>
              <a:gd name="adj2" fmla="val 38628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63640" y="5300640"/>
            <a:ext cx="5184720" cy="1312920"/>
          </a:xfrm>
          <a:prstGeom prst="rect">
            <a:avLst/>
          </a:prstGeom>
          <a:solidFill>
            <a:srgbClr val="66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8000" spc="-1" strike="noStrike">
                <a:solidFill>
                  <a:srgbClr val="ffffff"/>
                </a:solidFill>
                <a:latin typeface="Times New Roman"/>
              </a:rPr>
              <a:t>科学安排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0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bb5f0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eec94"/>
                </a:solidFill>
                <a:latin typeface="Times New Roman"/>
                <a:ea typeface="黑体"/>
              </a:rPr>
              <a:t>烦恼的小东</a:t>
            </a:r>
            <a:endParaRPr b="1" lang="en-US" sz="6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90512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小东近日非常烦恼，因为他这次期中考试，有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门功课大红灯笼高高挂。尤其是英语，单词老记不住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每天晚上，做功课时，碰到难题，小东就留着第二天再说。单词记不住也是如此。现在，面对成绩单，他很烦恼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34080"/>
            <a:ext cx="10260000" cy="119124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思考：是什么原因使小东烦恼？以后他该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么做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75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eec94"/>
                </a:solidFill>
                <a:latin typeface="Arial"/>
                <a:ea typeface="幼圆"/>
              </a:rPr>
              <a:t>想一想</a:t>
            </a:r>
            <a:r>
              <a:rPr b="1" lang="zh-CN" sz="8000" spc="-1" strike="noStrike">
                <a:solidFill>
                  <a:srgbClr val="feec94"/>
                </a:solidFill>
                <a:latin typeface="Arial"/>
              </a:rPr>
              <a:t>：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844640"/>
            <a:ext cx="973440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黑体"/>
              </a:rPr>
              <a:t>《匆匆》片段所描述的是什么？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2680" y="2057400"/>
            <a:ext cx="353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343400"/>
            <a:ext cx="239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5013360"/>
            <a:ext cx="1905120" cy="1611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04156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189000"/>
            <a:ext cx="7921440" cy="2473200"/>
          </a:xfrm>
          <a:prstGeom prst="ellipse">
            <a:avLst/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Times New Roman"/>
              </a:rPr>
              <a:t>做时间的主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51280" y="2637000"/>
            <a:ext cx="1512720" cy="2376360"/>
          </a:xfrm>
          <a:prstGeom prst="downArrow">
            <a:avLst>
              <a:gd name="adj1" fmla="val 50000"/>
              <a:gd name="adj2" fmla="val 39273"/>
            </a:avLst>
          </a:prstGeom>
          <a:blipFill rotWithShape="0">
            <a:blip r:embed="rId2"/>
            <a:srcRect/>
            <a:stretch/>
          </a:blip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79640" y="5084640"/>
            <a:ext cx="5400720" cy="143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8800" spc="-1" strike="noStrike">
                <a:solidFill>
                  <a:srgbClr val="ffffff"/>
                </a:solidFill>
                <a:latin typeface="Times New Roman"/>
              </a:rPr>
              <a:t>抓住今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indefinite"/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Times New Roman"/>
              </a:rPr>
              <a:t>第五课   珍惜时间  勤奋学习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2680" y="2057400"/>
            <a:ext cx="360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一、珍惜时间    珍惜青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327672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时间的特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819520" y="3124080"/>
            <a:ext cx="380880" cy="914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48120" y="289548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一去不复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71800" y="3809880"/>
            <a:ext cx="23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有弹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3581280"/>
            <a:ext cx="457200" cy="914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46480" y="3429000"/>
            <a:ext cx="2561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抓紧时间，就多；反之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则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34120" y="4343400"/>
            <a:ext cx="32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时间不变，效率各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800" y="48211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4572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前人榜样，惜取少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5334120"/>
            <a:ext cx="24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做时间的主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0400" y="5181480"/>
            <a:ext cx="152280" cy="106704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510552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充分利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560376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科学安排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555000" y="606096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抓住今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3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3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8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9640" y="1700280"/>
            <a:ext cx="896472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用什么样的方式才叫珍惜时间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remove" presetClass="emph" presetID="3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646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647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648" dur="5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49" dur="2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8360" y="2852640"/>
            <a:ext cx="83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制订一份自己每天的作息时间表，安排一天的学习和休息时间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eec94"/>
                </a:solidFill>
                <a:latin typeface="Times New Roman"/>
              </a:rPr>
              <a:t>建    议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76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64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0" y="-168120"/>
            <a:ext cx="9144000" cy="7034040"/>
            <a:chOff x="0" y="-168120"/>
            <a:chExt cx="9144000" cy="7034040"/>
          </a:xfrm>
        </p:grpSpPr>
        <p:pic>
          <p:nvPicPr>
            <p:cNvPr id="256" name="" descr=""/>
            <p:cNvPicPr/>
            <p:nvPr/>
          </p:nvPicPr>
          <p:blipFill>
            <a:blip r:embed="rId1"/>
            <a:stretch/>
          </p:blipFill>
          <p:spPr>
            <a:xfrm>
              <a:off x="0" y="-168120"/>
              <a:ext cx="9144000" cy="70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335640" y="5696640"/>
              <a:ext cx="280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ffff"/>
                  </a:solidFill>
                  <a:latin typeface="Arial"/>
                </a:rPr>
                <a:t>北京大学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11280" y="692280"/>
            <a:ext cx="806436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好好学习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             </a:t>
            </a:r>
            <a:r>
              <a:rPr b="1" lang="zh-CN" sz="8000" spc="-1" strike="noStrike">
                <a:solidFill>
                  <a:srgbClr val="ff00ff"/>
                </a:solidFill>
                <a:latin typeface="Times New Roman"/>
              </a:rPr>
              <a:t>天天向上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468360" y="-123840"/>
            <a:ext cx="9612360" cy="698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924360" y="189000"/>
            <a:ext cx="1655640" cy="1368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cc0000"/>
                </a:solidFill>
                <a:latin typeface="Comic Sans MS"/>
                <a:ea typeface="华文彩云"/>
              </a:rPr>
              <a:t>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635280" y="2205000"/>
            <a:ext cx="165744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cc0000"/>
                </a:solidFill>
                <a:latin typeface="Comic Sans MS"/>
                <a:ea typeface="华文彩云"/>
              </a:rPr>
              <a:t>拜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9280" y="3500280"/>
            <a:ext cx="3529080" cy="2159280"/>
          </a:xfrm>
          <a:prstGeom prst="irregularSeal1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Comic Sans MS"/>
                <a:ea typeface="华文新魏"/>
              </a:rPr>
              <a:t>要努力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000"/>
                            </p:stCondLst>
                            <p:childTnLst>
                              <p:par>
                                <p:cTn id="681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23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73200" y="1816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900000" y="1700280"/>
            <a:ext cx="7704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什么是时间</a:t>
            </a:r>
            <a:r>
              <a:rPr b="1" lang="en-US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微软雅黑"/>
              </a:rPr>
              <a:t>?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微软雅黑"/>
              <a:ea typeface="微软雅黑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6156360" y="4869000"/>
            <a:ext cx="298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505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9bf7d2"/>
                </a:solidFill>
                <a:latin typeface="Times New Roman"/>
                <a:ea typeface="华文彩云"/>
              </a:rPr>
              <a:t>说一说：</a:t>
            </a:r>
            <a:endParaRPr b="1" lang="en-US" sz="8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9640" y="1773360"/>
            <a:ext cx="8280360" cy="46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请说出关于时间的名言名句。</a:t>
            </a:r>
            <a:endParaRPr b="1" lang="en-US" sz="6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260280"/>
            <a:ext cx="88930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节约时间，也就是使一个人的有限的生命，更加有效，而也就等于延长了 人的寿命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——鲁  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我以为世间最可贵的就是“今”，最易丧失得也是“今”。因为它最容易丧失，所以更觉得它宝贵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——李大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必须记住我们学习的时间是有限的。时间有限，不只是由于人生短促，更由于人事纷繁。我们应该力求把我们所有的时间用去做最有益的事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——斯宾塞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一个人越知道时间的价值，越倍觉失时的痛苦呀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　　——但  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588000" y="4941720"/>
            <a:ext cx="2376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343080" y="260280"/>
            <a:ext cx="1521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认真做事只是把事情做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0920" y="260280"/>
            <a:ext cx="1521000" cy="68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用心做事才能把事情做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666880" y="0"/>
            <a:ext cx="6477120" cy="6858000"/>
            <a:chOff x="2666880" y="0"/>
            <a:chExt cx="6477120" cy="6858000"/>
          </a:xfrm>
        </p:grpSpPr>
        <p:pic>
          <p:nvPicPr>
            <p:cNvPr id="146" name="" descr=""/>
            <p:cNvPicPr/>
            <p:nvPr/>
          </p:nvPicPr>
          <p:blipFill>
            <a:blip r:embed="rId1"/>
            <a:stretch/>
          </p:blipFill>
          <p:spPr>
            <a:xfrm>
              <a:off x="2666880" y="0"/>
              <a:ext cx="6477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059280" y="558972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Arial"/>
                </a:rPr>
                <a:t>厦门大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900000" y="5805360"/>
              <a:ext cx="29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50021"/>
                  </a:solidFill>
                  <a:latin typeface="Arial"/>
                </a:rPr>
                <a:t>清华大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333000"/>
            <a:ext cx="896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自信——成功的第一秘诀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671800" y="0"/>
            <a:ext cx="34722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生命是以时间为单位的，浪费别人的时间等于谋财害命；浪费自己的时间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隶书"/>
              </a:rPr>
              <a:t>等于慢性自杀。—— 鲁迅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12:54:52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26Z</dcterms:modified>
  <cp:revision>27</cp:revision>
  <dc:subject>主题班会课件(分28大类): http://shop62905894.taobao.com</dc:subject>
  <dc:title>主题班会课件(分28大类): http://shop62905894.taobao.com</dc:title>
</cp:coreProperties>
</file>