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3.gif" ContentType="image/gif"/>
  <Override PartName="/ppt/media/image22.png" ContentType="image/png"/>
  <Override PartName="/ppt/media/image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jpeg" ContentType="image/jpeg"/>
  <Override PartName="/ppt/media/image13.jpeg" ContentType="image/jpeg"/>
  <Override PartName="/ppt/media/image20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12B2-125E-49CD-A354-25F2AF7A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9759-0B05-47B4-9308-66E5A871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DF44-38AF-402D-8F99-1E0BD78F7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119F-9C07-48C3-B0E4-9A5D32B2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5AA6F-2636-4D8B-BB1E-68C96082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DF65-97CF-4061-8DB0-A20D741C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FEC2-3CC5-473F-BEFD-97E8F6F5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F05F-C35C-45D9-A26D-0C9418E4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A166-0BE3-4EDB-8B4A-96DA1FFD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8156-25D6-4497-9377-588DCCEF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2FBD-5103-4524-B0A2-A7D2CEAB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6B1-F0E8-4F15-A2E6-4009FE8E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6A65-BA43-40A2-8D8F-0C7FB3E8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D5A6-CC34-42DC-A671-7B3A321F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7D99-665A-4070-89F2-EE3A9FCE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77CD-4F2D-4CEE-B463-3736B5A83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02F8-6A92-4E06-99DE-B4DFFFDD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DD892-0BB8-422A-A78E-BD145434A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A90E-68E1-4AB8-9770-7939D265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B4BA-9498-42F8-9283-B3A05A1F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B08D4-7CF2-4FB3-9070-ADBCB116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D7241-910F-4480-88CF-D5CFC528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EE38-D4BD-4961-832A-C9B368D86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858B5-FCCD-473E-A7D5-8A408FA2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4C2A5-BF10-4E3F-B63B-DF699733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86FE8-00CE-47EF-9527-F3C3FEC3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1C760-2E78-453A-8CEF-8988B263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EEB2-86E4-4299-BE8F-975FF1B9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DB5D-8656-4A49-81AB-38A0E70D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9B3E-E35C-411D-AAB9-16C92271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E3EF7-1CAA-48DD-87CB-AE4DBC4D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1138-D1A1-4886-BC73-EB5CE46E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8ABEA-CB2A-4AF0-AE40-BDE66742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9F89-E69C-4238-B30F-AB89891FE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E404C-EFEE-4393-9731-4CA588D50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942FF-4287-455B-81EB-3FC268F4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6EBC4-4728-4B39-B426-7AF4832C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915DD-11DF-4638-BFAC-48A73D7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1D13-8BC5-4B97-87F4-C074CDEA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EEE2A-7E24-40E5-B73C-F9AA5CFD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0632F-C1D4-4C02-8DF1-9CDD906E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3ADB4-3940-47A4-BE5B-BF8308C9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33992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704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D4B64-CC0C-4525-98BE-6AAF21CAB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E0D-0320-4F12-B7CB-89F8DD85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7360"/>
            <a:ext cx="82296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6257-3E24-414C-A357-AFC38CE3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41EF-775B-4C0D-940D-6F5A4F19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704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34D-C326-4B88-89C2-D60FDFA6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95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992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04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C5F9-E68F-4EA9-8B44-C2F65923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A4A4-5D28-4144-B5DD-BF39F8D661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8751-BF59-43E6-82C5-D85A97190D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992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F17A-72D3-4FE2-ADC9-C88545A8C3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E00D-FC1E-476F-85EA-EF07BDEDB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光荣啊</a:t>
            </a: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!</a:t>
            </a:r>
            <a:r>
              <a:rPr b="1" lang="zh-CN" sz="4400" spc="-1" strike="noStrike">
                <a:solidFill>
                  <a:srgbClr val="000000"/>
                </a:solidFill>
                <a:latin typeface="Arial Black"/>
              </a:rPr>
              <a:t>中国共青团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2360" y="836640"/>
            <a:ext cx="792648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我们是五月的花海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用青春拥抱时代；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我们是初升的太阳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用生命点燃未来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“五四”的火炬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唤起了民族的觉醒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壮丽的事业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激励着我们继往开来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光荣啊，中国共青团，光荣啊，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　中国共青团。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  <a:p>
            <a:pPr marL="274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　母亲用共产主义为我们命名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Rounded MT Bold"/>
              </a:rPr>
              <a:t>我们开创新的世界</a:t>
            </a:r>
            <a:endParaRPr b="0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66" name="光荣啊中国共青团 中国共产主义青年团代团歌" descr=""/>
          <p:cNvPicPr/>
          <p:nvPr/>
        </p:nvPicPr>
        <p:blipFill>
          <a:blip r:embed="rId2"/>
          <a:stretch/>
        </p:blipFill>
        <p:spPr>
          <a:xfrm>
            <a:off x="8820000" y="652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27138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362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如何在竞争中取胜？我们先来看一下在小学数学中就已经学过的一个公式：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距离 </a:t>
            </a: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= 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速度 </a:t>
            </a: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× </a:t>
            </a: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时间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。所以你想在比赛中超过对手，首先是速度要快，其次是时间要长，这样才能使你跑在前面。如果你跑的路线能比别人更短，而路上的障碍却比别人更少，那么冠军就非你莫属了。就学习而言，大家的绝对时间是一样的，你若想比别人学得好，首先要提高学习的效率，使速度加快，这就需要掌握正确的学习方法；其次是延长有效学习时间，因此应该保证足够的营养和必需的睡眠，使大脑始终保持清醒而不过度疲劳；如果你善于思考，善于归纳总结和探寻规律，做的习题不需要很多就可以达到同样的效果，路程就可以缩短；再加上多注意各学科、各章节之间的联系，从多个角度看问题，就容易从整体上和细节上同时把握知识的内容，使你的思路更加开阔，而不会被假象所迷惑，从而减少了学习中的障碍。如此这般，其结果就不言而喻了吧！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advTm="20000">
    <p:random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610920" y="1269720"/>
            <a:ext cx="800244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 Rounded MT Bold"/>
              </a:rPr>
              <a:t>想一想这个问题：奔驰跑得快？还是拖拉机跑得快？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advTm="8000"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with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animClr clrSpc="rgb">
                                      <p:cBhvr>
                                        <p:cTn id="237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238" dur="47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41" dur="1500" fill="hold">
                                          <p:stCondLst>
                                            <p:cond delay="35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应该几乎所有的学生都回答说：“奔驰跑得快。”然而事实上并不总是如此，关键是要看跑在什么路上。如果奔驰汽车跑在繁华的闹市区，刚一启动，前面突然有一个行人横穿马路，你不得不紧急刹车，再次启动时，前面又有一辆自行车停在前面，你不得不再次刹车，总之你是跑不起来。而拖拉机则是跑在公路上，前面基本上没有任何阻挡，“突、突、突”一个劲朝前跑，当然跑得快了。许多学生脑袋瓜很聪明，反应很快，比“奔驰”性能要好得多，但由于学习习惯不好，学习潜力不能得到充分发挥，学习时，你看他一会儿喝水，一会儿上厕所，一会儿笔坏了又去修笔，一会儿又和旁边的同学讲话。总之，他的学习思路总是被打断，他的“奔驰”总也不能全速前进，连续的学习时间又很短，所以学习效果不好是肯定的。学生学习时，一般都要求他们连续学习两个小时，中间一般不休息。眼睛不好的学生可以学习一小时之后去望望远，调节一下视力。其实大多数孩子学进去了，两小时不知不觉很快就过去了，基本上没有人说学习时间长了，都说时间过得太快了。学生普遍反应学习效率大为提高，两小时可以学很多内容，解题的数量也大大增加。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advTm="33000">
    <p:random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736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</a:rPr>
              <a:t>种方法提高学习效率</a:t>
            </a:r>
            <a:endParaRPr b="1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2000" y="907560"/>
            <a:ext cx="843444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 Rounded MT Bold"/>
              </a:rPr>
              <a:t>一、理清体系，把握总体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　　自考生自学任何一门课程，都要从总体上把握教材的体系，以便准确的把握教材的内容。要做到这一点，自考生可通过阅读教材目录来掌握教材的结构，以便抓住贯穿教材的主线，理解和掌握和章节之间的相互关系，从而为下一步的深入学习提供一条比较清晰的思路。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r>
              <a:rPr b="1" lang="zh-CN" sz="2400" spc="-1" strike="noStrike">
                <a:solidFill>
                  <a:srgbClr val="0000ff"/>
                </a:solidFill>
                <a:latin typeface="Arial Rounded MT Bold"/>
              </a:rPr>
              <a:t>二、分清主次，突出重点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 Rounded MT Bold"/>
              </a:rPr>
              <a:t>自学教材的过程中，就要注意找重点、抓重点、把握重点和掌握重点。找重点，但不一定非得单一地从考试的角度来理解重点和抓重点。一般说来，教材的重点是多层次的，既有全书的重点，也有每个单元的重点，还有每一个章节甚至每一个问题的重点。同时，对于每一个基本概念，基本理论甚至每一个问题的重点字、句也不能忽视。抓住每个层次的重点，着重学习，深刻理解，准确记忆，不断巩固，就能收到以点带面，全面掌握的效果。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random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2915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 Rounded MT Bold"/>
              </a:rPr>
              <a:t>三、多找疑问，加深理解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　　对教材中的一些难点，疑点和重点问题，要多问几个“是什么”“为什么”然后多动脑，多动手，多思考，找答案。这样带着问题学习，目的性强，思想容易集中，有利于自学，有利于加深理解，也有利于提高记忆效率，收到事半功倍的效果。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　</a:t>
            </a:r>
            <a:r>
              <a:rPr b="0" lang="zh-CN" sz="2400" spc="-1" strike="noStrike">
                <a:solidFill>
                  <a:srgbClr val="0000ff"/>
                </a:solidFill>
                <a:latin typeface="Arial Rounded MT Bold"/>
              </a:rPr>
              <a:t>　四、纵横联系，融会贯通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　　同一本教材的不同章节之间，甚至每年开考的不同课程之间，都存在着一定的联系。因此，不论学习什么内容，都要注意运用联系的方法，使前后内容相互贯通。这样做，既有利于消化新学知识，又有利于使自己的思维得以扩展，又能使自己的认识进一步深化和提高，收到温故而知新的效果。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8000" y="475920"/>
            <a:ext cx="8650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 Rounded MT Bold"/>
              </a:rPr>
              <a:t>五、联系实际，活学活用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理论联系实际，历史联系现实，这是学习的最基本的方法。我们在学教材的过程中，要想掌握新学的理论知识，就不能靠死记硬背，更不能依赖现成的“标准答案”，关键在于分析和理解，要“活”学，不要“死”学，要把基本理论分析清楚，理解透彻，掌握牢固。另一方面，还要学会运用。在自学过程中，要注意工作实际和思想实际，有意识地将学过的知识一点一点地逐步加以运用。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这样做，既能启迪对理论精髓的深刻认识，又能提高运用理论知识分析问题和解决问题的能力。同时，在工作中对理论知识的运用，本身又是一次再学习，再深化，再提高的过程，是一种高层次的学习。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 Rounded MT Bold"/>
              </a:rPr>
              <a:t>六、借助图表，消除难点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在教材内容比较复杂或难以记忆时，我们就有必要勾画一幅纲目清晰的教材结构图表来帮助自学和记忆。这样做，一是在勾画中加深对教材的理解，二是为下一步的全面复习和重点掌握节省时间。勾画图表时，要按照从左往右、从上到下的顺序和由大到小、层层分解、逐步深入的原则进行认真地分析和综合，并把每一层次的重点据其因果关系和逻辑关系等构成知识网络图。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知识网络图可大可小，可详可略，完全根据个人自学和复习的情况来定，要灵活掌握。利用图表进行自学，提纲挈领，既有利于重点深入，又有利于全面把握，对圆满完成自学任务具有非常重要的作用。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random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23640" y="1125360"/>
            <a:ext cx="885636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最后再作下浅谈经验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经验一</a:t>
            </a:r>
            <a:r>
              <a:rPr b="0" lang="en-US" sz="2800" spc="-1" strike="noStrike">
                <a:solidFill>
                  <a:srgbClr val="0000ff"/>
                </a:solidFill>
                <a:latin typeface="Arial Rounded MT Bold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，不妨给自己定一些时间限制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连续长时间的学习很容易使自己产生厌烦情绪，这时可以把功课分成若干个部分，把每一部分限定时间，例如一小时内完成这份练习，八点以前做完那份测试等等，这样不仅有助于提高效率，还不会产生疲劳感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如果可能的话，逐步缩短所用的时间，不久你就会发现，以前一小时都完不成的作业，现在四十分钟就完成了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，不要在学习的同时干其他事或想其他事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一心不能二用的道理谁都明白，可还是有许多同学在边学习边听音乐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或许你会说听音乐是放松神经的好办法，那么你尽可以专心的学习一小时后全身放松地听一刻钟音乐，这样比带着耳机做功课的效果好多了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，不要整个晚上都复习同一门功课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以前也曾经常用一个晚上来看数学或物理，实践证明，这样做非但容易疲劳，而且效果也很差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后来我在每晚安排复习两三门功课，情况要好多了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除了十分重要的内容以外，课堂上不必记很详细的笔记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如果课堂上忙于记笔记，听课的效率一定不高，况且你也不能保证课后一定会去看笔记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课堂上所做的主要工作应当是把老师的讲课消化吸收，适当做一些简要的笔记即可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8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8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8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-89280" y="120600"/>
            <a:ext cx="9232920" cy="69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 Rounded MT Bold"/>
              </a:rPr>
              <a:t>经验二</a:t>
            </a:r>
            <a:r>
              <a:rPr b="1" lang="zh-CN" sz="2400" spc="-1" strike="noStrike">
                <a:solidFill>
                  <a:srgbClr val="0000ff"/>
                </a:solidFill>
                <a:latin typeface="Arial Rounded MT Bold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如何提高学习效率呢？ 最重要的一条就是</a:t>
            </a:r>
            <a:r>
              <a:rPr b="1" lang="zh-CN" sz="1600" spc="-1" strike="noStrike">
                <a:solidFill>
                  <a:srgbClr val="0000ff"/>
                </a:solidFill>
                <a:latin typeface="Arial Rounded MT Bold"/>
              </a:rPr>
              <a:t>劳逸结合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学习效率的提高最需要的是清醒敏捷的头脑，所以适当的休息，娱乐不仅仅是有好处的，更是必要的，是提高各项学习效率的基础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那么上课时的听课效率如何提高呢 以我的经历来看，课前要有一定的预习，这是必要的，不过我的预习比较粗略，无非是走马观花地看一下课本，这样课本上讲的内容，重点大致在心里有个谱了，听起课来就比较有针对性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预习时，我们不必搞得太细，如果过细一是浪费时间，即使上课时未免会有些松懈，有时反而忽略了最有用的东西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上课时认真听课当然是必须的，但就象我以前一个老师讲的，任何人也无法集中精力一节课，就是说，连续四十多分钟集中精神不走神，是不太可能的，所以上课期间也有一个时间分配的问题，老师讲有些很熟悉的东西时，可以适当地放松一下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另外，记笔记有时也会妨碍课堂听课效率，有时一节课就忙着抄笔记了，这样做，有时会忽略一些很重要的东西，但这并不等于说可以不抄笔记，不抄笔记是不行的，人人都会遗忘，有了笔记，复习时才有基础，有时老师讲得很多，在黑板上记得也很多，但并不需要全记，书上有的东西当然不要记，要记一些书上没有的定理定律，典型例题与典型解法，这些才是真正有价值去记的东西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否则见啥记啥，势必影响课上听课的效率，得不偿失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作题的效率如何提高呢 ？最重要的是</a:t>
            </a:r>
            <a:r>
              <a:rPr b="1" lang="zh-CN" sz="1600" spc="-1" strike="noStrike">
                <a:solidFill>
                  <a:srgbClr val="0000ff"/>
                </a:solidFill>
                <a:latin typeface="Arial Rounded MT Bold"/>
              </a:rPr>
              <a:t>选</a:t>
            </a:r>
            <a:r>
              <a:rPr b="1" lang="zh-CN" sz="1600" spc="-1" strike="noStrike">
                <a:solidFill>
                  <a:srgbClr val="0000ff"/>
                </a:solidFill>
                <a:latin typeface="Arial Rounded MT Bold"/>
              </a:rPr>
              <a:t>"</a:t>
            </a:r>
            <a:r>
              <a:rPr b="1" lang="zh-CN" sz="1600" spc="-1" strike="noStrike">
                <a:solidFill>
                  <a:srgbClr val="0000ff"/>
                </a:solidFill>
                <a:latin typeface="Arial Rounded MT Bold"/>
              </a:rPr>
              <a:t>好题</a:t>
            </a:r>
            <a:r>
              <a:rPr b="1" lang="zh-CN" sz="1600" spc="-1" strike="noStrike">
                <a:solidFill>
                  <a:srgbClr val="0000ff"/>
                </a:solidFill>
                <a:latin typeface="Arial Rounded MT Bold"/>
              </a:rPr>
              <a:t>"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，千万不能见题就作，不分青红皂白，那样的话往往会事倍功半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题都是围绕着知识点进行的，而且很多题是相当类似的，首先选择想要得到强化的知识点，然后围绕这个知识点来选择题目，题并不需要多，类似的题只要一个就足够，选好题后就可以认真地去做了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作题效率的提高，很大程度上还取决于作题之后的过程，对于做错的题，应当认真思考错误的原因，是知识点掌握不清还是因为马虎大意，分析过之后再做一遍以加深印象，这样作题效率就会高得多</a:t>
            </a:r>
            <a:r>
              <a:rPr b="1" lang="zh-CN" sz="16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 Rounded MT Bold"/>
              </a:rPr>
              <a:t>同学对于听课和做题的建议，实际上反应了提高学习效率的一个重要方法</a:t>
            </a:r>
            <a:r>
              <a:rPr b="1" lang="zh-CN" sz="2000" spc="-1" strike="noStrike">
                <a:solidFill>
                  <a:srgbClr val="0000ff"/>
                </a:solidFill>
                <a:latin typeface="Arial Rounded MT Bold"/>
              </a:rPr>
              <a:t>--"</a:t>
            </a:r>
            <a:r>
              <a:rPr b="1" lang="zh-CN" sz="2000" spc="-1" strike="noStrike">
                <a:solidFill>
                  <a:srgbClr val="0000ff"/>
                </a:solidFill>
                <a:latin typeface="Arial Rounded MT Bold"/>
              </a:rPr>
              <a:t>把劲儿使在刀刃上</a:t>
            </a:r>
            <a:r>
              <a:rPr b="1" lang="zh-CN" sz="2000" spc="-1" strike="noStrike">
                <a:solidFill>
                  <a:srgbClr val="0000ff"/>
                </a:solidFill>
                <a:latin typeface="Arial Rounded MT Bold"/>
              </a:rPr>
              <a:t>"</a:t>
            </a:r>
            <a:r>
              <a:rPr b="1" lang="zh-CN" sz="2000" spc="-1" strike="noStrike">
                <a:solidFill>
                  <a:srgbClr val="0000ff"/>
                </a:solidFill>
                <a:latin typeface="Arial Rounded MT Bold"/>
              </a:rPr>
              <a:t>，即合理分配时间，听课，记笔记应抓住重点，做习题应抓住典型，这就是学习中的</a:t>
            </a:r>
            <a:r>
              <a:rPr b="1" lang="zh-CN" sz="2000" spc="-1" strike="noStrike">
                <a:solidFill>
                  <a:srgbClr val="0000ff"/>
                </a:solidFill>
                <a:latin typeface="Arial Rounded MT Bold"/>
              </a:rPr>
              <a:t>"</a:t>
            </a:r>
            <a:r>
              <a:rPr b="1" lang="zh-CN" sz="2000" spc="-1" strike="noStrike">
                <a:solidFill>
                  <a:srgbClr val="0000ff"/>
                </a:solidFill>
                <a:latin typeface="Arial Rounded MT Bold"/>
              </a:rPr>
              <a:t>事半功倍</a:t>
            </a:r>
            <a:r>
              <a:rPr b="1" lang="zh-CN" sz="2000" spc="-1" strike="noStrike">
                <a:solidFill>
                  <a:srgbClr val="0000ff"/>
                </a:solidFill>
                <a:latin typeface="Arial Rounded MT Bold"/>
              </a:rPr>
              <a:t>".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262080"/>
            <a:ext cx="9036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 Rounded MT Bold"/>
              </a:rPr>
              <a:t>经验三</a:t>
            </a:r>
            <a:r>
              <a:rPr b="0" lang="en-US" sz="2000" spc="-1" strike="noStrike">
                <a:solidFill>
                  <a:srgbClr val="0000ff"/>
                </a:solidFill>
                <a:latin typeface="Arial Rounded MT Bold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学习效率是决定学习成绩的重要因素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那么，我们如何提高自己学习效率呢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 Rounded MT Bold"/>
              </a:rPr>
              <a:t>第一点，要自信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很多的科学研究都证明，人的潜力是很大的，但大多数人并没有有效地开发这种潜力，这其中，人的自信力是很重要的一个方面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无论何时何地，你做任何事情，有了这种自信力，你就有了一种必胜的信念，而且能使你很快就摆脱失败的阴影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相反，一个人如果失掉了自信，那他就会一事无成，而且很容易陷入永远的自卑之中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提高学习效率的另一个重要的手段是学会用心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学习的过程，应当是用脑思考的过程，无论是用眼睛看，用口读，或者用手抄写，都是作为辅助用脑的手段，真正的关键还在于用脑子去想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举一个很浅显的例子，比如说记单词，如果你只是随意的浏览或漫无目的地抄写，也许要很多遍才能记住，而且不容易记牢，而如果你能充分发挥自己的想象力，运用联想的方法去记忆，往往可以记得很快，而且不容易遗忘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现在很多书上介绍的英语单词快速记忆的方法，也都是强调用脑筋联想的作用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可见，如果能做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到集中精力，发挥脑的潜力，一定可以大大提高学习的效果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另一个影响到学习效率的重要因素是人的情绪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想，每个人都曾经有过这样的体会，如果某一天，自己的精神饱满而且情绪高涨，那样在学习一样东西时就会感到很轻松，学的也很快，其实这正是我们的学习效率高的时候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因此，保持自我情绪的良好是十分重要的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我们在日常生活中，应当有较为开朗的心境，不要过多地去想那些不顺心的事，而且我们要以一种热情向上的乐观生活态度去对待周围的人和事，因为这样无论对别人还是对自己都是很有好处的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 Rounded MT Bold"/>
              </a:rPr>
              <a:t>这样，我们就能在自己的周围营造一个十分轻松的氛围，学习起来也就感到格外的有精神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6589800" y="6165720"/>
            <a:ext cx="1295280" cy="360360"/>
          </a:xfrm>
          <a:custGeom>
            <a:avLst/>
            <a:gdLst>
              <a:gd name="textAreaLeft" fmla="*/ 23040 w 1295280"/>
              <a:gd name="textAreaRight" fmla="*/ 1272240 w 1295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7583" h="21600">
                <a:moveTo>
                  <a:pt x="0" y="0"/>
                </a:moveTo>
                <a:lnTo>
                  <a:pt x="77583" y="0"/>
                </a:lnTo>
                <a:lnTo>
                  <a:pt x="77583" y="21600"/>
                </a:lnTo>
                <a:lnTo>
                  <a:pt x="0" y="21600"/>
                </a:lnTo>
                <a:close/>
              </a:path>
              <a:path fill="lightenLess" w="77583" h="21600">
                <a:moveTo>
                  <a:pt x="0" y="0"/>
                </a:moveTo>
                <a:lnTo>
                  <a:pt x="77583" y="0"/>
                </a:lnTo>
                <a:lnTo>
                  <a:pt x="76183" y="1400"/>
                </a:lnTo>
                <a:lnTo>
                  <a:pt x="1400" y="1400"/>
                </a:lnTo>
                <a:close/>
              </a:path>
              <a:path fill="darken" w="77583" h="21600">
                <a:moveTo>
                  <a:pt x="77583" y="0"/>
                </a:moveTo>
                <a:lnTo>
                  <a:pt x="77583" y="21600"/>
                </a:lnTo>
                <a:lnTo>
                  <a:pt x="76183" y="20200"/>
                </a:lnTo>
                <a:lnTo>
                  <a:pt x="76183" y="1400"/>
                </a:lnTo>
                <a:close/>
              </a:path>
              <a:path fill="darkenLess" w="77583" h="21600">
                <a:moveTo>
                  <a:pt x="775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183" y="20200"/>
                </a:lnTo>
                <a:close/>
              </a:path>
              <a:path fill="lighten" w="775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7583" h="21600">
                <a:moveTo>
                  <a:pt x="31785" y="10800"/>
                </a:moveTo>
                <a:lnTo>
                  <a:pt x="45798" y="3794"/>
                </a:lnTo>
                <a:lnTo>
                  <a:pt x="457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4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0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52360" y="1628280"/>
            <a:ext cx="115092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 Rounded MT Bold"/>
              </a:rPr>
              <a:t>谢谢观看！</a:t>
            </a:r>
            <a:endParaRPr b="0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>
    <p:random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1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2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2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02253 0 -0.008997 0 -0.013519 C 0 -0.01804 -0.000845 -0.022608 0 -0.02713 C 0.000845 -0.031651 0.003657 -0.036142 0.005069 -0.040648 C 0.006481 -0.045154 0.007905 -0.050031 0.008472 -0.054167 C 0.009039 -0.058302 0.00706 -0.062068 0.008472 -0.065463 C 0.009884 -0.068858 0.013843 -0.072654 0.016944 -0.074537 C 0.020046 -0.07642 0.023692 -0.076019 0.027083 -0.076759 C 0.030475 -0.0775 0.0339 -0.078611 0.037292 -0.078981 C 0.040683 -0.079352 0.044329 -0.078981 0.047431 -0.078981 C 0.050532 -0.078981 0.053079 -0.078981 0.055903 -0.078981 C 0.058727 -0.078981 0.061551 -0.078981 0.064375 -0.078981 C 0.067199 -0.078981 0.070035 -0.079352 0.072847 -0.078981 C 0.07566 -0.078611 0.078993 -0.079012 0.08125 -0.076759 C 0.083507 -0.074506 0.084132 -0.069228 0.086389 -0.065463 C 0.088646 -0.061698 0.092535 -0.057932 0.094792 -0.054167 C 0.097049 -0.050401 0.097951 -0.046636 0.099931 -0.04287 C 0.10191 -0.039105 0.105255 -0.03571 0.106667 -0.031574 C 0.108079 -0.027438 0.108113 -0.022191 0.108403 -0.018056 C 0.108692 -0.01392 0.108403 -0.010895 0.108403 -0.006759 C 0.108403 -0.002623 0.108403 0.002253 0.108403 0.006759 C 0.108403 0.011265 0.108403 0.015756 0.108403 0.020278 C 0.108403 0.024799 0.108403 0.029367 0.108403 0.033889 C 0.108403 0.03841 0.108403 0.043272 0.108403 0.047407 C 0.108403 0.051543 0.108403 0.054938 0.108403 0.058704 C 0.108403 0.062469 0.108403 0.065864 0.108403 0.07 C 0.108403 0.074136 0.108403 0.079012 0.108403 0.083519 C 0.108403 0.088025 0.108403 0.092515 0.108403 0.097037 C 0.108403 0.101559 0.108403 0.105756 0.108403 0.110648 C 0.108403 0.11554 0.108403 0.121883 0.108403 0.126389 C 0.108403 0.130895 0.108403 0.13392 0.108403 0.137685 C 0.108403 0.141451 0.108403 0.144846 0.108403 0.148981 C 0.108403 0.153117 0.108403 0.158364 0.108403 0.1625 C 0.108403 0.166636 0.108403 0.16966 0.108403 0.173796 C 0.108403 0.177932 0.108692 0.183179 0.108403 0.187315 C 0.108113 0.191451 0.106956 0.194846 0.106667 0.198611 C 0.106377 0.202377 0.106667 0.206142 0.106667 0.209907 C 0.106667 0.213673 0.106667 0.217438 0.106667 0.221204 C 0.106667 0.224969 0.106667 0.228735 0.106667 0.2325 C 0.106667 0.236265 0.106667 0.240031 0.106667 0.243796 C 0.106667 0.247562 0.106667 0.251327 0.106667 0.255093 C 0.106667 0.258858 0.107234 0.262623 0.106667 0.266389 C 0.1061 0.270154 0.104109 0.273935 0.103264 0.277685 C 0.102419 0.281435 0.102153 0.285139 0.101597 0.288889 C 0.101042 0.292639 0.10162 0.29716 0.099931 0.300185 C 0.098241 0.30321 0.095417 0.305154 0.091458 0.307037 C 0.0875 0.30892 0.081262 0.310355 0.076181 0.311481 C 0.0711 0.312608 0.065197 0.31304 0.060972 0.313796 C 0.056748 0.314552 0.054225 0.315648 0.050833 0.316019 C 0.047442 0.316389 0.044016 0.316019 0.040625 0.316019 C 0.037234 0.316019 0.033588 0.316019 0.030486 0.316019 C 0.027384 0.316019 0.025961 0.316019 0.022014 0.316019 C 0.018067 0.316019 0.011042 0.316019 0.006806 0.316019 C 0.002569 0.316019 -1.19999999999999E-005 0.316019 -0.003403 0.316019 C -0.006794 0.316019 -0.00875 0.316019 -0.013542 0.316019 C -0.018333 0.316019 -0.026516 0.316019 -0.032153 0.316019 C -0.037789 0.316019 -0.042847 0.316019 -0.047361 0.316019 C -0.051875 0.316019 -0.055845 0.316019 -0.059236 0.316019 C -0.062627 0.316019 -0.064317 0.316019 -0.067708 0.316019 C -0.0711 0.316019 -0.075637 0.316019 -0.079583 0.316019 C -0.08353 0.316019 -0.087732 0.316019 -0.091389 0.316019 C -0.095046 0.316019 -0.098426 0.316019 -0.101528 0.316019 C -0.10463 0.316019 -0.107176 0.316019 -0.11 0.316019 C -0.112824 0.316019 -0.115081 0.316019 -0.118472 0.316019 C -0.121863 0.316019 -0.126678 0.316019 -0.130347 0.316019 C -0.134016 0.316019 -0.136817 0.316019 -0.140486 0.316019 C -0.144155 0.316019 -0.148692 0.316019 -0.152361 0.316019 C -0.15603 0.316019 -0.158831 0.316019 -0.1625 0.316019 C -0.166169 0.316019 -0.169294 0.316389 -0.174375 0.316019 C -0.179456 0.315648 -0.187627 0.314167 -0.192986 0.313796 C -0.198345 0.313426 -0.202581 0.313796 -0.206528 0.313796 C -0.210475 0.313796 -0.212153 0.313796 -0.216667 0.313796 C -0.221181 0.313796 -0.229375 0.313796 -0.233611 0.313796 C -0.237847 0.313796 -0.238414 0.313796 -0.242083 0.313796 C -0.245752 0.313796 -0.251111 0.314552 -0.255625 0.313796 C -0.260139 0.31304 -0.26522 0.310015 -0.269167 0.309259 C -0.273113 0.308503 -0.275069 0.309259 -0.279306 0.309259 C -0.283542 0.309259 -0.28978 0.310015 -0.294583 0.309259 C -0.299387 0.308503 -0.303044 0.305849 -0.308125 0.304722 C -0.313206 0.303596 -0.319988 0.30287 -0.325069 0.3025 C -0.33015 0.30213 -0.334097 0.3025 -0.338611 0.3025 C -0.343125 0.3025 -0.347928 0.3025 -0.352153 0.3025 C -0.356377 0.3025 -0.360579 0.3025 -0.363958 0.3025 C -0.367338 0.3025 -0.368472 0.303256 -0.372431 0.3025 C -0.376389 0.301744 -0.383194 0.298719 -0.387708 0.297963 C -0.392222 0.297207 -0.395567 0.297963 -0.399514 0.297963 C -0.403461 0.297963 -0.406875 0.297963 -0.411389 0.297963 C -0.415903 0.297963 -0.422083 0.297963 -0.426597 0.297963 C -0.431111 0.297963 -0.435081 0.297963 -0.438472 0.297963 C -0.441863 0.297963 -0.443553 0.297963 -0.446944 0.297963 C -0.450336 0.297963 -0.454873 0.297963 -0.458819 0.297963 C -0.462766 0.297963 -0.466678 0.297963 -0.470625 0.297963 C -0.474572 0.297963 -0.478264 0.297963 -0.4825 0.297963 C -0.486736 0.297963 -0.490961 0.297963 -0.496042 0.297963 C -0.501123 0.297963 -0.508472 0.297963 -0.512986 0.297963 C -0.5175 0.297963 -0.519456 0.297963 -0.523125 0.297963 C -0.526794 0.297963 -0.530486 0.297963 -0.535 0.297963 C -0.539514 0.297963 -0.545694 0.297963 -0.550208 0.297963 C -0.554722 0.297963 -0.557569 0.297963 -0.562083 0.297963 C -0.566597 0.297963 -0.572778 0.297963 -0.577292 0.297963 C -0.581806 0.297963 -0.585498 0.297963 -0.589167 0.297963 C -0.592836 0.297963 -0.595081 0.297963 -0.599306 0.297963 C -0.60353 0.297963 -0.610278 0.297963 -0.614514 0.297963 C -0.61875 0.297963 -0.621609 0.297963 -0.624722 0.297963 C -0.627836 0.297963 -0.630093 0.297963 -0.633194 0.297963 C -0.636296 0.297963 -0.639387 0.297963 -0.643333 0.297963 C -0.64728 0.297963 -0.653206 0.297963 -0.656875 0.297963 C -0.660544 0.297963 -0.662523 0.297963 -0.665347 0.297963 C -0.668171 0.297963 -0.670995 0.297963 -0.673819 0.297963 C -0.676644 0.297963 -0.678623 0.297963 -0.682292 0.297963 C -0.685961 0.297963 -0.691042 0.297963 -0.695833 0.297963 C -0.700625 0.297963 -0.706528 0.297963 -0.711042 0.297963 C -0.715556 0.297963 -0.719525 0.297963 -0.722917 0.297963 C -0.726308 0.297963 -0.728287 0.297963 -0.731389 0.297963 C -0.734491 0.297963 -0.738426 0.298333 -0.741528 0.297963 C -0.74463 0.297593 -0.746053 0.296497 -0.75 0.295741 C -0.753947 0.294985 -0.760984 0.293812 -0.765208 0.293426 C -0.769433 0.29304 -0.7714 0.293796 -0.775347 0.293426 C -0.779294 0.293056 -0.784931 0.29196 -0.788889 0.291204 C -0.792847 0.290448 -0.79544 0.289275 -0.799097 0.288889 C -0.802755 0.288503 -0.807176 0.288889 -0.810833 0.288889 C -0.814491 0.288889 -0.81765 0.288889 -0.821042 0.288889 C -0.824433 0.288889 -0.828079 0.288889 -0.831181 0.288889 C -0.834282 0.288889 -0.836829 0.288889 -0.839653 0.288889 C -0.842477 0.288889 -0.846713 0.288889 -0.848125 0.288889 E">
                                      <p:cBhvr>
                                        <p:cTn id="425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212720" y="4365360"/>
            <a:ext cx="3429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zh-CN" sz="800" spc="-1" strike="noStrike">
                <a:solidFill>
                  <a:srgbClr val="0000ff"/>
                </a:solidFill>
                <a:latin typeface="Arial Rounded MT Bold"/>
              </a:rPr>
              <a:t>            </a:t>
            </a:r>
            <a:r>
              <a:rPr b="0" lang="zh-CN" sz="1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zh-CN" sz="800" spc="-1" strike="noStrike">
                <a:solidFill>
                  <a:srgbClr val="0000ff"/>
                </a:solidFill>
                <a:latin typeface="Arial Rounded MT Bold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 Rounded MT Bold"/>
              </a:rPr>
              <a:t>高一（</a:t>
            </a:r>
            <a:r>
              <a:rPr b="0" lang="en-US" sz="2400" spc="-1" strike="noStrike">
                <a:solidFill>
                  <a:srgbClr val="0000ff"/>
                </a:solidFill>
                <a:latin typeface="Arial Rounded MT Bold"/>
              </a:rPr>
              <a:t>10</a:t>
            </a:r>
            <a:r>
              <a:rPr b="0" lang="zh-CN" sz="2400" spc="-1" strike="noStrike">
                <a:solidFill>
                  <a:srgbClr val="0000ff"/>
                </a:solidFill>
                <a:latin typeface="Arial Rounded MT Bold"/>
              </a:rPr>
              <a:t>）班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 Rounded MT Bold"/>
              </a:rPr>
              <a:t>                                                       </a:t>
            </a:r>
            <a:r>
              <a:rPr b="0" lang="zh-CN" sz="2400" spc="-1" strike="noStrike">
                <a:solidFill>
                  <a:srgbClr val="0000ff"/>
                </a:solidFill>
                <a:latin typeface="Arial Rounded MT Bold"/>
              </a:rPr>
              <a:t>曾 </a:t>
            </a:r>
            <a:r>
              <a:rPr b="0" lang="ja-JP" sz="2400" spc="-1" strike="noStrike">
                <a:solidFill>
                  <a:srgbClr val="0000ff"/>
                </a:solidFill>
                <a:latin typeface="Arial Rounded MT Bold"/>
                <a:ea typeface="MS PGothic"/>
              </a:rPr>
              <a:t>さん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68" name="乐章 森林之歌 主题曲" descr=""/>
          <p:cNvPicPr/>
          <p:nvPr/>
        </p:nvPicPr>
        <p:blipFill>
          <a:blip r:embed="rId2"/>
          <a:stretch/>
        </p:blipFill>
        <p:spPr>
          <a:xfrm>
            <a:off x="96840" y="6454800"/>
            <a:ext cx="311040" cy="311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124000" y="1917720"/>
            <a:ext cx="564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ff"/>
                </a:solidFill>
                <a:latin typeface="Arial"/>
              </a:rPr>
              <a:t>做学习的主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1486080"/>
            <a:ext cx="8447040" cy="20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下面这是一个北大学生谈学习效率的经验。她谈到，很多人生看上去很用功，可成绩总是不理想。原因之一是，学习效率太低。同样的时间内，只能掌握别人学到知识的一半，这样怎么能学好？学习要讲究效率，提高效率，途径大致有以下几点：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3645000"/>
            <a:ext cx="87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每天保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睡眠。晚上不要熬夜，定时就寝。中午坚持午睡。充足的睡眠、饱满的精神是提高效率的基本要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二、学习时要全神贯注。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玩的时候痛快玩，学的时候认真学。一天到晚伏案苦读，不是良策。学习到一定程度就得休息、补充能量。学习之余，一定要注意休息。但学习时，一定要全身心地投入，手脑并用。学习的时侯常有陶渊明的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虽处闹市，而无车马喧嚣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的境界，只有的手和脑与课本交流。　　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三、坚持体育锻炼。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身体是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学习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的本钱。没有一个好的身体，再大的能耐也无法发挥。因而，再繁忙的学习，也不可忽视放松锻炼。有的同学为了学习而忽视锻炼，身体越来越弱，学习越来越感到力不从心。这样怎么能提高学习效率呢？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15000">
    <p:random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12720" y="188640"/>
            <a:ext cx="8229600" cy="62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四、学习要主动。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只有积极主动地学习，才能感受到其中的乐趣，才能对学习越发有兴趣。有了兴趣，效率就会在不知不觉中得到提高。有的同学基础不好，学习过程中老是有不懂的问题，又羞于向人请教，结果是郁郁寡欢，心不在焉，从何谈起提高学习效率。这时，唯一的方法是，向人请教，不懂的地方一定要弄懂，一点一滴地积累，才能进步。如此，才能逐步地提高效率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五、保持愉快的心情，和同学融洽相处。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 Black"/>
              </a:rPr>
              <a:t>每天有个好心情，做事干净利落，学习积极投入，效率自然高。另一方面，把个人和集体结合起来，和同学保持互助关系，团结进取，也能提高学习效率。</a:t>
            </a:r>
            <a:endParaRPr b="1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13000"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82296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六、注意整理。　　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 Black"/>
              </a:rPr>
              <a:t>学习过程中，把各科课本、作业和资料有规律地放在一起。待用时，一看便知在哪。而有的学生查阅某本书时，东找西翻，不见踪影。时间就在忙碌而焦急的寻找中逝去。我认为，没有条理的学生不会学得很好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注：学习效率的提高，很大程度上决定于学习之外的其他因素，这是因为人的体质、心境、状态等诸多因素与学习效率密切相关。</a:t>
            </a:r>
            <a:endParaRPr b="1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advTm="14000"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229600" cy="63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还可以养成一些良好的习惯：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、  英语每天必练、必读，而且一定要读出声来，多读才能有好的语感。 　　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、  对物理化学的常规题要做出速度来，不妨经常试试一个小时能做出多少题来。 　　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、  数学的计算是难免出错的，刻意地找一些烦琐的计算来锻炼耐心与能力。 　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、  对整套的题不要舍这去那的，拿出表来，两个小时内完成。认真对待之，如考试一般核对计分总结，会有很大的收获的。 　　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</a:rPr>
              <a:t>、  习惯于请教老师，与同学砌磋，这是提高水平的好方法，但一定要三思之后</a:t>
            </a:r>
            <a:endParaRPr b="1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6877080" y="6453360"/>
            <a:ext cx="1224000" cy="215640"/>
          </a:xfrm>
          <a:custGeom>
            <a:avLst/>
            <a:gdLst>
              <a:gd name="textAreaLeft" fmla="*/ 13680 w 1224000"/>
              <a:gd name="textAreaRight" fmla="*/ 1210320 w 1224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22436" h="21600">
                <a:moveTo>
                  <a:pt x="0" y="0"/>
                </a:moveTo>
                <a:lnTo>
                  <a:pt x="122436" y="0"/>
                </a:lnTo>
                <a:lnTo>
                  <a:pt x="122436" y="21600"/>
                </a:lnTo>
                <a:lnTo>
                  <a:pt x="0" y="21600"/>
                </a:lnTo>
                <a:close/>
              </a:path>
              <a:path fill="lightenLess" w="122436" h="21600">
                <a:moveTo>
                  <a:pt x="0" y="0"/>
                </a:moveTo>
                <a:lnTo>
                  <a:pt x="122436" y="0"/>
                </a:lnTo>
                <a:lnTo>
                  <a:pt x="121036" y="1400"/>
                </a:lnTo>
                <a:lnTo>
                  <a:pt x="1400" y="1400"/>
                </a:lnTo>
                <a:close/>
              </a:path>
              <a:path fill="darken" w="122436" h="21600">
                <a:moveTo>
                  <a:pt x="122436" y="0"/>
                </a:moveTo>
                <a:lnTo>
                  <a:pt x="122436" y="21600"/>
                </a:lnTo>
                <a:lnTo>
                  <a:pt x="121036" y="20200"/>
                </a:lnTo>
                <a:lnTo>
                  <a:pt x="121036" y="1400"/>
                </a:lnTo>
                <a:close/>
              </a:path>
              <a:path fill="darkenLess" w="122436" h="21600">
                <a:moveTo>
                  <a:pt x="122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1036" y="20200"/>
                </a:lnTo>
                <a:close/>
              </a:path>
              <a:path fill="lighten" w="122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436" h="21600">
                <a:moveTo>
                  <a:pt x="54212" y="3794"/>
                </a:moveTo>
                <a:lnTo>
                  <a:pt x="68224" y="10800"/>
                </a:lnTo>
                <a:lnTo>
                  <a:pt x="5421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813440" y="1052280"/>
            <a:ext cx="1089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 Black"/>
              </a:rPr>
              <a:t>学习箴言</a:t>
            </a:r>
            <a:endParaRPr b="1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8720" y="620280"/>
            <a:ext cx="6480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If winter comes, can spring be far behind?---Shelley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冬天来了，春天还会远吗？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雪莱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ere is but one secret to success---never give up! ---Campbell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成功只有一个秘诀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永不放弃！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坎贝尔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hings do not change ;we change. ---Henry David Thoreau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环境不改变，不如我们改变自己。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---</a:t>
            </a:r>
            <a:r>
              <a:rPr b="0" lang="zh-CN" sz="2800" spc="-1" strike="noStrike">
                <a:solidFill>
                  <a:srgbClr val="000000"/>
                </a:solidFill>
                <a:latin typeface="Arial Rounded MT Bold"/>
              </a:rPr>
              <a:t>亨利 戴维 梭罗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advTm="26000"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8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8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24000" y="117000"/>
            <a:ext cx="83628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ife is painting a piece,not doing a sum. ----O W Holme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生活是 绘画，不是做算术。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---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霍姆斯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en fate hands us a lemon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，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et‘s try to make a lemonade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---Carnegi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当命运递给我们一个柠檬，让我们把它做成柠檬汁。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---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卡耐基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hero is the one with the ideas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---Jack Welch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所谓英雄就是有想法的人。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---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杰克 韦尔奇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f there were no clouds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，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e should not enjoy the sun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。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--- Tennys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不经历风雨怎么见彩虹。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---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丁尼生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re was never a night that had no morn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。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---Craik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没有任何一个夜晚没有黎明。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---</a:t>
            </a:r>
            <a:r>
              <a:rPr b="0" lang="zh-CN" sz="2400" spc="-1" strike="noStrike">
                <a:solidFill>
                  <a:srgbClr val="ffffff"/>
                </a:solidFill>
                <a:latin typeface="Arial Rounded MT Bold"/>
              </a:rPr>
              <a:t>克雷克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">
            <a:hlinkClick r:id="rId2" action="ppaction://hlinksldjump"/>
          </p:cNvPr>
          <p:cNvSpPr/>
          <p:nvPr/>
        </p:nvSpPr>
        <p:spPr>
          <a:xfrm>
            <a:off x="7020000" y="6597720"/>
            <a:ext cx="1225440" cy="216000"/>
          </a:xfrm>
          <a:custGeom>
            <a:avLst/>
            <a:gdLst>
              <a:gd name="textAreaLeft" fmla="*/ 13680 w 1225440"/>
              <a:gd name="textAreaRight" fmla="*/ 1211760 w 12254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22376" h="21600">
                <a:moveTo>
                  <a:pt x="0" y="0"/>
                </a:moveTo>
                <a:lnTo>
                  <a:pt x="122376" y="0"/>
                </a:lnTo>
                <a:lnTo>
                  <a:pt x="122376" y="21600"/>
                </a:lnTo>
                <a:lnTo>
                  <a:pt x="0" y="21600"/>
                </a:lnTo>
                <a:close/>
              </a:path>
              <a:path fill="lightenLess" w="122376" h="21600">
                <a:moveTo>
                  <a:pt x="0" y="0"/>
                </a:moveTo>
                <a:lnTo>
                  <a:pt x="122376" y="0"/>
                </a:lnTo>
                <a:lnTo>
                  <a:pt x="120976" y="1400"/>
                </a:lnTo>
                <a:lnTo>
                  <a:pt x="1400" y="1400"/>
                </a:lnTo>
                <a:close/>
              </a:path>
              <a:path fill="darken" w="122376" h="21600">
                <a:moveTo>
                  <a:pt x="122376" y="0"/>
                </a:moveTo>
                <a:lnTo>
                  <a:pt x="122376" y="21600"/>
                </a:lnTo>
                <a:lnTo>
                  <a:pt x="120976" y="20200"/>
                </a:lnTo>
                <a:lnTo>
                  <a:pt x="120976" y="1400"/>
                </a:lnTo>
                <a:close/>
              </a:path>
              <a:path fill="darkenLess" w="122376" h="21600">
                <a:moveTo>
                  <a:pt x="122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976" y="20200"/>
                </a:lnTo>
                <a:close/>
              </a:path>
              <a:path fill="lighten" w="122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22376" h="21600">
                <a:moveTo>
                  <a:pt x="54182" y="3794"/>
                </a:moveTo>
                <a:lnTo>
                  <a:pt x="68195" y="10800"/>
                </a:lnTo>
                <a:lnTo>
                  <a:pt x="541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5000">
    <p:random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1T19:45:51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cp:lastPrinted>1899-12-30T00:00:00Z</cp:lastPrinted>
  <dcterms:modified xsi:type="dcterms:W3CDTF">2013-04-13T11:38:05Z</dcterms:modified>
  <cp:revision>8</cp:revision>
  <dc:subject>主题班会课件(分28大类): http://shop62905894.taobao.com</dc:subject>
  <dc:title>主题班会课件(分28大类): http://shop62905894.taobao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31</vt:lpwstr>
  </property>
</Properties>
</file>