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9E96-BBF8-4205-AFDB-7BDDBBD69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C776-68EC-47FA-9C23-D00A9494B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C417-305F-4698-9B2A-6A5B3665C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C5F4-F139-488D-B35B-90E15B762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36D5E-7117-41CE-B0CA-27F813731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AF834-23D4-4CA4-B828-BEBAD87A8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3E633-1E92-401E-B2D5-E5677EA5E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E727F-5FE4-4CB1-A99F-C05B8C604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F19D7-E663-40E5-8CF5-7B19B658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3C3F9-E601-4CC4-8898-C575D653F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6099C-45EE-4F7A-95CD-E1C67029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4AED-EF4E-4CBC-88DA-744F41333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6F5AF-AFB9-4EDC-B076-0D299B4E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9A70E-F5ED-4314-93E9-D544F3CE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1A02E-CEC8-4195-A0A2-47031B7D2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B2E59-1547-42B3-A88D-19CD7DA68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4709D-623D-40AC-881E-EDCEC6879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33C9-C848-4FFA-8474-56385BB0A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6FF5-14A3-45D5-833D-276D097BE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4E04-69B9-4C11-BEBD-5793DF750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B1EE-53C6-439E-856F-9F7345E8D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0D48-5FDF-4D14-AD37-D9F1D9F5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B1FD-5405-487D-B844-4BF54DBE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E929-EFA4-4E16-AB1B-1D9B51C5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722CB-9544-4588-B5DB-1FD239D957D5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0421B-86F6-4B09-9B62-3F2F1D7E3F9F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6122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8000"/>
                </a:solidFill>
                <a:latin typeface="Arial"/>
              </a:rPr>
              <a:t>珍爱生命  珍惜时间</a:t>
            </a:r>
            <a:br>
              <a:rPr sz="7200"/>
            </a:br>
            <a:br>
              <a:rPr sz="7200"/>
            </a:br>
            <a:endParaRPr b="0" lang="en-US" sz="72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493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主题班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651640" y="4724280"/>
            <a:ext cx="30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932360" y="530064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高一（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15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）班班委会主办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77080" y="6093000"/>
            <a:ext cx="196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516720" y="6021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2007.4.23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859280" y="188640"/>
            <a:ext cx="398304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572"/>
                </a:solidFill>
                <a:latin typeface="Arial"/>
              </a:rPr>
              <a:t>2005</a:t>
            </a:r>
            <a:r>
              <a:rPr b="0" lang="zh-CN" sz="2800" spc="-1" strike="noStrike">
                <a:solidFill>
                  <a:srgbClr val="007572"/>
                </a:solidFill>
                <a:latin typeface="Arial"/>
              </a:rPr>
              <a:t>年春节晚会《千手观音节目》一炮打响。当身具优美舞姿和娴静神情的邰丽华与</a:t>
            </a:r>
            <a:r>
              <a:rPr b="0" lang="zh-CN" sz="2800" spc="-1" strike="noStrike">
                <a:solidFill>
                  <a:srgbClr val="007572"/>
                </a:solidFill>
                <a:latin typeface="Arial"/>
              </a:rPr>
              <a:t>20</a:t>
            </a:r>
            <a:r>
              <a:rPr b="0" lang="zh-CN" sz="2800" spc="-1" strike="noStrike">
                <a:solidFill>
                  <a:srgbClr val="007572"/>
                </a:solidFill>
                <a:latin typeface="Arial"/>
              </a:rPr>
              <a:t>位同样生活在无声世界的伙伴站在舞台上，用千手千眼将爱撒向人间时，没有人还会记得他们身有残疾，剩下的只是心灵的震撼。邰丽华与伙伴们用汗水和努力证实，自己的意志和智慧也可以给人们带来纯净至美的艺术享受。</a:t>
            </a:r>
            <a:r>
              <a:rPr b="0" lang="zh-CN" sz="2000" spc="-1" strike="noStrike">
                <a:solidFill>
                  <a:srgbClr val="007572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73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115920"/>
            <a:ext cx="74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视频短片：花季少年轻视生命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048120" y="22860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9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26920" y="2276640"/>
            <a:ext cx="7344000" cy="20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33cc"/>
                </a:solidFill>
                <a:latin typeface="Arial"/>
              </a:rPr>
              <a:t>学生畅想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</a:rPr>
              <a:t>             </a:t>
            </a:r>
            <a:r>
              <a:rPr b="1" lang="zh-CN" sz="6000" spc="-1" strike="noStrike">
                <a:solidFill>
                  <a:srgbClr val="33cc33"/>
                </a:solidFill>
                <a:latin typeface="Arial"/>
              </a:rPr>
              <a:t>生命</a:t>
            </a:r>
            <a:r>
              <a:rPr b="0" lang="zh-CN" sz="6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时间</a:t>
            </a:r>
            <a:r>
              <a:rPr b="0" lang="zh-CN" sz="6000" spc="-1" strike="noStrike">
                <a:solidFill>
                  <a:srgbClr val="0033cc"/>
                </a:solidFill>
                <a:latin typeface="Arial"/>
              </a:rPr>
              <a:t> 理想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116000" y="2421000"/>
            <a:ext cx="712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教师代表发言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32000" y="2492280"/>
            <a:ext cx="684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班主任感言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971640" y="2349360"/>
            <a:ext cx="720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         </a:t>
            </a:r>
            <a:r>
              <a:rPr b="1" lang="zh-CN" sz="6000" spc="-1" strike="noStrike">
                <a:solidFill>
                  <a:srgbClr val="0033cc"/>
                </a:solidFill>
                <a:latin typeface="Arial"/>
              </a:rPr>
              <a:t>领导发言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692360" y="1473120"/>
            <a:ext cx="5398920" cy="325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再会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840200" y="1700280"/>
            <a:ext cx="275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987640" y="1700280"/>
            <a:ext cx="345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71640" y="2492280"/>
            <a:ext cx="468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33cc"/>
                </a:solidFill>
                <a:latin typeface="Arial"/>
              </a:rPr>
              <a:t>生命断想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生命如歌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9640" y="980640"/>
            <a:ext cx="34927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是朝阳</a:t>
            </a:r>
            <a:br>
              <a:rPr sz="2400"/>
            </a:b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定会喷薄而出</a:t>
            </a:r>
            <a:br>
              <a:rPr sz="2400"/>
            </a:b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是晚霞</a:t>
            </a:r>
            <a:br>
              <a:rPr sz="2400"/>
            </a:b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定会夕夕生辉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那我是什么？</a:t>
            </a:r>
            <a:br>
              <a:rPr sz="2400"/>
            </a:b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我是人间四月天</a:t>
            </a:r>
            <a:br>
              <a:rPr sz="2400"/>
            </a:b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还是芳草碧连地</a:t>
            </a:r>
            <a:br>
              <a:rPr sz="2400"/>
            </a:b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也或秋冬落叶物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但是，无论我是什么</a:t>
            </a:r>
            <a:br>
              <a:rPr sz="2400"/>
            </a:b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我总立于天地间</a:t>
            </a:r>
            <a:br>
              <a:rPr sz="2400"/>
            </a:b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仰天天之高</a:t>
            </a:r>
            <a:br>
              <a:rPr sz="2400"/>
            </a:b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俯地地之厚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24360" y="1052640"/>
            <a:ext cx="48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716360" y="1197000"/>
            <a:ext cx="4110120" cy="48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当我呱呱坠地之时</a:t>
            </a:r>
            <a:br>
              <a:rPr sz="2400"/>
            </a:b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是母亲声嘶力竭的呼喊</a:t>
            </a:r>
            <a:br>
              <a:rPr sz="2400"/>
            </a:b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是父亲紧握拳头的沉默</a:t>
            </a:r>
            <a:br>
              <a:rPr sz="2400"/>
            </a:b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是命运之神将我安排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如果说</a:t>
            </a:r>
            <a:br>
              <a:rPr sz="2400"/>
            </a:b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在我前面的是一条崎岖的路</a:t>
            </a:r>
            <a:br>
              <a:rPr sz="2400"/>
            </a:b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那就让我颠跛着走过</a:t>
            </a:r>
            <a:br>
              <a:rPr sz="2400"/>
            </a:b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如果说</a:t>
            </a:r>
            <a:br>
              <a:rPr sz="2400"/>
            </a:b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在我前面的是一条汹涌的海</a:t>
            </a:r>
            <a:br>
              <a:rPr sz="2400"/>
            </a:b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那就让我在浪尖里穿梭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接受命运的安排</a:t>
            </a:r>
            <a:br>
              <a:rPr sz="2400"/>
            </a:b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生命如歌</a:t>
            </a:r>
            <a:br>
              <a:rPr sz="2400"/>
            </a:b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岁月如歌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8459640" y="6165720"/>
            <a:ext cx="36828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265945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53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相声：时间与青春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626280" y="4095720"/>
            <a:ext cx="18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572"/>
                </a:solidFill>
                <a:latin typeface="Arial"/>
              </a:rPr>
              <a:t>表演者：吕琪  李煜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生命的感动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8244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244506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4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787640" y="1196640"/>
            <a:ext cx="410508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007572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著名相声表演艺术家侯耀华“咚”的一声，给获奖者贵州乡村教师陆永康跪了下来。这个被现场观众称为“史上最感人的颁奖动作”，出现在</a:t>
            </a: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月</a:t>
            </a: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21</a:t>
            </a: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日由</a:t>
            </a: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CCTV-7</a:t>
            </a: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农业节目主办的２００６年度三农人物颁奖典礼上</a:t>
            </a:r>
            <a:r>
              <a:rPr b="1" lang="zh-CN" sz="2800" spc="-1" strike="noStrike">
                <a:solidFill>
                  <a:srgbClr val="007572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7572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71640" y="5589360"/>
            <a:ext cx="772632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572"/>
                </a:solidFill>
                <a:latin typeface="Arial"/>
              </a:rPr>
              <a:t>陆永康拄着拐杖为山里的孩子们传道授业。</a:t>
            </a: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572"/>
                </a:solidFill>
                <a:latin typeface="Arial"/>
              </a:rPr>
              <a:t>2006</a:t>
            </a:r>
            <a:r>
              <a:rPr b="1" lang="zh-CN" sz="2400" spc="-1" strike="noStrike">
                <a:solidFill>
                  <a:srgbClr val="007572"/>
                </a:solidFill>
                <a:latin typeface="Arial"/>
              </a:rPr>
              <a:t>年</a:t>
            </a:r>
            <a:r>
              <a:rPr b="1" lang="zh-CN" sz="2400" spc="-1" strike="noStrike">
                <a:solidFill>
                  <a:srgbClr val="007572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7572"/>
                </a:solidFill>
                <a:latin typeface="Arial"/>
              </a:rPr>
              <a:t>月</a:t>
            </a:r>
            <a:r>
              <a:rPr b="1" lang="zh-CN" sz="2400" spc="-1" strike="noStrike">
                <a:solidFill>
                  <a:srgbClr val="007572"/>
                </a:solidFill>
                <a:latin typeface="Arial"/>
              </a:rPr>
              <a:t>23</a:t>
            </a:r>
            <a:r>
              <a:rPr b="1" lang="zh-CN" sz="2400" spc="-1" strike="noStrike">
                <a:solidFill>
                  <a:srgbClr val="007572"/>
                </a:solidFill>
                <a:latin typeface="Arial"/>
              </a:rPr>
              <a:t>日，做家访的陆永康拄着拐杖走在泥泞的山间小道上</a:t>
            </a:r>
            <a:endParaRPr b="0" lang="en-US" sz="2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04920" y="1980720"/>
            <a:ext cx="4194000" cy="38862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650840" y="1981080"/>
            <a:ext cx="4194360" cy="1866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4650840" y="4000320"/>
            <a:ext cx="4194360" cy="1866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5877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861840" y="6021360"/>
            <a:ext cx="828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1" lang="zh-CN" sz="1800" spc="-1" strike="noStrike">
                <a:solidFill>
                  <a:srgbClr val="067006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67006"/>
                </a:solidFill>
                <a:latin typeface="Arial"/>
              </a:rPr>
              <a:t>月</a:t>
            </a:r>
            <a:r>
              <a:rPr b="1" lang="zh-CN" sz="1800" spc="-1" strike="noStrike">
                <a:solidFill>
                  <a:srgbClr val="067006"/>
                </a:solidFill>
                <a:latin typeface="Arial"/>
              </a:rPr>
              <a:t>23</a:t>
            </a:r>
            <a:r>
              <a:rPr b="1" lang="zh-CN" sz="1800" spc="-1" strike="noStrike">
                <a:solidFill>
                  <a:srgbClr val="067006"/>
                </a:solidFill>
                <a:latin typeface="Arial"/>
              </a:rPr>
              <a:t>日，做家访的陆永康拄着拐杖走在泥泞的山间小道上</a:t>
            </a:r>
            <a:r>
              <a:rPr b="0" lang="zh-CN" sz="2400" spc="-1" strike="noStrike">
                <a:solidFill>
                  <a:srgbClr val="06700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716000" y="189000"/>
            <a:ext cx="410364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月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23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日，陆永康的妻子黄天云向记者展示陆永康用过的、重达两公斤的“船鞋”。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99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8T07:00:15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1:37:35Z</dcterms:modified>
  <cp:revision>33</cp:revision>
  <dc:subject>主题班会课件(分28大类): http://shop62905894.taobao.com</dc:subject>
  <dc:title>主题班会课件(分28大类): http://shop62905894.taobao.com</dc:title>
</cp:coreProperties>
</file>