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189-B672-4263-A9F8-010EA71A2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8C37-A8AB-449B-9B06-C58714D3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52C-CFBC-4AE3-BD28-6F16F97E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05A-7105-4B99-A7C2-0C8D4F37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762B-9ED7-4284-B261-2E20C6A24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A07B9-1656-46CC-9C41-D5FC7774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C518-22C9-4A47-92A7-D2A474E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50C7-9B87-4B99-A852-455F77AD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27C1B-982A-4E0C-BAC3-CF43AF36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6C16-C971-402E-BAA6-84EE2481C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7F7F-A8BE-41AB-B67A-0842119F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6DA8-0ED2-4C64-9A62-4F0E44DC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AA51-9583-4DCC-BBFD-83893EBB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A7E95-7898-47FC-BB26-141E3A78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57F6-FE96-4D33-9324-38488340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0716-9D40-4686-B7FF-83F22AA6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AF41-28BB-494D-B759-95F1816F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5D9E-A22F-4B20-9C17-DCC4D3C4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D9E-8EFA-4271-9B53-22C2073F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E6A-4122-412B-9472-B6BC8A42E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803-BC54-4E48-9FDB-4969B6F4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4256-D561-4626-BF43-CD198059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17E5-6B69-4BB8-AA37-5CE7744A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AFF-471A-4704-A616-4B953983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3BB8-ABE7-42CF-9F1D-F6E120AC7DDB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7EC1-F03C-411B-8F51-BC6F73F6E755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  <a:ea typeface="华文行楷"/>
              </a:rPr>
              <a:t>“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  <a:ea typeface="楷体_GB2312"/>
              </a:rPr>
              <a:t>惜时报恩</a:t>
            </a:r>
            <a:r>
              <a:rPr b="0" lang="zh-CN" sz="5400" spc="-1" strike="noStrike">
                <a:solidFill>
                  <a:srgbClr val="ccecff"/>
                </a:solidFill>
                <a:latin typeface="Arial"/>
                <a:ea typeface="华文行楷"/>
              </a:rPr>
              <a:t>”主题班会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17236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 rot="20685600">
            <a:off x="1187280" y="2276280"/>
            <a:ext cx="554544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明天会更好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方正舒体"/>
              </a:rPr>
              <a:t>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方正舒体"/>
              <a:ea typeface="方正舒体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320730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5796000" cy="5661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7308720" y="558972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父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7740720" y="508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90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64280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b9d6"/>
                </a:solidFill>
                <a:latin typeface="Arial"/>
              </a:rPr>
              <a:t>一封辛酸父亲的来信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亲爱的儿子：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　　尽管你伤透了我的心，但你终究是我的儿子。虽然，自从你考上大学，成为我们家几代里出的唯一一个大学生之后，心里已分不清咱俩谁是谁的儿子了。从扛着行李陪你去大学报到，到挂蚊帐缝被子买饭菜票甚至教你挤牙膏，这一切，在你看来是天经地义的，你甚至感觉你这个不争气的老爸给你这位争气的大学生儿子服务，是一件特沾光特荣耀的事。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　　的确，你考上大学，你爸妈确实为你骄傲。虽然现今的大学生也不一定能找到工作，但这毕竟是你爸妈几十年的梦想。我们那阵，上大学不是凭本事考的，要看手上的茧子和出身成分，有些人还要用贞操和人格去换。这也就是我们以你为荣的原因。然而，你的骄傲却是不可理喻的。在你读大学的第一学期，我们收到过你的</a:t>
            </a:r>
            <a:r>
              <a:rPr b="0" lang="zh-CN" sz="20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3</a:t>
            </a:r>
            <a:r>
              <a:rPr b="0" lang="zh-CN" sz="20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封信，加起来比一份电报长不了多少，言简意赅，主题鲜明，通篇字迹潦草，只一个“钱”字特别工整而且清晰。你说你学习很忙，没时间写信，但同院里你高中时代的女同学，却能收到你洋洋洒洒几十页的信，而且每周一封。每次从收发室门口过，我和你妈看着你熟悉的字，却不能认领。那种痛苦是咋样的，你知道吗</a:t>
            </a:r>
            <a:r>
              <a:rPr b="0" lang="zh-CN" sz="20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ff33"/>
                </a:solidFill>
                <a:latin typeface="Verdana"/>
              </a:rPr>
              <a:t>　　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b9d6"/>
                </a:solidFill>
                <a:latin typeface="Arial"/>
              </a:rPr>
              <a:t>一封辛酸父亲的来信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540640" cy="461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后来，随着你读二年级，这种痛苦煎熬逐渐少了，据你那位高中同学说，是因为你谈恋爱了。其实，她不说我们也知道，从你一封接一封的催款信上我们能感受到，言辞之急迫、语调之恳切，让人感觉你今后毕业大可以去当个优秀的讨债人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　　当时，正值你妈下岗，而你爸微薄的工资，显然不够你出入卡拉</a:t>
            </a: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OK</a:t>
            </a:r>
            <a:r>
              <a:rPr b="0" lang="zh-CN" sz="2400" spc="-1" strike="noStrike">
                <a:solidFill>
                  <a:srgbClr val="ccff33"/>
                </a:solidFill>
                <a:latin typeface="楷体_GB2312"/>
                <a:ea typeface="楷体_GB2312"/>
              </a:rPr>
              <a:t>酒吧餐厅。在这样的状况下，你不仅没有半句安慰，居然破天荒来了一封长信，大谈别人的老爸老妈如何大方。你给我和你妈心上戳了重重一刀，还撒了一把盐。最令我伤心的是，今年暑假，你居然偷改入学收费通知，虚报学费。这之前，我在报纸上已看到这种事情。没想你也同时看到这则新闻，一时间相见恨晚，及时娴熟地运用这一招，来对付生你养你爱你疼你的父亲母亲。虽然，得知真相后我并没发作，但从开学到今天，两个月里，我一想到这事就痛苦，就失眠。这已经成为一种心病，病根就是你—————我亲手抚养大却又倍感陌生的大学生儿子。不知在大学里，你除了增加文化知识和社交阅历之外，还能否长一丁点善良的心？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Arial"/>
                <a:ea typeface="隶书"/>
              </a:rPr>
              <a:t>你知道吗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你知道父母的年龄吗？他们的出生年月日？他们的属相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你经常帮助父母做家务吗？都有那些家务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你是否知道母亲节和父亲节是哪一天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你给父母洗过脚吗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你经常与父母沟通谈心吗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在报到那天，送别时看到父母离去的背影，你是否有感动的瞬间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796000" y="692280"/>
            <a:ext cx="2286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659640" y="189000"/>
            <a:ext cx="720720" cy="11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84720" y="404640"/>
            <a:ext cx="576360" cy="98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1680" y="0"/>
            <a:ext cx="8540640" cy="60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有一种朴素伟大的名字叫父亲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有一种朴素但真诚的情感叫父爱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他用沾满泥巴的双脚为儿女踩开一条平坦开阔的路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他用粗糙干裂的双手为儿女撑开一张挡风遮雨的伞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我们曾经有的忏悔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把我们对亲情的认识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把我们今后的打算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亲口讲给我们的父母听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楷体_GB2312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46080"/>
            <a:ext cx="82296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你打算在今后的生活中如何去做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回报父母的养育之恩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988720" cy="68914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675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24000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05:27:15Z</dcterms:created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User</cp:lastModifiedBy>
  <dcterms:modified xsi:type="dcterms:W3CDTF">2013-04-13T11:38:07Z</dcterms:modified>
  <cp:revision>2</cp:revision>
  <dc:subject>主题班会课件(分28大类): http://shop62905894.taobao.com</dc:subject>
  <dc:title>主题班会课件(分28大类): http://shop62905894.taobao.com</dc:title>
</cp:coreProperties>
</file>