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8.jpeg" ContentType="image/jpeg"/>
  <Override PartName="/ppt/media/image39.jpeg" ContentType="image/jpeg"/>
  <Override PartName="/ppt/media/image34.jpeg" ContentType="image/jpeg"/>
  <Override PartName="/ppt/media/image36.wmf" ContentType="image/x-wmf"/>
  <Override PartName="/ppt/media/image44.png" ContentType="image/png"/>
  <Override PartName="/ppt/media/image40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5.gif" ContentType="image/gif"/>
  <Override PartName="/ppt/media/image31.png" ContentType="image/png"/>
  <Override PartName="/ppt/media/image43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4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D6B-96F6-42C6-8B4C-74954F3D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84E-8284-406D-97C3-C939345B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F68-FCF1-4422-8B89-8D7F3BF3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6E7-E9B7-4F35-A125-3B2F0FE0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257-4601-4478-95EF-867D9EDE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DDC-962C-47E6-8308-4AD29701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FE3-E5A7-4E36-863B-CC65B1E8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837-C3CB-44C7-9BDB-4DB247FB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F3E-1A24-4B42-BEB2-56BBEDA5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B31-A290-4BC6-AA80-A1F266D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774-5429-45EA-BA46-18CB63CE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E6F-52E5-44F2-A7F8-96C5A41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EF21-7FA5-4C53-80C5-89A659C004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2.iecool.com/show/145/9459.htm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wr.gov.cn/xwpd/mtjj/2006121313441379ab06.aspx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jsw.com.cn/misc/2003-04/07/content_232627.htm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download.ahedu.cn/xf2007/07&#24180;&#30005;&#33041;&#21046;&#20316;&#20844;&#31034;&#20316;&#21697;/&#32593;&#39029;/&#23567;&#23398;/05&#27744;&#24030;/&#29615;&#22659;&#20445;&#25252;/huanjingbaohu/shuiziyuan/shuiwuran.htm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5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" Target="slide5.xml"/><Relationship Id="rId9" Type="http://schemas.openxmlformats.org/officeDocument/2006/relationships/image" Target="../media/image30.png"/><Relationship Id="rId10" Type="http://schemas.openxmlformats.org/officeDocument/2006/relationships/slide" Target="slide10.xml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xwhxw.com/wzjj/ShowInfo.asp?InfoID=3538&amp;Page=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2&#1215;%B3%C2&#1207;%A5&amp;in=3620&amp;cl=2&amp;cm=1&amp;sc=0&amp;lm=-1&amp;pn=43&amp;rn=1&amp;di=2918459580&amp;ln=54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ypica.com/PicaCast/user/post.do?username=dfbac88714bf5403218cf5d1de698abd&amp;id=13327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03280" y="1844640"/>
            <a:ext cx="6697800" cy="439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节水惜水爱水，从我做起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43657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uekej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环保教育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4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98480" y="11962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北京近年来也受到沙尘暴的袭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382920" cy="232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830920" y="404640"/>
            <a:ext cx="3313080" cy="2332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304812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8440"/>
            <a:ext cx="9753840" cy="69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29200" y="3733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news.sina.com.cn/o/2004-11-22/09324308767s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2400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340000" y="2997360"/>
            <a:ext cx="4495680" cy="838080"/>
            <a:chOff x="2340000" y="2997360"/>
            <a:chExt cx="4495680" cy="838080"/>
          </a:xfrm>
        </p:grpSpPr>
        <p:sp>
          <p:nvSpPr>
            <p:cNvPr id="72" name=""/>
            <p:cNvSpPr/>
            <p:nvPr/>
          </p:nvSpPr>
          <p:spPr>
            <a:xfrm>
              <a:off x="2340000" y="2997360"/>
              <a:ext cx="4495680" cy="838080"/>
            </a:xfrm>
            <a:prstGeom prst="rect">
              <a:avLst/>
            </a:prstGeom>
            <a:solidFill>
              <a:srgbClr val="ed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2340000" y="2997360"/>
              <a:ext cx="4495680" cy="838080"/>
              <a:chOff x="2340000" y="2997360"/>
              <a:chExt cx="4495680" cy="838080"/>
            </a:xfrm>
          </p:grpSpPr>
          <p:sp>
            <p:nvSpPr>
              <p:cNvPr id="74" name=""/>
              <p:cNvSpPr/>
              <p:nvPr/>
            </p:nvSpPr>
            <p:spPr>
              <a:xfrm>
                <a:off x="2340000" y="2997360"/>
                <a:ext cx="4495680" cy="36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40000" y="2997360"/>
                <a:ext cx="4060080" cy="83808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5006c"/>
                    </a:solidFill>
                    <a:latin typeface="Times New Roman"/>
                  </a:rPr>
                  <a:t>重庆小镇</a:t>
                </a:r>
                <a:r>
                  <a:rPr b="1" lang="zh-CN" sz="2600" spc="-1" strike="noStrike">
                    <a:solidFill>
                      <a:srgbClr val="05006c"/>
                    </a:solidFill>
                    <a:latin typeface="Times New Roman"/>
                  </a:rPr>
                  <a:t>2</a:t>
                </a:r>
                <a:r>
                  <a:rPr b="1" lang="zh-CN" sz="2600" spc="-1" strike="noStrike">
                    <a:solidFill>
                      <a:srgbClr val="05006c"/>
                    </a:solidFill>
                    <a:latin typeface="Times New Roman"/>
                  </a:rPr>
                  <a:t>年癌症死亡</a:t>
                </a:r>
                <a:r>
                  <a:rPr b="1" lang="zh-CN" sz="2600" spc="-1" strike="noStrike">
                    <a:solidFill>
                      <a:srgbClr val="05006c"/>
                    </a:solidFill>
                    <a:latin typeface="Times New Roman"/>
                  </a:rPr>
                  <a:t>40</a:t>
                </a:r>
                <a:r>
                  <a:rPr b="1" lang="zh-CN" sz="2600" spc="-1" strike="noStrike">
                    <a:solidFill>
                      <a:srgbClr val="05006c"/>
                    </a:solidFill>
                    <a:latin typeface="Times New Roman"/>
                  </a:rPr>
                  <a:t>人 疑与水污染有关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392720" cy="496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94720"/>
            <a:ext cx="2859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饮用水的污染，对以此为生的居民造成极大的伤害，救救孩子！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长期饮用含砷量严重超标的地下水造成砷中毒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84240" y="-88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84240" y="1582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1989000"/>
          <a:ext cx="5616000" cy="1152360"/>
        </p:xfrm>
        <a:graphic>
          <a:graphicData uri="http://schemas.openxmlformats.org/drawingml/2006/table">
            <a:tbl>
              <a:tblPr/>
              <a:tblGrid>
                <a:gridCol w="561600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类将为滥砍乱伐付出沉重的代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884240" y="2505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84240" y="4146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4653000"/>
          <a:ext cx="7561440" cy="33480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3780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山深处的工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垃圾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非法淘金造成青藏高原严重水土流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1884240" y="50695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zoom"/>
          <p:cNvPicPr/>
          <p:nvPr/>
        </p:nvPicPr>
        <p:blipFill>
          <a:blip r:embed="rId1"/>
          <a:stretch/>
        </p:blipFill>
        <p:spPr>
          <a:xfrm>
            <a:off x="826920" y="404640"/>
            <a:ext cx="1935360" cy="180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zoom"/>
          <p:cNvPicPr/>
          <p:nvPr/>
        </p:nvPicPr>
        <p:blipFill>
          <a:blip r:embed="rId2"/>
          <a:stretch/>
        </p:blipFill>
        <p:spPr>
          <a:xfrm>
            <a:off x="2843280" y="476280"/>
            <a:ext cx="1592280" cy="169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zoom"/>
          <p:cNvPicPr/>
          <p:nvPr/>
        </p:nvPicPr>
        <p:blipFill>
          <a:blip r:embed="rId3"/>
          <a:stretch/>
        </p:blipFill>
        <p:spPr>
          <a:xfrm>
            <a:off x="4500720" y="476280"/>
            <a:ext cx="1869840" cy="1595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zoom"/>
          <p:cNvPicPr/>
          <p:nvPr/>
        </p:nvPicPr>
        <p:blipFill>
          <a:blip r:embed="rId4"/>
          <a:stretch/>
        </p:blipFill>
        <p:spPr>
          <a:xfrm>
            <a:off x="6516720" y="476280"/>
            <a:ext cx="1884240" cy="1535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zoom"/>
          <p:cNvPicPr/>
          <p:nvPr/>
        </p:nvPicPr>
        <p:blipFill>
          <a:blip r:embed="rId5"/>
          <a:stretch/>
        </p:blipFill>
        <p:spPr>
          <a:xfrm>
            <a:off x="179280" y="2997360"/>
            <a:ext cx="2160720" cy="1503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zoom"/>
          <p:cNvPicPr/>
          <p:nvPr/>
        </p:nvPicPr>
        <p:blipFill>
          <a:blip r:embed="rId6"/>
          <a:stretch/>
        </p:blipFill>
        <p:spPr>
          <a:xfrm>
            <a:off x="2195640" y="2997360"/>
            <a:ext cx="2016000" cy="1506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zoom"/>
          <p:cNvPicPr/>
          <p:nvPr/>
        </p:nvPicPr>
        <p:blipFill>
          <a:blip r:embed="rId7"/>
          <a:stretch/>
        </p:blipFill>
        <p:spPr>
          <a:xfrm>
            <a:off x="4211640" y="2997360"/>
            <a:ext cx="2286000" cy="146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zoom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2997360"/>
            <a:ext cx="2158920" cy="1468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zoom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042920" y="5229360"/>
            <a:ext cx="2089080" cy="122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zoom"/>
          <p:cNvPicPr/>
          <p:nvPr/>
        </p:nvPicPr>
        <p:blipFill>
          <a:blip r:embed="rId12"/>
          <a:stretch/>
        </p:blipFill>
        <p:spPr>
          <a:xfrm>
            <a:off x="6588000" y="5229360"/>
            <a:ext cx="165600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87840" y="33296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87840" y="33296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537372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工业事故和森林火灾也是环境污染的主要原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5880" y="591840"/>
            <a:ext cx="4465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环保知识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3789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保护水资源的有效途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981000"/>
            <a:ext cx="89208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414972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宋体"/>
              </a:rPr>
              <a:t>（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节约和合理利用水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淡化海水，防止和治理水的污染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植树造林，</a:t>
            </a:r>
            <a:r>
              <a:rPr b="1" lang="zh-CN" sz="3200" spc="-1" strike="noStrike">
                <a:solidFill>
                  <a:srgbClr val="cc6600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37600" y="16995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常见的环境污染有哪些？</a:t>
            </a:r>
            <a:r>
              <a:rPr b="1" lang="zh-CN" sz="2400" spc="-1" strike="noStrike">
                <a:solidFill>
                  <a:srgbClr val="9966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63200" y="227556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ahoma"/>
              </a:rPr>
              <a:t>（污水、废气、垃圾、噪声、光污染等）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2974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全国统一的环境问题举报免费热线电话号码是什么？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88520" y="5804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1236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781360"/>
            <a:ext cx="587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人们大量利用的淡水资源主要有</a:t>
            </a:r>
            <a:r>
              <a:rPr b="0" lang="zh-CN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51120" y="329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06240" y="321300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</a:rPr>
              <a:t>河水湖泊水地下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684036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年的世界环境日是哪一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环保知识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21760" y="2565000"/>
            <a:ext cx="452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我国是一个缺水的国家，人均水资源仅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世界人均量的多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956720" y="2421000"/>
            <a:ext cx="720720" cy="1023840"/>
            <a:chOff x="7956720" y="2421000"/>
            <a:chExt cx="720720" cy="1023840"/>
          </a:xfrm>
        </p:grpSpPr>
        <p:sp>
          <p:nvSpPr>
            <p:cNvPr id="113" name=""/>
            <p:cNvSpPr/>
            <p:nvPr/>
          </p:nvSpPr>
          <p:spPr>
            <a:xfrm>
              <a:off x="8149320" y="2421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56720" y="2965680"/>
              <a:ext cx="7207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49320" y="29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796000" y="3857760"/>
            <a:ext cx="23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18680" y="187632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08760" y="3715560"/>
            <a:ext cx="34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中国的植树节是哪一天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23160" y="37886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12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4671720"/>
            <a:ext cx="784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《中华人民共和国水法》颁布并施行于（）年。</a:t>
            </a:r>
            <a:br>
              <a:rPr sz="32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84240" y="522864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1988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3573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71640" y="620640"/>
            <a:ext cx="7145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一个人不吃饭能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个人不喝水能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121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70828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每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世界水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860640"/>
            <a:ext cx="704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我国水资源人均占有量只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立方米，排在世界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位，是世界上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个贫水国家之一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62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1628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4292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2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4797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4797360"/>
            <a:ext cx="8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环保纪念日你知多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4153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世界森林日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世界水日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世界卫生日—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世界地球日—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世界无烟日—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世界防止沙漠化和干旱日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世界清洁日—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世界保护臭氧层日—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85080" y="5589720"/>
            <a:ext cx="790560" cy="576000"/>
          </a:xfrm>
          <a:custGeom>
            <a:avLst/>
            <a:gdLst>
              <a:gd name="textAreaLeft" fmla="*/ 37080 w 790560"/>
              <a:gd name="textAreaRight" fmla="*/ 753480 w 790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41" h="21600">
                <a:moveTo>
                  <a:pt x="0" y="0"/>
                </a:moveTo>
                <a:lnTo>
                  <a:pt x="29641" y="0"/>
                </a:lnTo>
                <a:lnTo>
                  <a:pt x="29641" y="21600"/>
                </a:lnTo>
                <a:lnTo>
                  <a:pt x="0" y="21600"/>
                </a:lnTo>
                <a:close/>
              </a:path>
              <a:path fill="lightenLess" w="29641" h="21600">
                <a:moveTo>
                  <a:pt x="0" y="0"/>
                </a:moveTo>
                <a:lnTo>
                  <a:pt x="29641" y="0"/>
                </a:lnTo>
                <a:lnTo>
                  <a:pt x="28241" y="1400"/>
                </a:lnTo>
                <a:lnTo>
                  <a:pt x="1400" y="1400"/>
                </a:lnTo>
                <a:close/>
              </a:path>
              <a:path fill="darken" w="29641" h="21600">
                <a:moveTo>
                  <a:pt x="29641" y="0"/>
                </a:moveTo>
                <a:lnTo>
                  <a:pt x="29641" y="21600"/>
                </a:lnTo>
                <a:lnTo>
                  <a:pt x="28241" y="20200"/>
                </a:lnTo>
                <a:lnTo>
                  <a:pt x="28241" y="1400"/>
                </a:lnTo>
                <a:close/>
              </a:path>
              <a:path fill="darkenLess" w="29641" h="21600">
                <a:moveTo>
                  <a:pt x="29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41" y="20200"/>
                </a:lnTo>
                <a:close/>
              </a:path>
              <a:path fill="lighten" w="29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41" h="21600">
                <a:moveTo>
                  <a:pt x="11322" y="10800"/>
                </a:moveTo>
                <a:lnTo>
                  <a:pt x="21827" y="3794"/>
                </a:lnTo>
                <a:lnTo>
                  <a:pt x="21827" y="17806"/>
                </a:lnTo>
                <a:close/>
              </a:path>
              <a:path fill="darken" w="29641" h="21600">
                <a:moveTo>
                  <a:pt x="7814" y="3794"/>
                </a:moveTo>
                <a:lnTo>
                  <a:pt x="9476" y="3794"/>
                </a:lnTo>
                <a:lnTo>
                  <a:pt x="9476" y="17806"/>
                </a:lnTo>
                <a:lnTo>
                  <a:pt x="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60680" y="2133720"/>
            <a:ext cx="16117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91480" y="682560"/>
            <a:ext cx="18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2708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3357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45440" y="4005360"/>
            <a:ext cx="179856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65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5373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573408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欣赏环保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f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2565360"/>
            <a:ext cx="575964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经典趣体简"/>
              </a:rPr>
              <a:t>让我们好好想想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华文行楷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华文行楷"/>
              </a:rPr>
              <a:t>、这一切是由什么原因造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华文行楷"/>
              </a:rPr>
              <a:t>、环境污染给我们的生活带来了哪些不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华文行楷"/>
              </a:rPr>
              <a:t>、长此以往，我们的生存环境将变成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08720" y="4797360"/>
            <a:ext cx="13813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1042920" y="620640"/>
          <a:ext cx="221004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620640"/>
                    <a:ext cx="22100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895480" cy="3124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22860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ff"/>
                </a:solidFill>
                <a:latin typeface="Times New Roman"/>
              </a:rPr>
              <a:t>请你估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981080"/>
            <a:ext cx="578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一个滴水的龙头一天大约会浪费掉（</a:t>
            </a:r>
            <a:r>
              <a:rPr b="0" lang="zh-CN" sz="6600" spc="-1" strike="noStrike" u="sng">
                <a:solidFill>
                  <a:srgbClr val="ffff00"/>
                </a:solidFill>
                <a:uFillTx/>
                <a:latin typeface="Times New Roman"/>
              </a:rPr>
              <a:t>   </a:t>
            </a: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   ）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4149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36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公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54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算一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9907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4360" y="1628640"/>
          <a:ext cx="7596000" cy="3990960"/>
        </p:xfrm>
        <a:graphic>
          <a:graphicData uri="http://schemas.openxmlformats.org/drawingml/2006/table">
            <a:tbl>
              <a:tblPr/>
              <a:tblGrid>
                <a:gridCol w="1325520"/>
                <a:gridCol w="1317600"/>
                <a:gridCol w="1253880"/>
                <a:gridCol w="1379880"/>
                <a:gridCol w="1253880"/>
                <a:gridCol w="106524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0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公斤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6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公斤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吨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6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吨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时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80880" y="587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Times New Roman"/>
              </a:rPr>
              <a:t>注意：根据实际选用合适的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692280"/>
            <a:ext cx="7993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一个滴水龙头每分钟约滴水（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50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）毫升；有（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20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）滴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现在水费是（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）元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屏东中学有（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56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）个水龙头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你家每月用（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）吨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ffff66"/>
                </a:solidFill>
                <a:latin typeface="Tahoma"/>
              </a:rPr>
              <a:t>屏东中学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每年的水费可节约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(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225  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  )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54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实际应用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1—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聚少成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2276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zh-CN" sz="5400" spc="-1" strike="noStrike">
                <a:solidFill>
                  <a:srgbClr val="ff9900"/>
                </a:solidFill>
                <a:latin typeface="Times New Roman"/>
              </a:rPr>
              <a:t>根据我们算出来的滴水速度，一个滴水龙头一年浪费的水够你家用多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48400" y="494172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个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4762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实际应用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2—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聚少成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3280" y="1557360"/>
            <a:ext cx="68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如果学校里每个水龙头都按照这个滴水速度滴水，计算一下学校每个月要多支付多少元水费？每年要多支付多少元水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5640" y="5746680"/>
            <a:ext cx="31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Arial"/>
              </a:rPr>
              <a:t>267</a:t>
            </a:r>
            <a:r>
              <a:rPr b="0" lang="zh-CN" sz="3600" spc="-1" strike="noStrike">
                <a:solidFill>
                  <a:srgbClr val="ff66ff"/>
                </a:solidFill>
                <a:latin typeface="Arial"/>
              </a:rPr>
              <a:t>元，</a:t>
            </a:r>
            <a:r>
              <a:rPr b="0" lang="zh-CN" sz="3600" spc="-1" strike="noStrike">
                <a:solidFill>
                  <a:srgbClr val="ff66ff"/>
                </a:solidFill>
                <a:latin typeface="Arial"/>
              </a:rPr>
              <a:t>3225</a:t>
            </a:r>
            <a:r>
              <a:rPr b="0" lang="zh-CN" sz="3600" spc="-1" strike="noStrike">
                <a:solidFill>
                  <a:srgbClr val="ff66ff"/>
                </a:solidFill>
                <a:latin typeface="Arial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62064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实际应用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—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聚少成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98900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cc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如果平均每人一天浪费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滴水，那么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13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亿人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天大约浪费掉（       ）吨水？（得数保留到整数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6720" y="37116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588000" y="3429000"/>
            <a:ext cx="2041560" cy="2709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7631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尽管目前水资源很少，但任有很多人在大量浪费水资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刷牙时不关水龙头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洗澡涂肥皂时不关水龙头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自来水管发生漏水或爆管未得到及时修理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用过量水洗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5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随意开启消防龙头用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6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老式便器水箱容量过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7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洗衣服时不用手搓而只用水冲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8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用自来水冲洗道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在公共浴室洗完澡后“人离水未关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解冻海鲜使用“自来水常流法”。</a:t>
            </a:r>
            <a:r>
              <a:rPr b="1" lang="zh-CN" sz="2800" spc="-1" strike="noStrike">
                <a:solidFill>
                  <a:srgbClr val="003399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981000"/>
            <a:ext cx="743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树立惜水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长期以来，人们普遍认为水是“取之不尽，用之不竭”的，不知道爱惜，而浪费挥霍。当知道我国水资源紧缺，自来水其实来之不易。节水要从爱惜水做起，牢固地树立“节约水光荣，浪费水可耻”的信念，才能时时处处注意节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29016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用节水器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家庭节水除了注意养成良好的用水习惯以外，采用节水器具很重要，也最有效。有的人宁可放任自流，也不肯更换节水器具，其实，这么多交水费长期下来是不合算的。节水器具种类繁多，有节水型水箱、节水龙头、节水马桶等。从原理来说，有机械式（扳手、按钮的）和全自动（电、磁感应和红外线遥控）两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26125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查漏塞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家中“滴水成河”并非开玩笑。要经常检查家中自来水管路。防微杜渐，不要忽视水龙头和水管节头的漏水。发现漏水，要及时请人或自己动手修理，堵塞流水。一时修不了的漏水，干脆随时用总节门暂时控制水流也好。管好水龙头，把水龙头的水门拧小一半，漏水流量自然也小了，同样的时间里流失水量也减少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1764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洗澡节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用喷头洗淋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学会调节冷热水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不要将喷头的水自始至终地开着，更不应敞开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洗澡要专心致志，抓紧时间，不要悠然自得，或边聊边洗。更不要在浴室里和好朋友大打水仗。要记住：时间就是水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00000" y="765000"/>
            <a:ext cx="72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厕所节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如果觉得厕所的水箱过大，可以在水箱里竖放一块砖头或一只装满水的大可乐瓶，以减少每一次的冲水量。但须注意，砖头或可乐瓶放得不要妨碍水箱部件的运动。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用收集的家庭废水冲厕所，可以一水多用，节约清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垃圾不论大小、粗细，都应从垃圾通道清除，而不要从厕所用水来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620640"/>
            <a:ext cx="71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水多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洗脸水用后可以洗脚，然后冲厕所。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家中应预备一个收集废水的大桶，它完全可以保证冲厕所需要的水量。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淘米水、煮过面条的水，用来洗碗筷，去油又节水。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养鱼的水浇花，能促进花木生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-5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-54468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260280"/>
            <a:ext cx="8305560" cy="79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水是生命的源泉、农业的命脉、工业的血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为了人类和您自身的生命，请珍惜每一滴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树立人人珍惜水，人人节约水的良好风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认真贯彻“开源节流并重，以节流为主”的方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深入开展创建节水型农业、工业、城市的活动    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要像爱护眼睛一样，珍惜水资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国家实行计划用水，厉行节约用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节约用水是每个公民的责任和义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加强用水设备管理，堵塞水的跑冒滴漏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人人关心节水，时时注意节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节约用水，利在当代，功在千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为了人类共同的未来，保护和合理使用好水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620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节水宣传口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8288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19320" y="2209680"/>
            <a:ext cx="6476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◇“</a:t>
            </a: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珍惜每一滴水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◇“</a:t>
            </a: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拧紧一滴水，节约万滴水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◇“</a:t>
            </a: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节约用水，建设人类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◇“</a:t>
            </a: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美丽的家园需要水的滋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节约用水，从现在做起，从我做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今天不节水</a:t>
            </a: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方正舒体"/>
                <a:ea typeface="方正舒体"/>
              </a:rPr>
              <a:t>明天无泪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节水宣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38880" y="3505320"/>
            <a:ext cx="1287720" cy="2743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543800" y="2666880"/>
            <a:ext cx="304920" cy="304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620640"/>
            <a:ext cx="7129440" cy="5184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界水日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780000" y="260280"/>
            <a:ext cx="3600360" cy="3170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313080" cy="3097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672000" cy="2951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427640" y="3645000"/>
            <a:ext cx="2736720" cy="2879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859520" y="0"/>
            <a:ext cx="1033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新宋体"/>
              </a:rPr>
              <a:t>希望我们的子孙后代也能欣赏到如此美景！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987640" y="2276640"/>
            <a:ext cx="4032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74800" y="276120"/>
            <a:ext cx="2966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倡议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亲爱的老师们、同学们： 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，多么普通而又平凡的字眼，现在却异常严峻地摆在了我们的面前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   当世界上的许多地方因为生命之水正在苦苦挣扎；当养育我们生命的绿洲农田正在渐渐消失；当孩子们灿烂的笑容在饥渴的荒漠中变成绝望的恸哭时，在你我生活的校园，在我们的周边，水的问题也严肃和毅然地来到了我们的面前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   同学们，在我们习以为常却也心安理得地“流放”着水龙头里的清水时，你可曾意识到：我们人均月水量竟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立方，这是附近几户人家一个月，甚至偏远山区人家一年的用水量！在我们习以为常却也心安理得地“流放”着水龙头里的清水时，你可曾意识到：从你我水中哗哗流走的是一个个鲜活生命的渴望，是一个大学生最基本的责任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   所以，同学们，让我们从现在就开始吧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   用你的双手去关掉正在“哭泣”的水龙头，让勤劳和节约使每一滴水都“来而有由，去而有值”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   用你的眼睛去注意身边浪费水的现象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   用你真诚的心走到倡导节水的队伍中来，用你的言语和行动让周围的人真正地树立起节水的意识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   同学们，让我们行动起来吧，让节约用水不仅仅是一句干枯的口号，让绿树红花常驻校园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zo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7:13:2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2:54Z</dcterms:modified>
  <cp:revision>52</cp:revision>
  <dc:subject>主题班会课件(分28大类): http://shop62905894.taobao.com</dc:subject>
  <dc:title>主题班会课件(分28大类): http://shop62905894.taobao.com</dc:title>
</cp:coreProperties>
</file>