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29.png" ContentType="image/png"/>
  <Override PartName="/ppt/media/image26.gif" ContentType="image/gif"/>
  <Override PartName="/ppt/media/image3.jpeg" ContentType="image/jpeg"/>
  <Override PartName="/ppt/media/image24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9.jpeg" ContentType="image/jpeg"/>
  <Override PartName="/ppt/media/image8.png" ContentType="image/png"/>
  <Override PartName="/ppt/media/image30.gif" ContentType="image/gif"/>
  <Override PartName="/ppt/media/image11.jpeg" ContentType="image/jpeg"/>
  <Override PartName="/ppt/media/image31.gif" ContentType="image/gif"/>
  <Override PartName="/ppt/media/image7.jpeg" ContentType="image/jpeg"/>
  <Override PartName="/ppt/media/image1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28.jpeg" ContentType="image/jpeg"/>
  <Override PartName="/ppt/media/image27.gif" ContentType="image/gif"/>
  <Override PartName="/ppt/media/image16.gif" ContentType="image/gif"/>
  <Override PartName="/ppt/media/image17.jpeg" ContentType="image/jpeg"/>
  <Override PartName="/ppt/media/image18.jpeg" ContentType="image/jpeg"/>
  <Override PartName="/ppt/media/image21.wmf" ContentType="image/x-wmf"/>
  <Override PartName="/ppt/media/image6.jpeg" ContentType="image/jpeg"/>
  <Override PartName="/ppt/media/image25.png" ContentType="image/png"/>
  <Override PartName="/ppt/media/image19.jpeg" ContentType="image/jpeg"/>
  <Override PartName="/ppt/media/image13.png" ContentType="image/png"/>
  <Override PartName="/ppt/media/image20.gif" ContentType="image/gif"/>
  <Override PartName="/ppt/media/image12.png" ContentType="image/pn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8FE19-CF94-4981-AA73-7BF62649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9F037-1EC5-4342-B6E3-2A17977F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031B3-9687-4870-AFE6-3039FC59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D13F3-2C09-4E80-8755-0B5DF737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E6CA-2A30-4664-89AF-B8C1DEC8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F22B-C7F5-47BB-950E-C09558DE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965D-C236-4F1D-A05F-B032682D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C625-E3AA-4799-86CE-D785A411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CA21-6BB6-4E15-8B4B-9A162E75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2DDE-AAA3-477A-A483-321857EC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642D-F285-4FC8-A48C-BE8590C2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3E764-AE92-46DF-86A7-D12E6F5E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E27F-4C37-41BA-9B44-FDE0728D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C8E8-8268-4E7C-A367-A8E9BAC0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DA50-1863-4478-B8B2-F7D56581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FE5F-AF98-4E3A-AABB-6C8856BB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AAC9-B23B-477A-BB90-283BBD58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1D8F5-22D2-4E2E-9D89-8EC0C1B0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42FB2-B912-4CD4-BFC7-D01326D9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2D6BD-2606-4434-94FC-1EF2BE22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D10A0-E783-48AF-9D20-0127D7D2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B012D-1027-4E78-8A2E-DFDF0883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E7981-56C0-4CA3-B13D-B9F4FFD3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08041-2A19-40DD-810E-05B6C27D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5544-7D0C-46AB-A513-EFA11E304A5A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84C0-23F5-4E5C-803B-30198177A973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0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0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0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0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0.xml"/><Relationship Id="rId3" Type="http://schemas.openxmlformats.org/officeDocument/2006/relationships/image" Target="../media/image25.png"/><Relationship Id="rId4" Type="http://schemas.openxmlformats.org/officeDocument/2006/relationships/slide" Target="slide20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0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1.jpeg"/><Relationship Id="rId3" Type="http://schemas.openxmlformats.org/officeDocument/2006/relationships/image" Target="../media/image31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6292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627280" y="692280"/>
            <a:ext cx="432108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 rot="383400">
            <a:off x="2123640" y="620280"/>
            <a:ext cx="5616720" cy="2737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1000"/>
                  </a:srgbClr>
                </a:solidFill>
                <a:latin typeface="宋体"/>
              </a:rPr>
              <a:t>共建绿色家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1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93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835280" y="2251080"/>
            <a:ext cx="446544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757840" y="333360"/>
            <a:ext cx="3386160" cy="2421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56000" y="206064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533520"/>
            <a:ext cx="2590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0">
                  <a:solidFill>
                    <a:srgbClr val="ffff00"/>
                  </a:solidFill>
                </a:ln>
                <a:solidFill>
                  <a:srgbClr val="000000"/>
                </a:solidFill>
                <a:latin typeface="宋体"/>
              </a:rPr>
              <a:t>小品</a:t>
            </a:r>
            <a:endParaRPr b="1" i="1" lang="en-US" sz="4000" spc="1" strike="noStrike">
              <a:ln w="0">
                <a:solidFill>
                  <a:srgbClr val="ffff00"/>
                </a:solidFill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3" name=""/>
          <p:cNvSpPr/>
          <p:nvPr/>
        </p:nvSpPr>
        <p:spPr>
          <a:xfrm>
            <a:off x="2195640" y="2565360"/>
            <a:ext cx="4752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484360" y="2492280"/>
            <a:ext cx="4176720" cy="194328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在干净的地方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5013360"/>
            <a:ext cx="50421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演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严一峰  卢梦吉  汪琪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3457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495680" y="3467160"/>
            <a:ext cx="4648320" cy="3390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916360" y="33577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活垃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260280"/>
            <a:ext cx="2842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981000"/>
            <a:ext cx="259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健康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2205000"/>
            <a:ext cx="252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演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汪伊娜  马青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360" y="1700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找一找：结合刚才相声、小品中的例子，我们身边有哪些破坏环境、污染环境的行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说一说：环境污染给我们的生活带来了哪些不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谈一谈：一次性筷子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塑料袋、泡沫塑料制品对环境的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3520" y="5877000"/>
            <a:ext cx="13809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539640" y="189000"/>
          <a:ext cx="22100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89000"/>
                    <a:ext cx="2210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03640" y="503280"/>
            <a:ext cx="8136720" cy="8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次性筷子与环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一双筷子的价值是多少呢？批发价不超过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0.03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元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双。按此计算，一棵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年的大树如果做成一次性筷子价值不超过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20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元。果真如此吗？据国外研究资料测算，这棵大树对改善生活环境的综合价值，具体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一棵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年的大树产生的环境价值（人民币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制造氧气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99200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元  制造蛋白质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816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元  减少大气污染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98400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元   促进水分再循环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18400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元   防止土壤侵蚀增强土壤肥力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99200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元为鸟类等提供栖息环境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99200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元   合计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615216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元（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61.52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万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如果这棵大树被砍倒了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人们要花费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61.52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万元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才能起到这棵大树对环境的保护作用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也就是说一棵二十年的大树制作成筷子几乎白白浪费了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61.50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万元的环境资源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平均一双筷子浪费了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53—205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朋友，保护环境就是保护我们自己，为了让我们的环境不再受到破坏，请爱惜树木，保护森林，从我做起，从现在做起，从不用一次性筷子做起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86000" y="486000"/>
            <a:ext cx="8172000" cy="5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塑料与环境污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一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影响农业发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废塑料制品混在土壤中不断累积，会影响农作物吸收养分和水分，导致农作物减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二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对动物生存构成威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抛弃在陆地上或水体中的废塑料制品，被动物当作食物吞入，导致动物死亡。去年青海湖畔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户牧民共有近千只羊因此致死，经济损失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万元。羊喜欢吃塑料袋中夹裹着的油性残留物，却常常连塑料袋一起吃下去了，由于吃下的塑料长时间滞留胃中难以消化，这些羊的胃被挤满了，再也不能吃东西，最后只能被活活饿死。这样的事在动物园、牧区、农村、海洋中屡见不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三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废塑料随垃圾填埋不仅会占用大量土地，而且被占用的土地长期得不到恢复，影响土地的可持续利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进入生活垃圾中的废塑料制品如果将其填埋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的时间不降解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议一议：我们该怎么做才能更好地保护好我们周边的环境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随地乱扔垃圾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随地吐痰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乱砍乱伐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尽量节省文具用品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尽量避免使用一次性物品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随意捕杀野生动物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尽可能用节能灯代替普通灯泡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开车时减速行驶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尽量以步代车或骑自行车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380880" y="1143000"/>
            <a:ext cx="3200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歌曲欣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5" name=""/>
          <p:cNvSpPr/>
          <p:nvPr/>
        </p:nvSpPr>
        <p:spPr>
          <a:xfrm>
            <a:off x="1619280" y="3068640"/>
            <a:ext cx="5400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5640" y="2492280"/>
            <a:ext cx="48243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4581360"/>
            <a:ext cx="482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演唱者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冯译天  顾雪婷  王秀芳  金燕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987640" y="2708280"/>
            <a:ext cx="4751280" cy="1596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83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一个真实的故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7740720" cy="4032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39640" y="404640"/>
            <a:ext cx="44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小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333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79640" y="907920"/>
            <a:ext cx="396072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最后一滴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1628640"/>
            <a:ext cx="4753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演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陈洁  马方磊  顾叶璐  王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62120" y="12193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14400" y="6222960"/>
            <a:ext cx="762120" cy="6350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476360" y="1413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一关：必答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2133720"/>
            <a:ext cx="7056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规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四小组轮流答题，每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题，每道题目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分，答对得分，答错不扣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84360" y="549360"/>
            <a:ext cx="403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71640" y="69228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环保知识竞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265200" y="685800"/>
            <a:ext cx="23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7c80"/>
                </a:solidFill>
                <a:latin typeface="Times New Roman"/>
              </a:rPr>
              <a:t>必答题</a:t>
            </a:r>
            <a:r>
              <a:rPr b="0" lang="zh-CN" sz="2400" spc="-1" strike="noStrike">
                <a:solidFill>
                  <a:srgbClr val="ff7c8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7c80"/>
                </a:solidFill>
                <a:latin typeface="Times New Roman"/>
              </a:rPr>
              <a:t>第一组</a:t>
            </a:r>
            <a:r>
              <a:rPr b="0" lang="zh-CN" sz="2400" spc="-1" strike="noStrike">
                <a:solidFill>
                  <a:srgbClr val="ff7c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371628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任何单位和个人发现受伤、病弱、饥饿、受困、迷途的国家和地方重点保护野生动物时，应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己带回家中收养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置之不理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时报告当地野生动物管理部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14400" y="6222960"/>
            <a:ext cx="762120" cy="635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92360" y="1844640"/>
            <a:ext cx="547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068640"/>
            <a:ext cx="5472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208296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世界环境日是哪一天？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43280" y="21258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17320" y="4068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125280"/>
            <a:ext cx="8820360" cy="6732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404640"/>
            <a:ext cx="79218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66"/>
                </a:solidFill>
                <a:latin typeface="Arial"/>
                <a:ea typeface="黑体"/>
              </a:rPr>
              <a:t>共建绿设家园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66"/>
                </a:solidFill>
                <a:latin typeface="Arial"/>
                <a:ea typeface="黑体"/>
              </a:rPr>
              <a:t>     </a:t>
            </a:r>
            <a:r>
              <a:rPr b="1" lang="zh-CN" sz="4800" spc="-1" strike="noStrike">
                <a:solidFill>
                  <a:srgbClr val="66ff66"/>
                </a:solidFill>
                <a:latin typeface="Arial"/>
                <a:ea typeface="黑体"/>
              </a:rPr>
              <a:t>----</a:t>
            </a:r>
            <a:r>
              <a:rPr b="1" lang="zh-CN" sz="3600" spc="-1" strike="noStrike">
                <a:solidFill>
                  <a:srgbClr val="66ff66"/>
                </a:solidFill>
                <a:latin typeface="Arial"/>
                <a:ea typeface="黑体"/>
              </a:rPr>
              <a:t>让我们的子孙能继续享受绿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295280" y="1752480"/>
            <a:ext cx="6248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43520" y="685800"/>
            <a:ext cx="263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7c80"/>
                </a:solidFill>
                <a:latin typeface="Times New Roman"/>
              </a:rPr>
              <a:t>必答题</a:t>
            </a:r>
            <a:r>
              <a:rPr b="0" lang="zh-CN" sz="2400" spc="-1" strike="noStrike">
                <a:solidFill>
                  <a:srgbClr val="ff7c8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7c80"/>
                </a:solidFill>
                <a:latin typeface="Times New Roman"/>
              </a:rPr>
              <a:t>第二组</a:t>
            </a:r>
            <a:r>
              <a:rPr b="0" lang="zh-CN" sz="2400" spc="-1" strike="noStrike">
                <a:solidFill>
                  <a:srgbClr val="ff7c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32000" y="2060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世界无烟日是（  　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.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　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 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14400" y="6222960"/>
            <a:ext cx="762120" cy="635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187280" y="357336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一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号电池能使一平方米的土地永远失去利用价值，一粒扣式电池可污染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.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立方米水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.1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立方米水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.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立方米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42160" y="20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2520" y="38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143520" y="685800"/>
            <a:ext cx="263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7c80"/>
                </a:solidFill>
                <a:latin typeface="Times New Roman"/>
              </a:rPr>
              <a:t>必答题</a:t>
            </a:r>
            <a:r>
              <a:rPr b="0" lang="zh-CN" sz="2400" spc="-1" strike="noStrike">
                <a:solidFill>
                  <a:srgbClr val="ff7c8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7c80"/>
                </a:solidFill>
                <a:latin typeface="Times New Roman"/>
              </a:rPr>
              <a:t>第三组</a:t>
            </a:r>
            <a:r>
              <a:rPr b="0" lang="zh-CN" sz="2400" spc="-1" strike="noStrike">
                <a:solidFill>
                  <a:srgbClr val="ff7c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14400" y="6222960"/>
            <a:ext cx="762120" cy="635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692360" y="1844640"/>
            <a:ext cx="547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3789360"/>
            <a:ext cx="5689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3141720"/>
            <a:ext cx="6624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16000" y="3068640"/>
            <a:ext cx="5472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32000" y="1989000"/>
            <a:ext cx="67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因为森林有净化空气，保持水土流失等功能，森林使人类有足够的氧气得以生存，所以被　称为地球的（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心脏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肺叶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肝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37162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随着绿色消费运动的发展，全球已逐渐形成一种（       ）的生活风尚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追求时尚 破坏环境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保护环境 崇尚自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保护环境 盲目消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24720" y="2708280"/>
            <a:ext cx="7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5800" y="4076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295280" y="1752480"/>
            <a:ext cx="6248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43520" y="685800"/>
            <a:ext cx="263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7c80"/>
                </a:solidFill>
                <a:latin typeface="Times New Roman"/>
              </a:rPr>
              <a:t>必答题</a:t>
            </a:r>
            <a:r>
              <a:rPr b="0" lang="zh-CN" sz="2400" spc="-1" strike="noStrike">
                <a:solidFill>
                  <a:srgbClr val="ff7c8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7c80"/>
                </a:solidFill>
                <a:latin typeface="Times New Roman"/>
              </a:rPr>
              <a:t>第四组</a:t>
            </a:r>
            <a:r>
              <a:rPr b="0" lang="zh-CN" sz="2400" spc="-1" strike="noStrike">
                <a:solidFill>
                  <a:srgbClr val="ff7c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03280" y="18446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中国野生动物保护协会的会徽是（  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丹顶鹤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熊猫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骆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14400" y="6222960"/>
            <a:ext cx="762120" cy="63504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1763640" y="638172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92360" y="1844640"/>
            <a:ext cx="547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35280" y="1916280"/>
            <a:ext cx="56894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16000" y="3068640"/>
            <a:ext cx="5472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03280" y="299736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以下说法哪种是错误的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          )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个废餐盒可以做一把学生用尺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废易拉罐溶解后可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无数次循环再造成新罐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废玻璃无法回收利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61440" y="1771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6160" y="29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62120" y="12193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14400" y="6222960"/>
            <a:ext cx="762120" cy="6350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476360" y="1413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一关：抢答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16000" y="2133720"/>
            <a:ext cx="6912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规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四小组成员举手抢答，举手最快者获得答题的权利，答对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分，答错不扣分，组内同学可以补答一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4360" y="549360"/>
            <a:ext cx="403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71640" y="69228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环保知识竞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14400" y="11430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什么是水体有机污染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9999cc"/>
                </a:solidFill>
                <a:latin typeface="Times New Roman"/>
              </a:rPr>
              <a:t>指由城市污水、食品工业和造纸工业等排放的含有大量有机物的废水所造成的污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38080" y="5257800"/>
            <a:ext cx="7315200" cy="4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3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990720" y="5562720"/>
            <a:ext cx="7315200" cy="3650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447920" y="3109680"/>
            <a:ext cx="67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9999cc"/>
                </a:solidFill>
                <a:latin typeface="Arial"/>
              </a:rPr>
              <a:t>答</a:t>
            </a:r>
            <a:r>
              <a:rPr b="1" lang="zh-CN" sz="3600" spc="-1" strike="noStrike">
                <a:solidFill>
                  <a:srgbClr val="9999cc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9999cc"/>
                </a:solidFill>
                <a:latin typeface="Arial"/>
              </a:rPr>
              <a:t>有机垃圾和无机垃圾。有机垃圾主要是厨房生活垃圾，如烂菜叶等。无机垃圾主要是废金属、废塑料、废纸及渣土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6840" y="83808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垃圾可分为哪几类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4468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763280" y="5084640"/>
            <a:ext cx="3198240" cy="642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这二幅漫画说明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587700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我国水资源浪费、污染严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876920" y="0"/>
          <a:ext cx="4267080" cy="465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0"/>
                    <a:ext cx="426708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1946160" y="440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熟视无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4292640"/>
            <a:ext cx="319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钓鱼者的困惑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81000" y="4572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cc"/>
                </a:solidFill>
                <a:latin typeface="Arial"/>
              </a:rPr>
              <a:t>工业生产所排放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三废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什么？ </a:t>
            </a:r>
            <a:r>
              <a:rPr b="1" lang="zh-CN" sz="4000" spc="-1" strike="noStrike">
                <a:solidFill>
                  <a:srgbClr val="9999cc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066680" y="5486400"/>
            <a:ext cx="7239240" cy="628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249440" y="2818800"/>
            <a:ext cx="77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废水、废气、废渣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6192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近年我国北方地区出现了许多次沙尘暴天气，你能说出主要原因吗？（答对一个即可得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13200" y="3716280"/>
            <a:ext cx="25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植被破坏／土壤流失／气候异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0920" y="1413000"/>
            <a:ext cx="676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什么提倡购买使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氟冰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49440" y="2997360"/>
            <a:ext cx="18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减少对臭氧层的破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2556000" y="620640"/>
            <a:ext cx="4032000" cy="129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美丽的地球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25892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茫茫宇宙中，地球是人类目前唯一可以居住与生活的星球。几百万年以来，地球养育、敷衍着人类，但是近百年来人类大规模的生产和生活活动，却破坏、污染着地球。地球在呻吟，地球在呼救，让我们行动起来，携手一起保卫我们的家园吧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635280" y="83664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d60093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隶书"/>
              </a:rPr>
              <a:t>结束语</a:t>
            </a:r>
            <a:endParaRPr b="0" lang="en-US" sz="54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d60093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164360" y="5084640"/>
            <a:ext cx="1528920" cy="1528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-181080" y="333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050920" y="765000"/>
            <a:ext cx="62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茫茫宇宙中，地球是人类目前唯一可以居住与生活的星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几百万年以来，地球养育、敷衍着人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但是近百年来人类大规模的生产和生活活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却破坏、污染着地球。地球在呻吟，地球在呼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让我们行动起来，携手一起保卫我们的家园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659640" y="4581360"/>
            <a:ext cx="1528560" cy="15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环保承诺宣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7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8844"/>
                </a:solidFill>
                <a:latin typeface="Arial"/>
                <a:ea typeface="华文行楷"/>
              </a:rPr>
              <a:t>①</a:t>
            </a:r>
            <a:r>
              <a:rPr b="1" lang="zh-CN" sz="2400" spc="-1" strike="noStrike">
                <a:solidFill>
                  <a:srgbClr val="448844"/>
                </a:solidFill>
                <a:latin typeface="Arial"/>
              </a:rPr>
              <a:t>我们承诺</a:t>
            </a:r>
            <a:r>
              <a:rPr b="1" lang="zh-CN" sz="2400" spc="-1" strike="noStrike">
                <a:solidFill>
                  <a:srgbClr val="448844"/>
                </a:solidFill>
                <a:latin typeface="Arial"/>
                <a:ea typeface="华文行楷"/>
              </a:rPr>
              <a:t>节约用电，自然光充足时关闭室内灯。离开教室时关闭教室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8844"/>
                </a:solidFill>
                <a:latin typeface="Arial"/>
                <a:ea typeface="华文行楷"/>
              </a:rPr>
              <a:t>②</a:t>
            </a:r>
            <a:r>
              <a:rPr b="1" lang="zh-CN" sz="2400" spc="-1" strike="noStrike">
                <a:solidFill>
                  <a:srgbClr val="448844"/>
                </a:solidFill>
                <a:latin typeface="Arial"/>
              </a:rPr>
              <a:t>我们承诺</a:t>
            </a:r>
            <a:r>
              <a:rPr b="1" lang="zh-CN" sz="2400" spc="-1" strike="noStrike">
                <a:solidFill>
                  <a:srgbClr val="448844"/>
                </a:solidFill>
                <a:latin typeface="Arial"/>
                <a:ea typeface="华文行楷"/>
              </a:rPr>
              <a:t>节约用水，用水时尽量使用小水流，用完及时关闭水龙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8844"/>
                </a:solidFill>
                <a:latin typeface="Arial"/>
                <a:ea typeface="华文行楷"/>
              </a:rPr>
              <a:t>③</a:t>
            </a:r>
            <a:r>
              <a:rPr b="1" lang="zh-CN" sz="2400" spc="-1" strike="noStrike">
                <a:solidFill>
                  <a:srgbClr val="448844"/>
                </a:solidFill>
                <a:latin typeface="Arial"/>
              </a:rPr>
              <a:t>我们承诺</a:t>
            </a:r>
            <a:r>
              <a:rPr b="1" lang="zh-CN" sz="2400" spc="-1" strike="noStrike">
                <a:solidFill>
                  <a:srgbClr val="448844"/>
                </a:solidFill>
                <a:latin typeface="Arial"/>
                <a:ea typeface="华文行楷"/>
              </a:rPr>
              <a:t>节约粮食，不剩饭，培养节俭品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8844"/>
                </a:solidFill>
                <a:latin typeface="Arial"/>
                <a:ea typeface="华文行楷"/>
              </a:rPr>
              <a:t>④</a:t>
            </a:r>
            <a:r>
              <a:rPr b="1" lang="zh-CN" sz="2400" spc="-1" strike="noStrike">
                <a:solidFill>
                  <a:srgbClr val="448844"/>
                </a:solidFill>
                <a:latin typeface="Arial"/>
              </a:rPr>
              <a:t>我们承诺</a:t>
            </a:r>
            <a:r>
              <a:rPr b="1" lang="zh-CN" sz="2400" spc="-1" strike="noStrike">
                <a:solidFill>
                  <a:srgbClr val="448844"/>
                </a:solidFill>
                <a:latin typeface="Arial"/>
                <a:ea typeface="华文行楷"/>
              </a:rPr>
              <a:t>节约用纸，一张纸两面用，</a:t>
            </a:r>
            <a:r>
              <a:rPr b="1" lang="zh-CN" sz="2400" spc="-1" strike="noStrike">
                <a:solidFill>
                  <a:srgbClr val="448844"/>
                </a:solidFill>
                <a:latin typeface="Arial"/>
              </a:rPr>
              <a:t>垃圾分类扔进垃圾箱</a:t>
            </a:r>
            <a:r>
              <a:rPr b="1" lang="zh-CN" sz="2400" spc="-1" strike="noStrike">
                <a:solidFill>
                  <a:srgbClr val="448844"/>
                </a:solidFill>
                <a:latin typeface="Arial"/>
                <a:ea typeface="华文行楷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8844"/>
                </a:solidFill>
                <a:latin typeface="Arial"/>
                <a:ea typeface="华文行楷"/>
              </a:rPr>
              <a:t>⑤</a:t>
            </a:r>
            <a:r>
              <a:rPr b="1" lang="zh-CN" sz="2400" spc="-1" strike="noStrike">
                <a:solidFill>
                  <a:srgbClr val="448844"/>
                </a:solidFill>
                <a:latin typeface="Arial"/>
              </a:rPr>
              <a:t>我们承诺</a:t>
            </a:r>
            <a:r>
              <a:rPr b="1" lang="zh-CN" sz="2400" spc="-1" strike="noStrike">
                <a:solidFill>
                  <a:srgbClr val="448844"/>
                </a:solidFill>
                <a:latin typeface="Arial"/>
                <a:ea typeface="华文行楷"/>
              </a:rPr>
              <a:t>爱护公物，门窗轻关轻开，桌椅轻搬轻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8844"/>
                </a:solidFill>
                <a:latin typeface="Arial"/>
              </a:rPr>
              <a:t>⑥</a:t>
            </a:r>
            <a:r>
              <a:rPr b="1" lang="zh-CN" sz="2400" spc="-1" strike="noStrike">
                <a:solidFill>
                  <a:srgbClr val="448844"/>
                </a:solidFill>
                <a:latin typeface="Arial"/>
              </a:rPr>
              <a:t>我们承诺</a:t>
            </a:r>
            <a:r>
              <a:rPr b="1" lang="zh-CN" sz="2400" spc="-1" strike="noStrike">
                <a:solidFill>
                  <a:srgbClr val="448844"/>
                </a:solidFill>
                <a:latin typeface="Arial"/>
                <a:ea typeface="华文行楷"/>
              </a:rPr>
              <a:t>爱护动植物，不折花、不攀树，不践踏绿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8844"/>
                </a:solidFill>
                <a:latin typeface="Arial"/>
              </a:rPr>
              <a:t>⑦</a:t>
            </a:r>
            <a:r>
              <a:rPr b="1" lang="zh-CN" sz="2400" spc="-1" strike="noStrike">
                <a:solidFill>
                  <a:srgbClr val="448844"/>
                </a:solidFill>
                <a:latin typeface="Arial"/>
              </a:rPr>
              <a:t>我们承诺</a:t>
            </a:r>
            <a:r>
              <a:rPr b="1" lang="zh-CN" sz="2400" spc="-1" strike="noStrike">
                <a:solidFill>
                  <a:srgbClr val="448844"/>
                </a:solidFill>
                <a:latin typeface="Arial"/>
                <a:ea typeface="华文行楷"/>
              </a:rPr>
              <a:t>不吸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8844"/>
                </a:solidFill>
                <a:latin typeface="Arial"/>
              </a:rPr>
              <a:t>⑧</a:t>
            </a:r>
            <a:r>
              <a:rPr b="1" lang="zh-CN" sz="2400" spc="-1" strike="noStrike">
                <a:solidFill>
                  <a:srgbClr val="448844"/>
                </a:solidFill>
                <a:latin typeface="Arial"/>
              </a:rPr>
              <a:t>我们承诺</a:t>
            </a:r>
            <a:r>
              <a:rPr b="1" lang="zh-CN" sz="2400" spc="-1" strike="noStrike">
                <a:solidFill>
                  <a:srgbClr val="448844"/>
                </a:solidFill>
                <a:latin typeface="Arial"/>
                <a:ea typeface="华文行楷"/>
              </a:rPr>
              <a:t>做好卫生值日，保持环境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8844"/>
                </a:solidFill>
                <a:latin typeface="Arial"/>
              </a:rPr>
              <a:t>⑨</a:t>
            </a:r>
            <a:r>
              <a:rPr b="1" lang="zh-CN" sz="2400" spc="-1" strike="noStrike">
                <a:solidFill>
                  <a:srgbClr val="448844"/>
                </a:solidFill>
                <a:latin typeface="Arial"/>
              </a:rPr>
              <a:t>我们承诺我们自觉学习环保知识，提高环保意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8844"/>
                </a:solidFill>
                <a:latin typeface="Arial"/>
              </a:rPr>
              <a:t>⑩</a:t>
            </a:r>
            <a:r>
              <a:rPr b="1" lang="zh-CN" sz="2400" spc="-1" strike="noStrike">
                <a:solidFill>
                  <a:srgbClr val="448844"/>
                </a:solidFill>
                <a:latin typeface="Arial"/>
              </a:rPr>
              <a:t>我们承诺我们带动朋友、亲人参与环保行动，积极向社会宣传环保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  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50920" y="558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270203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363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334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  <a:ea typeface="黑体"/>
              </a:rPr>
              <a:t>可是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  <a:ea typeface="黑体"/>
              </a:rPr>
              <a:t>我们的地球正日益遭到人为破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162560" cy="5013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274760" y="89208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没有干净的水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373560" cy="4941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3297240" cy="49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95640" y="55159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北京近年来也受到沙尘暴的袭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3600360" cy="3816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360072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00000" y="4941720"/>
            <a:ext cx="7632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  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一天，在加拿大安大略省彼得伯勒的车道上，众多汽车在一名男子的指挥下纷纷停下，为匆匆赶往河中的鸭妈妈和她的小宝宝们让道。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新华社／美联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92720" y="4508640"/>
            <a:ext cx="35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348000" y="981000"/>
            <a:ext cx="3446640" cy="3889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4000" y="476280"/>
            <a:ext cx="29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1484280"/>
            <a:ext cx="28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咏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60280"/>
            <a:ext cx="2590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欣赏相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2349360"/>
            <a:ext cx="2590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演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柳俊   马家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93080" y="3295800"/>
            <a:ext cx="1582560" cy="12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快点！等老子急了，把你们一家老小，肥的烤了，年轻的红烧！” （某报“幽默场”版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8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06:55:2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2:25Z</dcterms:modified>
  <cp:revision>48</cp:revision>
  <dc:subject>主题班会课件(分28大类): http://shop62905894.taobao.com</dc:subject>
  <dc:title>主题班会课件(分28大类): http://shop62905894.taobao.com</dc:title>
</cp:coreProperties>
</file>