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gif" ContentType="image/gif"/>
  <Override PartName="/ppt/media/image11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32.jpeg" ContentType="image/jpeg"/>
  <Override PartName="/ppt/media/image38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DF53-0642-4B13-95D8-A761C976C7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环保，是当今时代的一个重要主题，由于人类的一味索取，地球的环境正在逐渐恶劣，气候趋于极端化。就像去年汕头的冬天非常冷，而今年的秋冬季节又来得很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现在还没有特别冷的感觉（当然，向我这种人呢比较例外。），环境的变化已经在悄然改变我们的生活，我们甚至已经可以很明显地感觉出来。所以，环保是不得不提上日程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家都知道，我国的电力资源主要有火电、水电、核电。可是大家有没有想过，火电然煤，会排放出大量的温室气体。而核电，是有很大的环境隐患的，切尔诺贝利核电站的泄漏，造成的恶劣后果，相信大家也都听说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环保，是当今时代的一个重要主题，由于人类的一味索取，地球的环境正在逐渐恶劣，气候趋于极端化。就像去年汕头的冬天非常冷，而今年的秋冬季节又来得很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现在还没有特别冷的感觉（当然，向我这种人呢比较例外。），环境的变化已经在悄然改变我们的生活，我们甚至已经可以很明显地感觉出来。所以，环保是不得不提上日程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环保，是当今时代的一个重要主题，由于人类的一味索取，地球的环境正在逐渐恶劣，气候趋于极端化。就像去年汕头的冬天非常冷，而今年的秋冬季节又来得很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现在还没有特别冷的感觉（当然，向我这种人呢比较例外。），环境的变化已经在悄然改变我们的生活，我们甚至已经可以很明显地感觉出来。所以，环保是不得不提上日程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环保，是当今时代的一个重要主题，由于人类的一味索取，地球的环境正在逐渐恶劣，气候趋于极端化。就像去年汕头的冬天非常冷，而今年的秋冬季节又来得很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现在还没有特别冷的感觉（当然，向我这种人呢比较例外。），环境的变化已经在悄然改变我们的生活，我们甚至已经可以很明显地感觉出来。所以，环保是不得不提上日程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695-8EE4-4EAC-BF04-E8F6BDB3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AD4-1E1B-44F8-AB56-149884F5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9F7-BAE0-497F-876D-9D7D3503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4F0-F12D-4B94-BA74-573D996D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3AC-32F6-4537-8AAB-65C96042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8B6-18FC-46BE-A0A8-00479790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ACB-38A3-4C15-94DB-49651EB0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CA0-3446-46E7-81C2-C59A8259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263-59CA-4F8D-B434-0CB2F1DB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83E-899F-4B57-B2F2-82DEE03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ECF-C0F4-4C56-B383-B687C47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9A5-3729-490B-A4E5-ACF594DC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EFA-7455-4DD8-975E-B0053A7064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zjdqsz.com/better/shenwuhai/new_page_4.htm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9000" y="84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环保教育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413000"/>
            <a:ext cx="7848720" cy="36716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2276640"/>
            <a:ext cx="698508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班会主持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29560" y="0"/>
            <a:ext cx="231444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33336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沙尘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284720" cy="489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097440" cy="4651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85000" y="61117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水资源污染，生灵涂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1959120" cy="1557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水污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76720" y="1630440"/>
            <a:ext cx="579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乱砍乱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590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50770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462480"/>
            <a:ext cx="4859280" cy="339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24560" cy="344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24560" y="0"/>
            <a:ext cx="47718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24560" y="3429000"/>
            <a:ext cx="47718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95640" y="3500280"/>
            <a:ext cx="5148360" cy="3289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915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固体垃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11280" y="189000"/>
            <a:ext cx="4753080" cy="865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家园在呻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217520"/>
            <a:ext cx="65516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慰蓝明镜般的天空，清新的空气，清澈见底的河流，绿色的森林原野，这是人类祖先享受过的最佳自然环境。如今，科学技术高速发展，生产资料和生活水平也高速增长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但伴随来的是生产和生活垃圾、废料对生态环境的日益破坏。请君看看，天上地下白、黑、黄色污染都不同程度地影响着我们的健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476280"/>
            <a:ext cx="8351640" cy="59446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三乐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《环保行动》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19717"/>
          <a:stretch/>
        </p:blipFill>
        <p:spPr>
          <a:xfrm>
            <a:off x="2097000" y="2205000"/>
            <a:ext cx="4275360" cy="380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1280" y="486108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　　不要让地球上的最后一滴水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成为人类的眼泪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511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光明伴随着它降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活离不开它的身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煤炭的牺牲换来它的充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流水的冲击孕育他的强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却仍然供不应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多少贫瘠的土地呼唤着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而我们，还在肆意挥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5000" y="1447920"/>
            <a:ext cx="2895480" cy="358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电</a:t>
            </a:r>
            <a:endParaRPr b="1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95280" y="40464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歌曲欣赏：</a:t>
            </a:r>
            <a:endParaRPr b="1" lang="en-US" sz="72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5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爱的奉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80360" y="62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1728720" cy="1049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11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634920" y="836640"/>
            <a:ext cx="4861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绿色是大自然赠与人类的宝贵财富，每个人都渴望拥有一个绿色的家园。校园作为我们成长学习的重要场所之一，校园环保直接关系到我们学生的生活健康。创建绿色校园，不仅仅要有优美的硬件环境，更需要提高学生自身的修养和素质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604440" y="195120"/>
            <a:ext cx="2133720" cy="269532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00"/>
                </a:solidFill>
                <a:latin typeface="华文行楷"/>
              </a:rPr>
              <a:t>绿</a:t>
            </a:r>
            <a:endParaRPr b="0" lang="en-US" sz="9600" spc="1" strike="noStrike">
              <a:ln w="9360">
                <a:solidFill>
                  <a:srgbClr val="99cc00"/>
                </a:solidFill>
                <a:miter/>
              </a:ln>
              <a:solidFill>
                <a:srgbClr val="009900"/>
              </a:solidFill>
              <a:latin typeface="华文行楷"/>
              <a:ea typeface="华文行楷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21025200">
            <a:off x="7020000" y="4797360"/>
            <a:ext cx="1908000" cy="1887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5400000">
            <a:off x="4619160" y="1077480"/>
            <a:ext cx="4038840" cy="31244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粮食</a:t>
            </a:r>
            <a:endParaRPr b="0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悯农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锄禾日当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汗滴禾下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知盘中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粒粒皆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小我们就接受节约粮食的教育，可是，当我们在食堂里倒掉大量的饭菜时，还会想起这首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07160"/>
            <a:ext cx="8110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《节水有高招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水，水，水，很宝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一滴水，不浪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点点滴滴珍惜它，节约用水靠大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今天我来教一教，节约用水有高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洗米洗菜洗水果，剩水浇花营养多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洗脸洗手水不换，用完还可拖地板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洗澡冷水莫放过，桶盆接住冲厕所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有水生活真丰富，用完拧紧水龙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一水多用真聪明，节水还靠有心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人人都做有心人，有限资源享不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33360"/>
            <a:ext cx="8064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一我拍一，不要乱扔脏东西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二我拍二，尽量少用塑料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三我拍三，用完电灯随手关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四我拍四，认真写字节约纸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五我拍五，少坐私车多走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六我拍六，废旧电池别乱丢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七我拍七，穿着整洁胜新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八我拍八，电器不用插头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九我拍九，节约用水要持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拍十我拍十，争当节能小卫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476280"/>
            <a:ext cx="8351640" cy="59446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四乐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《环保畅想》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60280"/>
            <a:ext cx="79930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环保三句半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同学们，你们好，今天我来说环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污染指数节节高，地球妈妈要控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啊？地球妈妈要控告什么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变黄，水变黑，白色垃圾满天飞。真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塑料袋，满天飞，市容面貌在抹黑。可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变灰，河变脏，生态环境在受伤。咋办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扔张纸，吐口痰，人的生命要玩完。可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塑料袋，竹木筷，城市污染真厉害。害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电池多，电池好，环境污染最重要。回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污水多，垃圾多，海洋也要变黑了。恐怖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排尾气，冒黑烟，黑色空气飞满天。真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囱冒烟，天气染，空气需要洗洗脸。难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臭氧层，在破洞，人们得了皮肤病。要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260280"/>
            <a:ext cx="842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沙尘暴，刮来了，庄稼减产不得了。不得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鸟被打，林被伐，自然环境破环啦。不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草变干，树变枯，大地妈妈像在哭。伤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洪水到，树也倒，江河不断在咆哮。快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发大水，闹干旱，农民伯伯在流汗。真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砍棵树，拔棵草，地球就要不行了。找医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妙！不妙！那咋办？治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变蓝，水变清，白色垃圾人人清。真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沙尘落，天晴朗，沙漠从此不荒凉。真棒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多种树，多种草，自然灾害就会少。真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鸟儿多，天气晴，人们生活得安宁。睡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源疏通，河流净，莺歌燕舞似仙境。真美！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260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7628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花儿艳，草儿绿，蓝天白云真美丽。照相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树长芽，鸟回家，自然环境恢复啦。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花草多，树木多，幸福生活你来过。唱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森林多，资源多，环保效果真不错。不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学生，收电池，小小年纪真懂事。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学生，捡废品，个子不高高人品。可赞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要种树，要种草，人人参与不能少。不能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能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重环保，护家国，男女老少齐忙活。齐忙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齐忙活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476280"/>
            <a:ext cx="8351640" cy="59446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五乐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《环保旋律》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260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54936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原以为你是那么宽广，不在乎带走一片阴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原以为你是那么坚强，没想到你的眼泪在流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地球，我们唯一的家园，让我们爱你到地久天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地球，我们的母亲，让我们尽情沐浴你的阳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5715000"/>
            <a:ext cx="1349280" cy="914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763640" y="184464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2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环保</a:t>
            </a:r>
            <a:endParaRPr b="1" lang="en-US" sz="66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8900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Times New Roman"/>
                <a:ea typeface="文鼎中特广告体"/>
              </a:rPr>
              <a:t>话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0" t="0" r="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79640" y="2708280"/>
            <a:ext cx="59054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幼圆"/>
              </a:rPr>
              <a:t>《好大一棵树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92360" y="1700280"/>
            <a:ext cx="593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让我们高声齐唱</a:t>
            </a:r>
            <a:endParaRPr b="1" lang="en-US" sz="66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667640" y="558972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4284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0800000">
            <a:off x="468360" y="3284280"/>
            <a:ext cx="6624720" cy="2305080"/>
          </a:xfrm>
          <a:prstGeom prst="cloudCallout">
            <a:avLst>
              <a:gd name="adj1" fmla="val -22898"/>
              <a:gd name="adj2" fmla="val 75824"/>
            </a:avLst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班主任总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2349360"/>
            <a:ext cx="50472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1420920"/>
            <a:ext cx="7345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同一个地球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同一个梦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请爱护我们的家园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保护环境，人人有责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01080" y="549360"/>
            <a:ext cx="360360" cy="647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6211800"/>
            <a:ext cx="503280" cy="646200"/>
          </a:xfrm>
          <a:custGeom>
            <a:avLst/>
            <a:gdLst>
              <a:gd name="textAreaLeft" fmla="*/ 207360 w 503280"/>
              <a:gd name="textAreaRight" fmla="*/ 295920 w 503280"/>
              <a:gd name="textAreaTop" fmla="*/ 266400 h 646200"/>
              <a:gd name="textAreaBottom" fmla="*/ 379800 h 64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01080" y="4724280"/>
            <a:ext cx="609480" cy="838440"/>
          </a:xfrm>
          <a:custGeom>
            <a:avLst/>
            <a:gdLst>
              <a:gd name="textAreaLeft" fmla="*/ 237600 w 609480"/>
              <a:gd name="textAreaRight" fmla="*/ 371880 w 609480"/>
              <a:gd name="textAreaTop" fmla="*/ 326880 h 838440"/>
              <a:gd name="textAreaBottom" fmla="*/ 5115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25" y="8425"/>
                </a:lnTo>
                <a:lnTo>
                  <a:pt x="10800" y="0"/>
                </a:lnTo>
                <a:lnTo>
                  <a:pt x="13175" y="8425"/>
                </a:lnTo>
                <a:lnTo>
                  <a:pt x="21600" y="10800"/>
                </a:lnTo>
                <a:lnTo>
                  <a:pt x="13175" y="13175"/>
                </a:lnTo>
                <a:lnTo>
                  <a:pt x="10800" y="21600"/>
                </a:lnTo>
                <a:lnTo>
                  <a:pt x="8425" y="1317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2276640"/>
            <a:ext cx="503280" cy="6476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1835280" y="189000"/>
            <a:ext cx="863640" cy="1224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60280"/>
            <a:ext cx="6324480" cy="6324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24720" y="83664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620640"/>
            <a:ext cx="1258920" cy="5580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环保奏鸣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115920"/>
            <a:ext cx="8352000" cy="64328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一乐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　《环保无价》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8000" y="1773360"/>
            <a:ext cx="5905800" cy="21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15920"/>
            <a:ext cx="8352000" cy="64328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二乐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　《环保忧思》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48000" y="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城市建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33336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大气污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0:23:4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38Z</dcterms:modified>
  <cp:revision>2</cp:revision>
  <dc:subject>主题班会课件(分28大类): http://shop62905894.taobao.com</dc:subject>
  <dc:title>主题班会课件(分28大类): http://shop62905894.taobao.com</dc:title>
</cp:coreProperties>
</file>