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9.wmf" ContentType="image/x-wmf"/>
  <Override PartName="/ppt/media/image14.png" ContentType="image/png"/>
  <Override PartName="/ppt/media/image8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gif" ContentType="image/gif"/>
  <Override PartName="/ppt/media/image23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.jpeg" ContentType="image/jpeg"/>
  <Override PartName="/ppt/media/image3.jpeg" ContentType="image/jpeg"/>
  <Override PartName="/ppt/media/image1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7A68-129C-45FA-8A71-29EA7FF79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974D-FA6E-45C5-8EF8-26303A6A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0759-DA1A-4971-A609-44647E8C2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39C2-BB05-40BE-86A0-5BC18F24B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3A89-B93D-4A69-A92C-C38AEE107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8F0D-F538-4845-AE0C-94449FE2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2D36-6363-4A68-985F-8C9C1CA3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2B8E-3ED5-4CED-8EBF-0E03F08E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374E-3856-4C8F-9013-9B48A34F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6996-A4DB-40E8-9E1D-76B60799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03DD-96DB-42A7-8E8B-2D063722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859D-A550-436A-8490-8BB1126D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B1AC-F1C9-4B97-9F1F-828231A3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50DD-7BC4-4B41-A637-C8C40F5F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25D7-C756-41B5-A0A5-559C7EDC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D1EB-7995-4939-80E3-E4500AB6C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C360-41A3-40E3-BF70-11E5A2AD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7E09-A7CD-4729-9349-C08C9625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5751-64D7-4FDC-B85D-D5612A5F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62A6-27CD-4C33-BD5D-437A8EE9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1F74-D926-4667-892B-203C8F5F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F8A5-B373-471F-A59A-A027F063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0E66-8CFE-45FB-80ED-576BB7D6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6AE4-5793-46B2-AC8D-698FC639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ADC5-C658-4657-9D3D-7A1F24E55B03}" type="slidenum">
              <a:rPr b="0" lang="zh-CN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FD38-A907-4D87-8252-43324DC44DA2}" type="slidenum">
              <a:rPr b="0" lang="zh-CN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89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1280" y="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环保教育主题班会教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219320" y="1676520"/>
            <a:ext cx="6953040" cy="4952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隶书"/>
              </a:rPr>
              <a:t>环境保护</a:t>
            </a:r>
            <a:endParaRPr b="0" lang="en-US" sz="4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隶书"/>
              <a:ea typeface="隶书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780000" y="260280"/>
            <a:ext cx="3600360" cy="31701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3313080" cy="3097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95280" y="3573360"/>
            <a:ext cx="3672000" cy="2951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4427640" y="3645000"/>
            <a:ext cx="2736720" cy="28796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859520" y="0"/>
            <a:ext cx="1033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ahoma"/>
                <a:ea typeface="新宋体"/>
              </a:rPr>
              <a:t>希望我们的子孙后代也能欣赏到如此美景！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987640" y="2276640"/>
            <a:ext cx="403236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再见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48360" cy="6669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020000" y="692280"/>
            <a:ext cx="143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64360" y="404640"/>
            <a:ext cx="18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  <a:ea typeface="新宋体"/>
              </a:rPr>
              <a:t>    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  <a:ea typeface="新宋体"/>
              </a:rPr>
              <a:t>从太空中看地球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  <a:ea typeface="新宋体"/>
              </a:rPr>
              <a:t>, 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  <a:ea typeface="新宋体"/>
              </a:rPr>
              <a:t>地球是一个蔚蓝色的星球。地球养育了人类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  <a:ea typeface="新宋体"/>
              </a:rPr>
              <a:t>, 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  <a:ea typeface="新宋体"/>
              </a:rPr>
              <a:t>也养育了地球上的一切生物。</a:t>
            </a:r>
            <a:r>
              <a:rPr b="0" lang="zh-CN" sz="24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但是这个美丽的星球当今正为环境问题所困扰。</a:t>
            </a:r>
            <a:r>
              <a:rPr b="1" lang="zh-CN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3352680" cy="5079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68360" y="530064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Arial"/>
              </a:rPr>
              <a:t>水资源污染，生灵涂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780000" y="3357720"/>
            <a:ext cx="4897440" cy="27763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407480" y="623664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66"/>
                </a:solidFill>
                <a:latin typeface="Tahoma"/>
              </a:rPr>
              <a:t>土地沙漠化的速度与日俱增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292720" y="0"/>
            <a:ext cx="1943280" cy="1717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140360" y="1910160"/>
            <a:ext cx="393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饮用水的污染，对以此为生的居民造成极大的伤害，救救孩子！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（长期饮用含砷量严重超标的地下水造成砷中毒）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995640" y="55159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北京近年来也受到沙尘暴的袭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859280" y="1125360"/>
            <a:ext cx="3600360" cy="3816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26920" y="1197000"/>
            <a:ext cx="3600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2017800"/>
            <a:ext cx="77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华文行楷"/>
              </a:rPr>
              <a:t>找一找：这一切是由什么原因造成的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华文行楷"/>
              </a:rPr>
              <a:t>说一说：环境污染给我们的生活带来了哪些不便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华文行楷"/>
              </a:rPr>
              <a:t>想一想：长此以往，我们的生存环境将变成什么样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华文行楷"/>
              </a:rPr>
              <a:t>议一议：如果地球被破坏了，我们能移居到别的星球吗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715000"/>
            <a:ext cx="13809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1042920" y="620640"/>
          <a:ext cx="2210040" cy="12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620640"/>
                    <a:ext cx="221004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884240" y="-882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84240" y="1582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882800" y="2205000"/>
          <a:ext cx="4920840" cy="575640"/>
        </p:xfrm>
        <a:graphic>
          <a:graphicData uri="http://schemas.openxmlformats.org/drawingml/2006/table">
            <a:tbl>
              <a:tblPr/>
              <a:tblGrid>
                <a:gridCol w="4920840"/>
              </a:tblGrid>
              <a:tr h="57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人类将为滥砍乱伐付出沉重的代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1884240" y="25056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4146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042920" y="4653000"/>
          <a:ext cx="7561440" cy="334800"/>
        </p:xfrm>
        <a:graphic>
          <a:graphicData uri="http://schemas.openxmlformats.org/drawingml/2006/table">
            <a:tbl>
              <a:tblPr/>
              <a:tblGrid>
                <a:gridCol w="1890720"/>
                <a:gridCol w="1890720"/>
                <a:gridCol w="37800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大山深处的工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垃圾猪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非法淘金造成青藏高原严重水土流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1884240" y="506952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zoom"/>
          <p:cNvPicPr/>
          <p:nvPr/>
        </p:nvPicPr>
        <p:blipFill>
          <a:blip r:embed="rId1"/>
          <a:stretch/>
        </p:blipFill>
        <p:spPr>
          <a:xfrm>
            <a:off x="826920" y="404640"/>
            <a:ext cx="1935360" cy="1800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zoom"/>
          <p:cNvPicPr/>
          <p:nvPr/>
        </p:nvPicPr>
        <p:blipFill>
          <a:blip r:embed="rId2"/>
          <a:stretch/>
        </p:blipFill>
        <p:spPr>
          <a:xfrm>
            <a:off x="2843280" y="476280"/>
            <a:ext cx="1592280" cy="1695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zoom"/>
          <p:cNvPicPr/>
          <p:nvPr/>
        </p:nvPicPr>
        <p:blipFill>
          <a:blip r:embed="rId3"/>
          <a:stretch/>
        </p:blipFill>
        <p:spPr>
          <a:xfrm>
            <a:off x="4500720" y="476280"/>
            <a:ext cx="1869840" cy="1595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zoom"/>
          <p:cNvPicPr/>
          <p:nvPr/>
        </p:nvPicPr>
        <p:blipFill>
          <a:blip r:embed="rId4"/>
          <a:stretch/>
        </p:blipFill>
        <p:spPr>
          <a:xfrm>
            <a:off x="6516720" y="476280"/>
            <a:ext cx="1884240" cy="1535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zoom"/>
          <p:cNvPicPr/>
          <p:nvPr/>
        </p:nvPicPr>
        <p:blipFill>
          <a:blip r:embed="rId5"/>
          <a:stretch/>
        </p:blipFill>
        <p:spPr>
          <a:xfrm>
            <a:off x="826920" y="2924280"/>
            <a:ext cx="1657440" cy="1512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zoom"/>
          <p:cNvPicPr/>
          <p:nvPr/>
        </p:nvPicPr>
        <p:blipFill>
          <a:blip r:embed="rId6"/>
          <a:stretch/>
        </p:blipFill>
        <p:spPr>
          <a:xfrm>
            <a:off x="2700360" y="3033720"/>
            <a:ext cx="1878120" cy="1403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zoom"/>
          <p:cNvPicPr/>
          <p:nvPr/>
        </p:nvPicPr>
        <p:blipFill>
          <a:blip r:embed="rId7"/>
          <a:stretch/>
        </p:blipFill>
        <p:spPr>
          <a:xfrm>
            <a:off x="4734000" y="3063960"/>
            <a:ext cx="1566720" cy="1444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zoom"/>
          <p:cNvPicPr/>
          <p:nvPr/>
        </p:nvPicPr>
        <p:blipFill>
          <a:blip r:embed="rId8"/>
          <a:stretch/>
        </p:blipFill>
        <p:spPr>
          <a:xfrm>
            <a:off x="6516720" y="2997360"/>
            <a:ext cx="1695240" cy="1439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zoom"/>
          <p:cNvPicPr/>
          <p:nvPr/>
        </p:nvPicPr>
        <p:blipFill>
          <a:blip r:embed="rId9"/>
          <a:stretch/>
        </p:blipFill>
        <p:spPr>
          <a:xfrm>
            <a:off x="1042920" y="5229360"/>
            <a:ext cx="2089080" cy="1224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zoom"/>
          <p:cNvPicPr/>
          <p:nvPr/>
        </p:nvPicPr>
        <p:blipFill>
          <a:blip r:embed="rId10"/>
          <a:stretch/>
        </p:blipFill>
        <p:spPr>
          <a:xfrm>
            <a:off x="6588000" y="5229360"/>
            <a:ext cx="16560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2786040" y="3048120"/>
          <a:ext cx="3571920" cy="22860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cccccc"/>
                          </a:solidFill>
                          <a:latin typeface="Arial"/>
                        </a:rPr>
                        <a:t>工业事故和森林火灾也是环境污染的主要原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2787840" y="332964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786040" y="3048120"/>
          <a:ext cx="3571920" cy="22860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cccccc"/>
                          </a:solidFill>
                          <a:latin typeface="Arial"/>
                        </a:rPr>
                        <a:t>工业事故和森林火灾也是环境污染的主要原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2787840" y="332964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80000" y="5373720"/>
            <a:ext cx="216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zh-CN" sz="1600" spc="-1" strike="noStrike">
                <a:solidFill>
                  <a:srgbClr val="ffffff"/>
                </a:solidFill>
                <a:latin typeface="Tahoma"/>
              </a:rPr>
              <a:t>工业事故和森林火灾也是环境污染的主要原因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中国自然生态七大失衡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据《服务导报》报道，农业经济学家郭书田说，中国自然生态失衡有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大“赤字”：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、水土流失面积大于治理面积。风蚀、水蚀达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3 80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万平方公里，占国全面积的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／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、北方沙漠化面积 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16 0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万平方公里，占国土面积的 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17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％。每年新增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2460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平方公里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、南方石漠化面积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346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万平方公里，每年新增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2000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多亩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、草原退化、碱化、沙化每年新增面积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2000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多万亩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、工业三废污染局部改善，总体恶化；二氧化碳排放量居世界第二、酸雨面积扩大、水污染严重。由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80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年代末的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％上升致到目前的 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4 0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％以上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、水资源浪费，约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7 0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％的农业用水利用率仅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4 0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％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、耕地每年净流失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3000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多万亩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他说，生态“赤字”比财政赤字更可怕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ahoma"/>
              </a:rPr>
              <a:t>环保小问答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2400" spc="-1" strike="noStrike">
                <a:solidFill>
                  <a:srgbClr val="3399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3399ff"/>
                </a:solidFill>
                <a:latin typeface="Tahoma"/>
              </a:rPr>
              <a:t>、中国环境标志的含义是什么？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167360" y="2779560"/>
            <a:ext cx="56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、选用什么样的洗衣粉能减少水污染？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57880" y="3355920"/>
            <a:ext cx="56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、日常生活中怎样节约用水？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30960" y="4004280"/>
            <a:ext cx="7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4 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、我国的森林覆盖率为多少？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07880" y="4587840"/>
            <a:ext cx="56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ahoma"/>
              </a:rPr>
              <a:t>5</a:t>
            </a:r>
            <a:r>
              <a:rPr b="0" lang="zh-CN" sz="2400" spc="-1" strike="noStrike">
                <a:solidFill>
                  <a:srgbClr val="0000cc"/>
                </a:solidFill>
                <a:latin typeface="Tahoma"/>
              </a:rPr>
              <a:t>、垃圾可分为哪几类？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70440" y="5065560"/>
            <a:ext cx="64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6 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、我们能为保护臭氧层做些什么？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553080" y="4648320"/>
            <a:ext cx="892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班环保宣言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ahoma"/>
                <a:ea typeface="华文行楷"/>
              </a:rPr>
              <a:t>①</a:t>
            </a:r>
            <a:r>
              <a:rPr b="1" lang="zh-CN" sz="2400" spc="-1" strike="noStrike">
                <a:solidFill>
                  <a:srgbClr val="9900ff"/>
                </a:solidFill>
                <a:latin typeface="Tahoma"/>
                <a:ea typeface="华文行楷"/>
              </a:rPr>
              <a:t>节约用电，自然光充足时关闭室内灯。离开教室时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ahoma"/>
                <a:ea typeface="华文行楷"/>
              </a:rPr>
              <a:t>  </a:t>
            </a:r>
            <a:r>
              <a:rPr b="1" lang="zh-CN" sz="2400" spc="-1" strike="noStrike">
                <a:solidFill>
                  <a:srgbClr val="9900ff"/>
                </a:solidFill>
                <a:latin typeface="Tahoma"/>
                <a:ea typeface="华文行楷"/>
              </a:rPr>
              <a:t>闭教室灯和走廊灯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ahoma"/>
                <a:ea typeface="华文行楷"/>
              </a:rPr>
              <a:t>②</a:t>
            </a:r>
            <a:r>
              <a:rPr b="1" lang="zh-CN" sz="2400" spc="-1" strike="noStrike">
                <a:solidFill>
                  <a:srgbClr val="9900ff"/>
                </a:solidFill>
                <a:latin typeface="Tahoma"/>
                <a:ea typeface="华文行楷"/>
              </a:rPr>
              <a:t>节约用水，用水时尽量使用小水流，用完及时关闭水龙头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ahoma"/>
                <a:ea typeface="华文行楷"/>
              </a:rPr>
              <a:t>③</a:t>
            </a:r>
            <a:r>
              <a:rPr b="1" lang="zh-CN" sz="2400" spc="-1" strike="noStrike">
                <a:solidFill>
                  <a:srgbClr val="9900ff"/>
                </a:solidFill>
                <a:latin typeface="Tahoma"/>
                <a:ea typeface="华文行楷"/>
              </a:rPr>
              <a:t>节约粮食，不剩饭，培养节俭品质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ahoma"/>
                <a:ea typeface="华文行楷"/>
              </a:rPr>
              <a:t>④</a:t>
            </a:r>
            <a:r>
              <a:rPr b="1" lang="zh-CN" sz="2400" spc="-1" strike="noStrike">
                <a:solidFill>
                  <a:srgbClr val="9900ff"/>
                </a:solidFill>
                <a:latin typeface="Tahoma"/>
                <a:ea typeface="华文行楷"/>
              </a:rPr>
              <a:t>节约用纸，一张纸两面用，废纸放在回收箱中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ahoma"/>
                <a:ea typeface="华文行楷"/>
              </a:rPr>
              <a:t>⑤</a:t>
            </a:r>
            <a:r>
              <a:rPr b="1" lang="zh-CN" sz="2400" spc="-1" strike="noStrike">
                <a:solidFill>
                  <a:srgbClr val="9900ff"/>
                </a:solidFill>
                <a:latin typeface="Tahoma"/>
                <a:ea typeface="华文行楷"/>
              </a:rPr>
              <a:t>爱护公物，门窗轻关轻开，桌椅轻搬轻放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ahoma"/>
                <a:ea typeface="华文行楷"/>
              </a:rPr>
              <a:t>⑤</a:t>
            </a:r>
            <a:r>
              <a:rPr b="1" lang="zh-CN" sz="2400" spc="-1" strike="noStrike">
                <a:solidFill>
                  <a:srgbClr val="9900ff"/>
                </a:solidFill>
                <a:latin typeface="Tahoma"/>
                <a:ea typeface="华文行楷"/>
              </a:rPr>
              <a:t>爱护动植物，不折花、不攀树，不践踏绿地，不隔墙购物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ahoma"/>
                <a:ea typeface="华文行楷"/>
              </a:rPr>
              <a:t>①</a:t>
            </a:r>
            <a:r>
              <a:rPr b="1" lang="zh-CN" sz="2400" spc="-1" strike="noStrike">
                <a:solidFill>
                  <a:srgbClr val="9900ff"/>
                </a:solidFill>
                <a:latin typeface="Tahoma"/>
                <a:ea typeface="华文行楷"/>
              </a:rPr>
              <a:t>不吸烟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ahoma"/>
                <a:ea typeface="华文行楷"/>
              </a:rPr>
              <a:t>②</a:t>
            </a:r>
            <a:r>
              <a:rPr b="1" lang="zh-CN" sz="2400" spc="-1" strike="noStrike">
                <a:solidFill>
                  <a:srgbClr val="9900ff"/>
                </a:solidFill>
                <a:latin typeface="Tahoma"/>
                <a:ea typeface="华文行楷"/>
              </a:rPr>
              <a:t>做好卫生值日，保持环境卫生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1T08:03:51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41:58Z</dcterms:modified>
  <cp:revision>27</cp:revision>
  <dc:subject>主题班会课件(分28大类): http://shop62905894.taobao.com</dc:subject>
  <dc:title>主题班会课件(分28大类): http://shop62905894.taobao.com</dc:title>
</cp:coreProperties>
</file>