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E69-61CD-4F9C-858A-D05CEA9B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AE7B-2B35-4BFB-8D94-4F3D5141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A3B-6DE5-4475-908E-D6DC3322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1350-A177-4EB0-9CBC-DE7912DF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315A-9543-4266-95E2-A2BB21B5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8F3E-2121-4AD8-9712-ED4FE1F6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93BC-66AC-4E06-9F8A-7687149F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B50A-8206-40BD-9A02-56377868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EAF0-95ED-4D5B-910E-B1929CFA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4636-C1C9-48BA-8391-549B6222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221B-781B-489F-8748-DA0E02EC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B0A8-A522-4A94-B6B1-411BEFF0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7B69-9175-46D0-91A5-92FD73A8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BCCE-69DA-4912-B578-A6636C96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11CF-8746-4DFD-B044-8A7E81D7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22D8-ED3E-4B48-95BA-16BA8D99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C4C9-A490-402E-B78A-C617D505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FBE9-836F-4B72-82A5-2F21E4AB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1E6-229B-4EE0-99FE-F09E01CC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8AF-3BF0-4026-A056-8ECE9C5C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8898-E5D3-4174-BEB9-1AC879AD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CC36-FABB-4420-8605-EB3039A2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407-ADC1-4F78-B17C-9FD28E87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D6E5-CAC5-4CFB-B354-E3CEB21F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3DEF-CE90-4472-8F73-82F08C0D44B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A607-A1C7-4675-A51E-473652E62A3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ages.google.com.hk/imgres?imgurl=http://zt.ffw.com.cn/fz/es/2010/03/dtsh/images/3.jpg&amp;imgrefurl=http://zt.ffw.com.cn/fz/es/2010/03/dtsh/&amp;usg=__w3HZ1WcvZekb29zsjvgc2sqVpV4=&amp;h=304&amp;w=300&amp;sz=39&amp;hl=zh-CN&amp;start=29&amp;itbs=1&amp;tbnid=KszTHL46j8XJLM:&amp;tbnh=116&amp;tbnw=114&amp;prev=/images%3Fq%3D%25E4%25BD%258E%25E7%25A2%25B3%25E7%2594%259F%25E6%25B4%25BB%25E6%2588%2591%25E5%2581%259A%25E4%25B8%25BB%26start%3D20%26hl%3Dzh-CN%26newwindow%3D1%26safe%3Dstrict%26client%3Daff-maxthon-dh%26hs%3Dwbi%26affdom%3Dmaxthon.cn%26sa%3DN%26ndsp%3D20%26tbs%3Disch:1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22320;&#29699;&#20320;&#22909;&#21527;wmv.flv" TargetMode="External"/><Relationship Id="rId3" Type="http://schemas.openxmlformats.org/officeDocument/2006/relationships/hyperlink" Target="file:///&#22320;&#29699;&#20320;&#22909;&#21527;wmv.flv" TargetMode="External"/><Relationship Id="rId4" Type="http://schemas.openxmlformats.org/officeDocument/2006/relationships/hyperlink" Target="file:///&#22320;&#29699;&#20320;&#22909;&#21527;wmv.flv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Arial Black"/>
              </a:rPr>
              <a:t>改善环境与低碳生活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1240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一七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十周主题班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35337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怎样才是“低碳生活”？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倡导不要浪费食物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倡导随手关灯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倡导空调尽可能接近自然温度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素食比肉食消耗的资源少，前者是低碳的，更健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长久在空调房生活，其实不利于强壮身体的养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减少使用塑料袋、一次性筷子，避免过度包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用低碳方式生活，不过分追求物质享受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在当今浮躁的社会中，也能带来心灵上的宁静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  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自律程度如何，是一个人素质高低的表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经济的、环保的、生态的、健康的、自律的生活，就是高素质的人的生活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遏制气候变暖，是全人类的使命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们要节能环保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做低碳生活的倡导者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做低碳理念的传播者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做“低碳生活”方式的践行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 rot="20709000">
            <a:off x="1523880" y="4572000"/>
            <a:ext cx="1710000" cy="20667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b7"/>
                </a:solidFill>
                <a:latin typeface="Arial Black"/>
              </a:rPr>
              <a:t>当代青少年该怎样践行低碳理念呢？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9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各位同学填写下表与德育本上，并言出必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的低碳生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衣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食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用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行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58128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3048120"/>
            <a:ext cx="815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11480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800600"/>
            <a:ext cx="815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98108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1460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905120"/>
            <a:ext cx="0" cy="289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198108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686800" y="20574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432000">
            <a:off x="4889880" y="5257080"/>
            <a:ext cx="305640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低碳生活，有你有我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496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353120" cy="4762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498920" y="152280"/>
            <a:ext cx="4645080" cy="48006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低碳生活  我们会做得更好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848360" cy="5484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为什么倡导低碳生活？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1295280"/>
            <a:ext cx="88394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过量排放二氧化碳才是全球气候异常的罪魁祸首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4495680" cy="5638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33920" y="0"/>
            <a:ext cx="5410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地球</a:t>
            </a:r>
            <a:r>
              <a:rPr b="0" lang="zh-CN" sz="8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——</a:t>
            </a:r>
            <a:r>
              <a:rPr b="0" lang="zh-CN" sz="8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我们的家园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28600" y="152280"/>
            <a:ext cx="3311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60440" y="0"/>
            <a:ext cx="587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00200" y="-76320"/>
            <a:ext cx="5715000" cy="68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8007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据科学研究发现，牛呼吸及排泄物排放出的二氧化碳是其它家畜的二、三十倍。牛肉的生产、运输、加工也要浪费大量的资源、能源，所以我们应尽量减少牛肉的摄取，提倡素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686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39625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228600" y="44956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43480" y="0"/>
            <a:ext cx="3800520" cy="5715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838080" y="3728880"/>
            <a:ext cx="51055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244440"/>
            <a:ext cx="89917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b7"/>
                </a:solidFill>
                <a:latin typeface="Arial Black"/>
              </a:rPr>
              <a:t>提倡利用清洁能源，减少温室气体排放量！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77240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0:26:2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3:42Z</dcterms:modified>
  <cp:revision>1</cp:revision>
  <dc:subject>主题班会课件(分28大类): http://shop62905894.taobao.com</dc:subject>
  <dc:title>主题班会课件(分28大类): http://shop62905894.taobao.com</dc:title>
</cp:coreProperties>
</file>