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A0E-7C24-414B-9FF5-70BF2405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9C4-11F8-4B55-8B65-937611C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6A9-D704-4D03-A571-750B07FE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50C-77EF-42F8-8D72-55A7201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E59-3C12-4602-BD72-707DDB2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C09-9ADB-486C-BB96-9A59581B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656-D676-4EEE-945C-C3E501E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7BD-0329-436D-8342-64F1630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DE1-C722-4C39-8EF8-414666E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DB9-8C59-445B-839F-91E0604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B2E-AA6F-4BAB-B872-00EC287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334-BB4C-4101-8BE8-DAAB290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811-9E18-4AB4-96D4-EF430A4B6B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.hk/imgres?imgurl=http://zt.ffw.com.cn/fz/es/2010/03/dtsh/images/3.jpg&amp;imgrefurl=http://zt.ffw.com.cn/fz/es/2010/03/dtsh/&amp;usg=__w3HZ1WcvZekb29zsjvgc2sqVpV4=&amp;h=304&amp;w=300&amp;sz=39&amp;hl=zh-CN&amp;start=29&amp;itbs=1&amp;tbnid=KszTHL46j8XJLM:&amp;tbnh=116&amp;tbnw=114&amp;prev=/images%3Fq%3D%25E4%25BD%258E%25E7%25A2%25B3%25E7%2594%259F%25E6%25B4%25BB%25E6%2588%2591%25E5%2581%259A%25E4%25B8%25BB%26start%3D20%26hl%3Dzh-CN%26newwindow%3D1%26safe%3Dstrict%26client%3Daff-maxthon-dh%26hs%3Dwbi%26affdom%3Dmaxthon.cn%26sa%3DN%26ndsp%3D20%26tbs%3Disch: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22320;&#29699;&#20320;&#22909;&#21527;wmv.flv" TargetMode="External"/><Relationship Id="rId3" Type="http://schemas.openxmlformats.org/officeDocument/2006/relationships/hyperlink" Target="file:///&#22320;&#29699;&#20320;&#22909;&#21527;wmv.flv" TargetMode="External"/><Relationship Id="rId4" Type="http://schemas.openxmlformats.org/officeDocument/2006/relationships/hyperlink" Target="file:///&#22320;&#29699;&#20320;&#22909;&#21527;wmv.fl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改善环境与低碳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一七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十周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53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怎样才是“低碳生活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倡导不要浪费食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倡导随手关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倡导空调尽可能接近自然温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素食比肉食消耗的资源少，前者是低碳的，更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长久在空调房生活，其实不利于强壮身体的养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减少使用塑料袋、一次性筷子，避免过度包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用低碳方式生活，不过分追求物质享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当今浮躁的社会中，也能带来心灵上的宁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  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律程度如何，是一个人素质高低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经济的、环保的、生态的、健康的、自律的生活，就是高素质的人的生活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遏制气候变暖，是全人类的使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要节能环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低碳生活的倡导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低碳理念的传播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“低碳生活”方式的践行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20709000">
            <a:off x="1523880" y="4572000"/>
            <a:ext cx="1710000" cy="2066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代青少年该怎样践行低碳理念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9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各位同学填写下表与德育本上，并言出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低碳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5812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0481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114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80060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5146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9051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86800" y="2057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432000">
            <a:off x="4889880" y="5257080"/>
            <a:ext cx="30564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低碳生活，有你有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496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53120" cy="476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8920" y="152280"/>
            <a:ext cx="464508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低碳生活  我们会做得更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848360" cy="5484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倡导低碳生活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295280"/>
            <a:ext cx="8839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过量排放二氧化碳才是全球气候异常的罪魁祸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地球</a:t>
            </a:r>
            <a:r>
              <a:rPr b="0" lang="zh-CN" sz="8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——</a:t>
            </a:r>
            <a:r>
              <a:rPr b="0" lang="zh-CN" sz="8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我们的家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3311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60440" y="0"/>
            <a:ext cx="587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-76320"/>
            <a:ext cx="571500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007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科学研究发现，牛呼吸及排泄物排放出的二氧化碳是其它家畜的二、三十倍。牛肉的生产、运输、加工也要浪费大量的资源、能源，所以我们应尽量减少牛肉的摄取，提倡素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962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28600" y="44956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43480" y="0"/>
            <a:ext cx="3800520" cy="571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080" y="3728880"/>
            <a:ext cx="5105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991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提倡利用清洁能源，减少温室气体排放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52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08Z</dcterms:modified>
  <cp:revision>1</cp:revision>
  <dc:subject>主题班会课件(分28大类): http://shop62905894.taobao.com</dc:subject>
  <dc:title>主题班会课件(分28大类): http://shop62905894.taobao.com</dc:title>
</cp:coreProperties>
</file>