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97F-DDC0-4692-8F82-507BA55D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70B-E4CC-4119-9A96-D2B429BE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00A-6E3F-4F2D-BA48-EA03E712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454-CE57-4244-9B7D-93CA1B6C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D021-4450-4D5D-A9B0-A74EEB8E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D21F-09B7-4564-8418-14265AF5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E70D-F8FD-4D93-87B7-0B039790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E4BD-F824-4736-86E6-00664EDE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A3A5-1B09-4D3F-BD02-98FC9703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5033-E497-465E-986D-EFD49C7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C6AB-AA17-478F-B7AF-C9C6B7B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1BC-B419-417F-A442-063A397F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0329-F482-4938-A5AA-6EBA686D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872A-DCC6-4181-B0CE-3D26D95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0352-E74D-4C60-9AD3-6B6FCBAB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17DC-1751-4F69-BC7A-7285DB96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47DC-4910-46B6-8191-C65B387E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7F9-96FB-4384-873D-1247360F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FE3-5F25-43CC-A917-F6F1C793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F3A-2413-4D2F-97B8-8958807D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9F7-A2F9-4227-A7CE-42C0F9AC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0F4-CF53-4F26-AAF5-0C44E8A0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0FB-3D6C-4279-812E-200DE1C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FBA-5786-48A3-A727-DD8FA75F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3652-7D47-4CB1-A79B-14D5ADC26210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EA66-5C21-41E8-A94E-E41022BD1B1C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 Narrow"/>
                <a:ea typeface="隶书"/>
              </a:rPr>
              <a:t>废旧电池</a:t>
            </a:r>
            <a:br>
              <a:rPr sz="7200"/>
            </a:br>
            <a:r>
              <a:rPr b="0" lang="zh-CN" sz="7200" spc="-1" strike="noStrike">
                <a:solidFill>
                  <a:srgbClr val="0000ff"/>
                </a:solidFill>
                <a:latin typeface="Arial Narrow"/>
                <a:ea typeface="隶书"/>
              </a:rPr>
              <a:t>   与环境保护</a:t>
            </a: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Narrow"/>
              </a:rPr>
              <a:t>指导教师：邓朝晖、陈月红、唐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Narrow"/>
              </a:rPr>
              <a:t>课件制作：邓朝晖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Narrow"/>
              </a:rPr>
              <a:t>资料提供：初一（</a:t>
            </a:r>
            <a:r>
              <a:rPr b="1" lang="zh-CN" sz="3200" spc="-1" strike="noStrike">
                <a:solidFill>
                  <a:srgbClr val="990033"/>
                </a:solidFill>
                <a:latin typeface="Arial Narrow"/>
              </a:rPr>
              <a:t>8</a:t>
            </a:r>
            <a:r>
              <a:rPr b="1" lang="zh-CN" sz="3200" spc="-1" strike="noStrike">
                <a:solidFill>
                  <a:srgbClr val="990033"/>
                </a:solidFill>
                <a:latin typeface="Arial Narrow"/>
              </a:rPr>
              <a:t>）班同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0512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电池对生物的影响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486080"/>
            <a:ext cx="9144000" cy="5371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867280" y="5486400"/>
            <a:ext cx="106704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清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5486400"/>
            <a:ext cx="121896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4e04"/>
                </a:solidFill>
                <a:latin typeface="Times New Roman"/>
                <a:ea typeface="黑体"/>
              </a:rPr>
              <a:t>电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438280" y="685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电池对生物的影响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41008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828800" y="4278240"/>
            <a:ext cx="3352680" cy="2579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00200" y="685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电池对生物的影响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四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9144000" cy="5392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7200" y="2590920"/>
            <a:ext cx="106668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清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4100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5029200"/>
            <a:ext cx="121932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4e04"/>
                </a:solidFill>
                <a:latin typeface="Times New Roman"/>
                <a:ea typeface="黑体"/>
              </a:rPr>
              <a:t>电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28800" y="6858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电池对生物的影响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五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5315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4800" y="5486400"/>
            <a:ext cx="106668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清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2819520"/>
            <a:ext cx="121896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4e04"/>
                </a:solidFill>
                <a:latin typeface="Times New Roman"/>
                <a:ea typeface="黑体"/>
              </a:rPr>
              <a:t>电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52480" y="6858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电池对生物的影响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六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5315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343400" y="5029200"/>
            <a:ext cx="106668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清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2743200"/>
            <a:ext cx="121896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4e04"/>
                </a:solidFill>
                <a:latin typeface="Times New Roman"/>
                <a:ea typeface="黑体"/>
              </a:rPr>
              <a:t>电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90920" y="5335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废电池的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危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2459160" cy="2666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895480" cy="2781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5562720"/>
            <a:ext cx="1752480" cy="510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组</a:t>
            </a:r>
            <a:r>
              <a:rPr b="0" lang="zh-CN" sz="2400" spc="-1" strike="noStrike" u="sng">
                <a:solidFill>
                  <a:srgbClr val="d4876c"/>
                </a:solidFill>
                <a:uFillTx/>
                <a:latin typeface="Times New Roman"/>
                <a:hlinkClick r:id="rId3" action="ppaction://hlinksldjump"/>
              </a:rPr>
              <a:t>提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9560" y="5638680"/>
            <a:ext cx="109512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组提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7391520" cy="5334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你和你周围的人平常是怎么处理废旧电池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657600" y="6094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社会调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0" y="4643280"/>
            <a:ext cx="3276720" cy="2214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581640" cy="2565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676520" y="1523880"/>
            <a:ext cx="3504960" cy="2316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657600" cy="242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2841480" cy="4191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4572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废旧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电池的回收处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废电池说废其实也不“废”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2539800" cy="2070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3143160" cy="4000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248520" y="2666880"/>
            <a:ext cx="22860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54864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6400800"/>
            <a:ext cx="190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六组提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9524880" cy="4087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14600" y="60948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回收再造流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352680" y="8380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66996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减少电池污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2867040"/>
            <a:ext cx="57909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你想（能）做些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有何建议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609480"/>
            <a:ext cx="1219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d86610"/>
                </a:solidFill>
                <a:latin typeface="Times New Roman"/>
                <a:ea typeface="隶书"/>
              </a:rPr>
              <a:t>金点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3554280" cy="3886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981080" y="5335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马上行动、共同参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819520"/>
            <a:ext cx="4572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imes New Roman"/>
                <a:ea typeface="华文隶书"/>
              </a:rPr>
              <a:t>      </a:t>
            </a:r>
            <a:r>
              <a:rPr b="0" lang="zh-CN" sz="4800" spc="-1" strike="noStrike">
                <a:solidFill>
                  <a:srgbClr val="d60093"/>
                </a:solidFill>
                <a:latin typeface="Times New Roman"/>
                <a:ea typeface="华文隶书"/>
              </a:rPr>
              <a:t>请你为环保部门设计废旧电池回收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17524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参与研究性学习有何收获和困惑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90720" y="3657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每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日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世界环境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1828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各类电池必须具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项标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需要回收电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回收标识、种类标识，电池中有害成分的含量标识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495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福州市正在创建“国家环保模范城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60948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你知道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05120" y="3276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健康网主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众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庭健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页精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健康焦点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九健康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999.com.cn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22860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福州环保在线网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zep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6858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想知道更多……</a:t>
            </a:r>
            <a:r>
              <a:rPr b="0" lang="zh-CN" sz="4800" spc="-1" strike="noStrike">
                <a:solidFill>
                  <a:srgbClr val="d60093"/>
                </a:solidFill>
                <a:latin typeface="Times New Roman"/>
                <a:ea typeface="华文隶书"/>
              </a:rPr>
              <a:t>请点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45720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保网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recycle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1828800" cy="1650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371600" y="1676520"/>
            <a:ext cx="7238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44e0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热爱生活、关注环保 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44e0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05080" y="3505320"/>
            <a:ext cx="6748200" cy="15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44e0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爱护自然、保护环境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44e0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advTm="6000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666880" y="1190520"/>
            <a:ext cx="4114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环境保护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743200" y="2819520"/>
            <a:ext cx="4114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从我做起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62320" y="4495680"/>
            <a:ext cx="5143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从现在做起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advTm="6000"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371600" y="1523880"/>
            <a:ext cx="7238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地球只有一个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0" y="3809880"/>
            <a:ext cx="51436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爱在随手间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advTm="6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6057720" cy="126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4572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电池给我们的生活带来了方便，但是 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Narrow"/>
                <a:ea typeface="隶书"/>
              </a:rPr>
              <a:t>有关电池资料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调查表明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颗钮扣电池弃入大自然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可以污染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升水，相当于一个人一生的用水量。一节一号电池烂在地里，能使一平方米的土地失去利用价值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国是电池生产和消费大国，目前全国拥有干电池生产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家，年产电池上百亿只…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55627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Times New Roman"/>
                <a:ea typeface="华文隶书"/>
              </a:rPr>
              <a:t>看了这段资料你有何感想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56386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废电池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理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用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438280"/>
            <a:ext cx="5562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废电池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危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１、废旧电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会不会对环境和人体造成危害？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.3.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２、大量堆积的废旧电池是通过何种途径危害人的身体健康？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池中含有那些物质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危害人的身体健康？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你想知道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90512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819520" y="1905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池的种类、成分</a:t>
            </a:r>
            <a:r>
              <a:rPr b="0" lang="zh-CN" sz="2400" spc="-1" strike="noStrike" u="sng">
                <a:solidFill>
                  <a:srgbClr val="d4876c"/>
                </a:solidFill>
                <a:uFillTx/>
                <a:latin typeface="Times New Roman"/>
                <a:hlinkClick r:id="rId2" action="ppaction://hlinksldjump"/>
              </a:rPr>
              <a:t>（5.1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051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黑体"/>
              </a:rPr>
              <a:t>电池主要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一次性电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包括纽扣电池、普通锌锰干电池和碱电池，多含汞。）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二次电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主要指充电电池，其中含有重金属镉。）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汽车电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其中含有酸和重金属铅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335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电池的种类及主要成分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0575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d2.htm1" descr=""/>
          <p:cNvPicPr/>
          <p:nvPr/>
        </p:nvPicPr>
        <p:blipFill>
          <a:blip r:embed="rId1"/>
          <a:stretch/>
        </p:blipFill>
        <p:spPr>
          <a:xfrm>
            <a:off x="1065240" y="228600"/>
            <a:ext cx="2373120" cy="3209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575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d2.htm2" descr=""/>
          <p:cNvPicPr/>
          <p:nvPr/>
        </p:nvPicPr>
        <p:blipFill>
          <a:blip r:embed="rId2"/>
          <a:stretch/>
        </p:blipFill>
        <p:spPr>
          <a:xfrm>
            <a:off x="3959280" y="228600"/>
            <a:ext cx="2365200" cy="320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d2.htm3" descr=""/>
          <p:cNvPicPr/>
          <p:nvPr/>
        </p:nvPicPr>
        <p:blipFill>
          <a:blip r:embed="rId3"/>
          <a:stretch/>
        </p:blipFill>
        <p:spPr>
          <a:xfrm>
            <a:off x="6705720" y="228600"/>
            <a:ext cx="224136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47920" y="2819520"/>
            <a:ext cx="1447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碱锰电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2819520"/>
            <a:ext cx="12956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锂电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2819520"/>
            <a:ext cx="1447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镍镉电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d2.htm4" descr=""/>
          <p:cNvPicPr/>
          <p:nvPr/>
        </p:nvPicPr>
        <p:blipFill>
          <a:blip r:embed="rId4"/>
          <a:stretch/>
        </p:blipFill>
        <p:spPr>
          <a:xfrm>
            <a:off x="3962520" y="3505320"/>
            <a:ext cx="241776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d2.htm5" descr=""/>
          <p:cNvPicPr/>
          <p:nvPr/>
        </p:nvPicPr>
        <p:blipFill>
          <a:blip r:embed="rId5"/>
          <a:stretch/>
        </p:blipFill>
        <p:spPr>
          <a:xfrm>
            <a:off x="6661080" y="3505320"/>
            <a:ext cx="2254320" cy="327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343400" y="6172200"/>
            <a:ext cx="1600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钮扣电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67480" y="6248520"/>
            <a:ext cx="11430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铅电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28560" y="4229280"/>
            <a:ext cx="1428840" cy="1562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78280" y="4038480"/>
            <a:ext cx="1642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44e04"/>
                </a:solidFill>
                <a:latin typeface="Times New Roman"/>
                <a:ea typeface="华文隶书"/>
              </a:rPr>
              <a:t>电池种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685800" y="6019920"/>
            <a:ext cx="129528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438280" y="6858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电池对生物的影响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98108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981080" y="18288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48640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81080" y="685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电池对生物的影响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486080"/>
            <a:ext cx="9144000" cy="5371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19920" y="5181480"/>
            <a:ext cx="106668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清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4952880"/>
            <a:ext cx="1219320" cy="45972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4e04"/>
                </a:solidFill>
                <a:latin typeface="Times New Roman"/>
                <a:ea typeface="黑体"/>
              </a:rPr>
              <a:t>电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4:03Z</dcterms:modified>
  <cp:revision>1</cp:revision>
  <dc:subject>主题班会课件(分28大类): http://shop62905894.taobao.com</dc:subject>
  <dc:title>主题班会课件(分28大类): http://shop62905894.taobao.com</dc:title>
</cp:coreProperties>
</file>