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63D-4222-4DBB-BA46-05B1C23F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2C6-3AF8-43BC-BDB0-723ACA6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00C-912E-444E-BE0D-C1A8C665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0DC-A67E-4440-998D-2CC433EA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A1B-265B-486E-A9D6-9666CEFF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CE51-7DE8-4BC3-894F-4E245B8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5E65-2B1C-4A72-A71D-853C139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FD8B-773B-4175-B73B-0A7F0BC9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56D1-F543-4895-83C5-C8AB86D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7C00-50B3-4E1C-9CD4-FB7D5EF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A5E-A90A-434B-AFDD-3651069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2DB-E391-453A-BD49-2EEE7E12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C32-08E6-49C5-86F8-7C821C1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AF66-C727-4351-B90B-746485D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BCB1-69C3-4F9C-A1FF-1C0FC037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6403-CE61-4BCE-B5D6-253CC3A9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52E2-0C37-42B0-9F54-70AC8825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8A5-E548-468D-8757-9F06A13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E05-9FEC-4FE7-BABD-C7CC0CD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B84-9795-4B47-B42A-1AC94407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D7E-695E-49B0-A542-EECC293C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204-7663-425B-BA12-D3E8B8F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72F-4059-41D1-B110-6BD0DA4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258-6383-4F6B-ACCF-9355833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4BEA-8BED-4A55-B953-8633C507AD4A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E626-32AC-4DEA-8D9C-EC47BEDF7567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8000" y="314172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黑体"/>
              </a:rPr>
              <a:t>团结、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自主学习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环保教育主题班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6480" y="6303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41360"/>
            <a:ext cx="871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团结、自主学习、环保教育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让我们彼此友爱，共同进步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崇尚理性的光辉，成为文明的代表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信仰善良的力量，弘扬善良的美德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关心他人的存在，宽容他人的不足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完善自我的人格，克制自我的恣肆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相信温和的真理，甘当仁爱的恕者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珍惜同学的情谊，把握美好的时光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扬起理想的风帆，驶向成功的彼岸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47640" y="981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自主学习主题班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2637000"/>
            <a:ext cx="280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积  极  参  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认  真  组  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团  结  协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塑  造  形  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00360" y="1844640"/>
            <a:ext cx="3816360" cy="39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一、主持人引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二、节目一：相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三、节目二：小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四：节目三：朗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五、节目四：合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六、班主任总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6206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主 题 班 会 总 体 设 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14506800">
            <a:off x="6732360" y="3213000"/>
            <a:ext cx="17668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Tahoma"/>
              </a:rPr>
              <a:t>节目一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：相声《自主创新要从娃娃抓起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今天呀，咱们说段相声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对，说点什么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这几年，中国的科技成就举世瞩目，咱们就说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5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年的中国的科技进展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这个可难不倒我，您听好了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5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科技发展第一件，要数那，神六上天英雄凯旋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算你说对了，神六上天可是不得了，科技创新数不完，全新系统最稳定，数据传输最安全，生存系统数字化，飞在太空像在家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你也太夸大了，要是像在家，我也成聂海胜了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虽然有点夸张，但是神六的确很牛，他的发射推动了中国航天科技创新的新的征程。你看吧，以后神七、神八的，像咱背的课文了：“子子孙孙无穷匮矣”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对，说不定我那天到月亮上看嫦娥姐姐了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行了，别做美梦了，还有什么好值得说的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您听好了，我问问你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5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科技表彰会，首次填补六年国家技术发明奖的空缺是谁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小菜一碟，那可是我的偶像，听好了：张立同，是院士，来自西北工业大学的材料系，发明的是陶瓷，耐高温，长寿命，抗氧化，超结实！运用到先进武器，世界第一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还真是，这次的最高科技奖，两个人物不能忘，那可是所在领域的旗帜一支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您说得，我知道，那是气象研究、医学界的两泰斗，叶笃正和吴孟超，叶老气象研究震世界，吴老肝脏移植手艺高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对，手艺高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甲：咱不多说，就这两件事，一个关键词不能少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乙：我知道，那就是“自主创新”不能少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好，我给你学学咱们主席胡锦涛的重要讲话：（咳嗽）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要始终把提高自主创新能力摆在突出位置，显著提高中国的科技实力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嘿，还真行，以假乱真了你，自主创新很重要，再也不用把别人的眼色瞧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自主创新我们有传统，四大发明他就是证明，再看看，今天的科技界，个个称得上是英豪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祖国的发展真是快，科技创新推着我们走进新时代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领导还有一句话，那就是：世界是你们的，也是我们的，但是归根结底是你们的。你们青年人朝气蓬勃，正在兴旺时期，好像早晨八、九点钟的太阳。希望寄托在你们身上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说的多好啊，还有呢：计算机的普及要从娃娃抓起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说的对，自主创新也的从我辈抓起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在这一点上，校领导可是高瞻远瞩，那就是，提高我们的自主学习能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可是什么是自主学习，怎样才能自主学习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问题还挺多，是吧？不用担心，听说范伟到咱学校了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谁？范伟！他来了有什么用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您还别这么说，人家范伟不当厨师了，也不防忽悠了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哪干什么了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自主学习咨询中心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甲：啊 ……他可是我偶像，走，看看去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乙：等等我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节目二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：小品《自主学习咨询热线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赵本山：听说他，不当厨师了，不搞防忽悠热线了，跑到附中开起了“自主学习”咨询中心，看他那样，还自主学习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学生：师傅，您还别小瞧他，听说干的挺火的，上新闻联播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赵：别着急，先骚扰一下： 喂，请问是范师傅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范：您好！这里没有范师傅，这里是自主学习咨询热线，我是资深咨询师范主任，自主学习误区分析请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；差生自主学习请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；自主学习心理问题请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；教师自主学习指导请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；有人干扰自主学习请直接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赵：（转向观众）老样子！（对话筒：）好的，范厨师，啊，不，范主任，我们问题太严重，我们想当面请教，怎么样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范：没问题，恭候大驾光临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赵：还一套一套的，徒弟们，今天你们好好表现，咱难为难为他，你们俩看我眼色行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进门：学生喊：范主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来了，来了呵呵笑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见赵本山：脸沉带笑：哎呀哎呀呀……缘分那缘分那！无论天涯海角，你都誓死跟随，感动呀太感动了！！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别激动！千万别激动，这次我来既不是卖拐，也不是担架，我不忽悠了，换你了啊，这次来，目的有二，一是为了附中的学生负责，检验一下你的水平；二是锻炼一下队伍，看看两个徒弟能不能出师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 您还别不信，自从去年你送我的“自学成才”，我一下（停顿）子就看到了自己的长处，就是自学能力，所以这两年我没干别的，就是自主学习研究。有问必答，欢迎欢迎，愿意接受人民监督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徒弟们，进入状态了。  学生喊：好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说：自主学习很重要，这个连外星人都知道，但是！停顿，你看看我这两学生，（学生开始表演埋头苦干，不与人合老师交流的情形）整天埋头苦干，那干劲比咱大连钢铁赶英超美都积极，到学校不与同学交流，到家吃晚饭就学习，父母那个愁呀，这么干出事了怎么办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笑呵呵，明白了明白了，自主学习典型误区之一，自主学习理解成了自闭学习，后果很严重，轻则不能健康与人交流，重则失去语言能力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别整没用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自主学习，其实是一种学习态度，是学习积极性的一种表现，主要强调以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字，“主动参与，主动获取，自主构建，自我发展，自我完善。”所以自主学习并不是埋头苦干，其他的一切乃身外之物。而是积极参与，和老师一起探索知识的真谛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徒弟们，明白了吗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学生：明白了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明白什么了，我再补充一点：不但不是封闭式学习，反而还要大力鼓励你们相互探讨，交流学习经验和对知识的理解，以达到共同进步的目的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补充的好啊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（心里嘀咕：真有两下子）别夸我，我容易骄傲，不动真格的不行了，整点难的。精神点，都别含糊了！ 学生：遵命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奉陪到底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就位了，范主任，我这俩孩子吧，那可是家长手中的夜明珠，老师眼里的山代王，平时吧，网络游戏周游列国，课堂之上梦游天下，考试时左顾右盼，机关算尽，考完了又是一年，得过且过，优哉游哉。他们的自主学习怎么办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这个问题有水平，其实呀，他们是最需要自主学习培养的一个群体，但是往往很多情况下被我们视而不见，一般的学生的培养指导只是方法上的，而这些学生的培养改正是系统性的，还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字：“寻找兴趣、适当引导、制定计划、培养自信、逐步完善”，对这样的学生，学校、老师、家长都不要心急，他们是让人欢喜让人忧，但他们不学习不是因为他们天生不想学，而是在学习上找不到自信，所以借玩来实现自己，证明自己，因此我们要齐心协力将他们引导到学习的道路上，也就是寻找兴趣，适当引导，通过阶段性的计划，一步步完成，培养其自信心，这个过程下来就是他们逐步完善的过程，到那时一个崭新的形象就会屹立在你的面前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712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赵：我再补充几句：在这个过程中，班主任的作用很重要，必须改变对这类学生的看法，将作为老师的爱心融入到这类学生的“转正”培养中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范：精彩精彩，还转正呢，这个比喻用得好呀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学生：师傅，难不倒了，怎么办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赵：难不倒了！？我还不信这个邪！看我的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范主任，这次我身份变了，我是一个老师，我原来只知道讲好课，解决好问题就行了，现在我怎么站在老师角度上参与学生的自主学习的培养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范：问题越来越尖锐，已经到了赤膊上阵的关键时刻了，在这么多教育行家里手面前我可是献丑了，今天给老师上上课，就算讲完不我轰下来了，能给各位讲一讲，也算我没白来附中一趟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首先：老师要积极挖掘所教课程中的能够引起学生兴趣的知识点，通过精彩的引导将学生引领到一个师生共同探讨的环境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其次：要事先设计问题，不要只是问一些，是不是？对不对？的问题，问题要有思维价值，能引起学生思考，并从中获益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第三：对于学生的疑惑点，要通过巧妙的点拨而不是直接告诉他们答案，让点拨使他们自己完成对问题的认识和理解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赵：完了？视野不开阔！我说几句：课堂需要抓，课下也不能放下！现在我们的学生课下往往陷入到题海中，但是练习题贵在精练，因此要将学生从题海中解脱出来，通过其他形式使知识得以巩固。比如：课外学习小组，各种实验小组，实地考察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长见识，长见识呀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别说了，经我这一鉴定。你这咨询中心绝对符合国际标准，滑校长，您就放心吧！我可以放心的走了，不过临走又一个小小的要求，我这两个徒弟交给你吧，范师傅，您好好管教管教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范：大忽悠，我发现您也实在多了，您看您补充呢几点，经典呀，我看咱这么地，您也留下，你当主任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赵：不敢当不敢当。你肯收留我就不错了，只有一个小小的愿望：你看你这对联少个横批，我看就是给我留的，我填个横批。绝不忽悠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国家发展自主创新助推器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人成长自主学习发动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我们来这里是为了什么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学习！学习！除了知识还要学习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学会做人比学会知识更重要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做人最重要的是融入人群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融入人群最重要的是尊重他人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尊重他人实际就是尊重自己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个人的力量微不足道，群体的力量才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以撼天动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人群的力量源于规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目三：朗诵《我的一天》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音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要讲述对自己目前学习状态的反思：由小学时旺盛的求知欲和好奇心，到初中、高中到现在，不能树立新的知识体系，被大量的练习包围，失去了学习的积极性，被动的应付各种题目、考试。通过了解自主学习的相关知识，重新认识学习的重要性和自主学习的方式方法。决心重建自信，以主动参与学习的面貌迎接明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ahoma"/>
              </a:rPr>
              <a:t>缺：稿子和朗诵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第四个节目：初步定为合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征求意见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踊跃发言！！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预祝主题班会取得圆满成功！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17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环保教育主题班会教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1676520"/>
            <a:ext cx="6953040" cy="495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环境保护</a:t>
            </a:r>
            <a:endParaRPr b="0" lang="en-US" sz="4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20000" y="69228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40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从太空中看地球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地球是一个蔚蓝色的星球。地球养育了人类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新宋体"/>
              </a:rPr>
              <a:t>也养育了地球上的一切生物。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但是这个美丽的星球当今正为环境问题所困扰。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352680" cy="5079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5300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水资源污染，生灵涂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0" y="3357720"/>
            <a:ext cx="4897440" cy="2776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407480" y="62366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Tahoma"/>
              </a:rPr>
              <a:t>土地沙漠化的速度与日俱增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1943280" cy="1717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40360" y="1910160"/>
            <a:ext cx="39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饮用水的污染，对以此为生的居民造成极大的伤害，救救孩子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（长期饮用含砷量严重超标的地下水造成砷中毒）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95640" y="5515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北京近年来也受到沙尘暴的袭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360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01780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找一找：这一切是由什么原因造成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说一说：环境污染给我们的生活带来了哪些不便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想一想：长此以往，我们的生存环境将变成什么样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议一议：如果地球被破坏了，我们能移居到别的星球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13809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042920" y="620640"/>
          <a:ext cx="22100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620640"/>
                    <a:ext cx="22100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84240" y="-88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84240" y="1582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882800" y="2205000"/>
          <a:ext cx="4920840" cy="575640"/>
        </p:xfrm>
        <a:graphic>
          <a:graphicData uri="http://schemas.openxmlformats.org/drawingml/2006/table">
            <a:tbl>
              <a:tblPr/>
              <a:tblGrid>
                <a:gridCol w="492084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类将为滥砍乱伐付出沉重的代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884240" y="2505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84240" y="4146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4653000"/>
          <a:ext cx="7561440" cy="33480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3780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山深处的工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垃圾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非法淘金造成青藏高原严重水土流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884240" y="50695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zoom"/>
          <p:cNvPicPr/>
          <p:nvPr/>
        </p:nvPicPr>
        <p:blipFill>
          <a:blip r:embed="rId1"/>
          <a:stretch/>
        </p:blipFill>
        <p:spPr>
          <a:xfrm>
            <a:off x="826920" y="404640"/>
            <a:ext cx="193536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zoom"/>
          <p:cNvPicPr/>
          <p:nvPr/>
        </p:nvPicPr>
        <p:blipFill>
          <a:blip r:embed="rId2"/>
          <a:stretch/>
        </p:blipFill>
        <p:spPr>
          <a:xfrm>
            <a:off x="2843280" y="476280"/>
            <a:ext cx="1592280" cy="1695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zoom"/>
          <p:cNvPicPr/>
          <p:nvPr/>
        </p:nvPicPr>
        <p:blipFill>
          <a:blip r:embed="rId3"/>
          <a:stretch/>
        </p:blipFill>
        <p:spPr>
          <a:xfrm>
            <a:off x="4500720" y="476280"/>
            <a:ext cx="1869840" cy="1595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zoom"/>
          <p:cNvPicPr/>
          <p:nvPr/>
        </p:nvPicPr>
        <p:blipFill>
          <a:blip r:embed="rId4"/>
          <a:stretch/>
        </p:blipFill>
        <p:spPr>
          <a:xfrm>
            <a:off x="6516720" y="476280"/>
            <a:ext cx="1884240" cy="1535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zoom"/>
          <p:cNvPicPr/>
          <p:nvPr/>
        </p:nvPicPr>
        <p:blipFill>
          <a:blip r:embed="rId5"/>
          <a:stretch/>
        </p:blipFill>
        <p:spPr>
          <a:xfrm>
            <a:off x="826920" y="2924280"/>
            <a:ext cx="1657440" cy="151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zoom"/>
          <p:cNvPicPr/>
          <p:nvPr/>
        </p:nvPicPr>
        <p:blipFill>
          <a:blip r:embed="rId6"/>
          <a:stretch/>
        </p:blipFill>
        <p:spPr>
          <a:xfrm>
            <a:off x="2700360" y="3033720"/>
            <a:ext cx="1878120" cy="140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zoom"/>
          <p:cNvPicPr/>
          <p:nvPr/>
        </p:nvPicPr>
        <p:blipFill>
          <a:blip r:embed="rId7"/>
          <a:stretch/>
        </p:blipFill>
        <p:spPr>
          <a:xfrm>
            <a:off x="4734000" y="3063960"/>
            <a:ext cx="1566720" cy="144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zoom"/>
          <p:cNvPicPr/>
          <p:nvPr/>
        </p:nvPicPr>
        <p:blipFill>
          <a:blip r:embed="rId8"/>
          <a:stretch/>
        </p:blipFill>
        <p:spPr>
          <a:xfrm>
            <a:off x="6516720" y="2997360"/>
            <a:ext cx="169524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zoom"/>
          <p:cNvPicPr/>
          <p:nvPr/>
        </p:nvPicPr>
        <p:blipFill>
          <a:blip r:embed="rId9"/>
          <a:stretch/>
        </p:blipFill>
        <p:spPr>
          <a:xfrm>
            <a:off x="1042920" y="5229360"/>
            <a:ext cx="208908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zoom"/>
          <p:cNvPicPr/>
          <p:nvPr/>
        </p:nvPicPr>
        <p:blipFill>
          <a:blip r:embed="rId10"/>
          <a:stretch/>
        </p:blipFill>
        <p:spPr>
          <a:xfrm>
            <a:off x="6588000" y="5229360"/>
            <a:ext cx="1656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2786040" y="3048120"/>
          <a:ext cx="3571920" cy="228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cccccc"/>
                          </a:solidFill>
                          <a:latin typeface="Arial"/>
                        </a:rPr>
                        <a:t>工业事故和森林火灾也是环境污染的主要原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2787840" y="3329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86040" y="3048120"/>
          <a:ext cx="3571920" cy="228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cccccc"/>
                          </a:solidFill>
                          <a:latin typeface="Arial"/>
                        </a:rPr>
                        <a:t>工业事故和森林火灾也是环境污染的主要原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787840" y="3329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537372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工业事故和森林火灾也是环境污染的主要原因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中国自然生态七大失衡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据《服务导报》报道，农业经济学家郭书田说，中国自然生态失衡有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大“赤字”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水土流失面积大于治理面积。风蚀、水蚀达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 8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万平方公里，占国全面积的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／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北方沙漠化面积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6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万平方公里，占国土面积的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每年新增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46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平方公里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南方石漠化面积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4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万平方公里，每年新增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多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草原退化、碱化、沙化每年新增面积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多万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工业三废污染局部改善，总体恶化；二氧化碳排放量居世界第二、酸雨面积扩大、水污染严重。由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代末的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上升致到目前的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以上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水资源浪费，约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的农业用水利用率仅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 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耕地每年净流失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多万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他说，生态“赤字”比财政赤字更可怕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人格魅力的源泉是什么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亲和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尊重他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谦逊、和霭的处事态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全局式的整体观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发现他人的优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克制自己的不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善于发挥别人的长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环保小问答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3399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3399ff"/>
                </a:solidFill>
                <a:latin typeface="Tahoma"/>
              </a:rPr>
              <a:t>、中国环境标志的含义是什么？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167360" y="2779560"/>
            <a:ext cx="5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选用什么样的洗衣粉能减少水污染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57880" y="3355920"/>
            <a:ext cx="5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日常生活中怎样节约用水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0960" y="4004280"/>
            <a:ext cx="7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4 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我国的森林覆盖率为多少？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07880" y="4587840"/>
            <a:ext cx="5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、垃圾可分为哪几类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0440" y="5065560"/>
            <a:ext cx="6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6 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、我们能为保护臭氧层做些什么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553080" y="4648320"/>
            <a:ext cx="89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环保宣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①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用电，自然光充足时关闭室内灯。离开教室时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  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闭教室灯和走廊灯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②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用水，用水时尽量使用小水流，用完及时关闭水龙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③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粮食，不剩饭，培养节俭品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④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节约用纸，一张纸两面用，废纸放在回收箱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⑤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爱护公物，门窗轻关轻开，桌椅轻搬轻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⑤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爱护动植物，不折花、不攀树，不践踏绿地，不隔墙购物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①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不吸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②</a:t>
            </a:r>
            <a:r>
              <a:rPr b="1" lang="zh-CN" sz="2400" spc="-1" strike="noStrike">
                <a:solidFill>
                  <a:srgbClr val="9900ff"/>
                </a:solidFill>
                <a:latin typeface="Tahoma"/>
                <a:ea typeface="华文行楷"/>
              </a:rPr>
              <a:t>做好卫生值日，保持环境卫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3600360" cy="317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313080" cy="3097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672000" cy="2951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427640" y="3645000"/>
            <a:ext cx="2736720" cy="2879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859520" y="0"/>
            <a:ext cx="1033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新宋体"/>
              </a:rPr>
              <a:t>希望我们的子孙后代也能欣赏到如此美景！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987640" y="2276640"/>
            <a:ext cx="40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同学是什么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共同学习做人与学习知识、发展自己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合作伙伴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共同面对成功与失败的精神支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共同走上人生成功之路的互助力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拥有不同凡响的同学关系就是拥有不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凡响的财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拥有诚挚的友谊就是拥有光辉的未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善、恶的区别是什么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善是人性中最美的品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恶是人性里最丑的劣性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扬善去恶是人与动物最本质的区别之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善就是：爱护并促进生命，把具有发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能力的生命提升到最有价值的地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恶就是：伤害并破坏生命，阻碍生命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发展。这是道德上绝对需要考虑的原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文明是什么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是一种文化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社会发展到较高阶段和具有较高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化的行为、精神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有现代色彩的人类较先进的（物质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精神表现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现代色彩（意识）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平等、互助、协作、共进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人格、尊严、权利、义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和平 、友好、爱心、善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噢，人啊，你当自助！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愿证明，凡是行为善良与高尚的人，定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因之而担当患难。”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贝多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“--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生是艰苦的。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是有时连最强的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都不免在苦难中蹉跌。他们求助，求一个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友。”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罗曼罗兰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愿不幸的人，看到一个与他同样不幸的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难者、不顾自然的阻碍，竭尽所能成来一个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愧为人的人，而能借以自慰。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贝多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如何面对竞争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别跟别人盲目较劲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关键是正确认识自己，确立自己的定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习是给自己学的，不是为了和他人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要善于肯定自己的进步及成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正确对待分数：分数不是唯一的标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互相促进才是真正的目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193ff"/>
                </a:solidFill>
                <a:latin typeface="Tahoma"/>
                <a:ea typeface="楷体_GB2312"/>
              </a:rPr>
              <a:t>孤独性格中应保持什么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正确的生活态度和价值判断标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愿你在尘世获得幸福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只愿面朝大海，春暖花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上没有绝望的处境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对处境绝望的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永不伤害无辜和弱者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理性的头脑，沉着平静的心态，宽广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度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03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02Z</dcterms:modified>
  <cp:revision>23</cp:revision>
  <dc:subject>主题班会课件(分28大类): http://shop62905894.taobao.com</dc:subject>
  <dc:title>主题班会课件(分28大类): http://shop62905894.taobao.com</dc:title>
</cp:coreProperties>
</file>