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4F70-4341-4355-AC05-62D18F38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4E16-58DC-4CCD-80B4-5BEC31AC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7D97-3E6F-4A70-9523-8329B65E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4684-C542-4F0B-80E5-3180FBCD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14A-BF01-4EC0-90AB-E80567C2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3B15-B3C1-47AF-A208-0105D8A2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ADFB-4F75-4CD5-BB96-B14E4EE6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538A-6ED4-4376-A278-608EF389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96B3-86CF-414C-9AD1-841D449B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30EB-AF56-4B17-98B1-1A062FFC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644C-297C-4CD6-AEF2-B1EB10C5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AA77-EBDE-4A9D-8A5E-1C109A09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2C1F-C286-41CD-B87D-1B2F77E1AB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382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华文行楷"/>
              </a:rPr>
              <a:t>唱响节俭之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640720" cy="6524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成由勤俭破由奢 </a:t>
            </a:r>
            <a:br>
              <a:rPr sz="4800"/>
            </a:b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俭入奢易，从奢入俭难 </a:t>
            </a:r>
            <a:br>
              <a:rPr sz="4800"/>
            </a:b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有钱时摆阔，没钱挨饿 </a:t>
            </a:r>
            <a:br>
              <a:rPr sz="4800"/>
            </a:b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欲求温饱，勤俭为要 </a:t>
            </a:r>
            <a:br>
              <a:rPr sz="4800"/>
            </a:b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紧紧手，年年有 </a:t>
            </a:r>
            <a:br>
              <a:rPr sz="4800"/>
            </a:b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勤能补拙，省能补贫 </a:t>
            </a:r>
            <a:br>
              <a:rPr sz="4800"/>
            </a:b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思前顾后，吃穿常有 </a:t>
            </a:r>
            <a:br>
              <a:rPr sz="4800"/>
            </a:b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精打细算，油盐不断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640720" cy="6524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披着破大氅的，往往是个好酒徒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粮收万石，也要粗茶淡饭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会吃的吃千顿，不会吃的吃一顿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精打细算，油盐不断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一粥一饭汗珠换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不当家不知柴米贵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谁爱风流高格调，共怜时世俭梳妆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成物不可损坏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静以修身，俭以养德——诸葛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640720" cy="6524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君子以俭德辟难。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克勤于邦，克俭于家。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俭，德之共也；侈，恶之大也。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民生在勤，勤则不匮。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俭节则昌，淫佚则亡。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历览前贤国与家，成由勤俭破由奢。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忧劳可以兴国，逸豫可以亡身。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取之有度，用之有节，则常足。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惟俭可以助廉，惟恕可以成德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7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大 写 的 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96720" y="38160"/>
            <a:ext cx="9540720" cy="6819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684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  <a:ea typeface="华文行楷"/>
              </a:rPr>
              <a:t>雷锋的故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96720" y="38160"/>
            <a:ext cx="9540720" cy="6819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7570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  <a:ea typeface="华文行楷"/>
              </a:rPr>
              <a:t>周总理的故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96720" y="38160"/>
            <a:ext cx="9540720" cy="6819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684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  <a:ea typeface="华文行楷"/>
              </a:rPr>
              <a:t>朱德的故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10009440" cy="6831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341000"/>
            <a:ext cx="1044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6600"/>
                </a:solidFill>
                <a:latin typeface="隶书"/>
                <a:ea typeface="隶书"/>
              </a:rPr>
              <a:t>欲求温饱，勤俭为要。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9112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6553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00cc"/>
                </a:solidFill>
                <a:latin typeface="Arial"/>
              </a:rPr>
              <a:t>小品：</a:t>
            </a:r>
            <a:br>
              <a:rPr sz="7200"/>
            </a:br>
            <a:r>
              <a:rPr b="1" lang="zh-CN" sz="7200" spc="-1" strike="noStrike">
                <a:solidFill>
                  <a:srgbClr val="6600cc"/>
                </a:solidFill>
                <a:latin typeface="Arial"/>
                <a:ea typeface="华文新魏"/>
              </a:rPr>
              <a:t>浪费纸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9112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6553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00cc"/>
                </a:solidFill>
                <a:latin typeface="Arial"/>
              </a:rPr>
              <a:t>小品：</a:t>
            </a:r>
            <a:br>
              <a:rPr sz="7200"/>
            </a:br>
            <a:r>
              <a:rPr b="1" lang="zh-CN" sz="7200" spc="-1" strike="noStrike">
                <a:solidFill>
                  <a:srgbClr val="6600cc"/>
                </a:solidFill>
                <a:latin typeface="Arial"/>
                <a:ea typeface="华文新魏"/>
              </a:rPr>
              <a:t>吃饭风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24000" y="87480"/>
            <a:ext cx="9792000" cy="66830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亿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*365=4745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亿粒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76280"/>
            <a:ext cx="8064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全国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亿人口，每天浪费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粒米，一年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365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天浪费多少粒米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422100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大约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万千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556092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24000" y="87480"/>
            <a:ext cx="9792000" cy="66830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343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60*365=21900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476280"/>
            <a:ext cx="8064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药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06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班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人，每人每天浪费一张纸，一年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365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天浪费多少张纸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556092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1:09:1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43:05Z</dcterms:modified>
  <cp:revision>11</cp:revision>
  <dc:subject>主题班会课件(分28大类): http://shop62905894.taobao.com</dc:subject>
  <dc:title>主题班会课件(分28大类): http://shop62905894.taobao.com</dc:title>
</cp:coreProperties>
</file>