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chimes.wav" ContentType="audio/x-wav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10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27.jpeg" ContentType="image/jpeg"/>
  <Override PartName="/ppt/media/image33.jpeg" ContentType="image/jpeg"/>
  <Override PartName="/ppt/media/glass.wav" ContentType="audio/x-wav"/>
  <Override PartName="/ppt/media/image28.jpeg" ContentType="image/jpeg"/>
  <Override PartName="/ppt/media/image34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7.jpeg" ContentType="image/jpeg"/>
  <Override PartName="/ppt/media/image38.jpeg" ContentType="image/jpeg"/>
  <Override PartName="/ppt/media/image6.jpeg" ContentType="image/jpeg"/>
  <Override PartName="/ppt/media/type.wav" ContentType="audio/x-wav"/>
  <Override PartName="/ppt/media/image36.jpeg" ContentType="image/jpeg"/>
  <Override PartName="/ppt/media/image2.jpeg" ContentType="image/jpeg"/>
  <Override PartName="/ppt/media/image23.jpeg" ContentType="image/jpeg"/>
  <Override PartName="/ppt/media/image3.jpeg" ContentType="image/jpeg"/>
  <Override PartName="/ppt/media/image37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6FD6-3BB8-4619-95F2-F057F548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CF8-FB65-429A-AD25-90127EBD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22B9-A3CF-4610-AC6A-A128653A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C347-5D16-4E07-80C6-E251B11A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711C-878D-48E3-AC25-5496213C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03E-B81F-4613-A3D6-4760DAF2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D242-5E5A-4DFA-8207-29F73DDA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8837-7AF7-41F5-A216-FEBE4762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BA09-2BEB-431B-9DFE-206659A4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9A78-F56D-47CB-A014-FA8FB244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32FC-65C2-43D9-8C58-48CB5764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4D52-0A61-4DEC-A101-72CBFEEE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A4F0-F46D-4248-A709-5DF1102FA7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type.wav" TargetMode="External"/><Relationship Id="rId2" Type="http://schemas.microsoft.com/office/2007/relationships/media" Target="file:///tmp/home/.config/libreoffice/4/user/gallery/type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glass.wav" TargetMode="External"/><Relationship Id="rId2" Type="http://schemas.microsoft.com/office/2007/relationships/media" Target="file:///tmp/home/.config/libreoffice/4/user/gallery/glass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47640" y="620640"/>
            <a:ext cx="6048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倡导绿色文明</a:t>
            </a:r>
            <a:endParaRPr b="1" lang="en-US" sz="1800" spc="1" strike="noStrike">
              <a:ln w="1908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追求绿色情怀</a:t>
            </a:r>
            <a:endParaRPr b="1" lang="en-US" sz="1800" spc="1" strike="noStrike">
              <a:ln w="1908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50920" y="6292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6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30093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811080" y="89208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没有干净的水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7680" y="1916280"/>
            <a:ext cx="3373560" cy="4941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105520" y="1916280"/>
            <a:ext cx="32972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496360" cy="59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720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2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沙尘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76360" y="1976400"/>
            <a:ext cx="6912000" cy="4843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9280" y="450720"/>
            <a:ext cx="8496360" cy="636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不得不放弃的家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963800"/>
            <a:ext cx="691200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挖发菜毁了草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76944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0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6680" y="685800"/>
            <a:ext cx="710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6000" spc="-1" strike="noStrike">
                <a:solidFill>
                  <a:srgbClr val="ff33cc"/>
                </a:solidFill>
                <a:latin typeface="Times New Roman"/>
                <a:ea typeface="黑体"/>
              </a:rPr>
              <a:t>我们学校面临的环境问题主要有哪些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2819520"/>
            <a:ext cx="58672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333399"/>
                </a:solidFill>
                <a:latin typeface="Times New Roman"/>
              </a:rPr>
              <a:t>、花草树木的破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333399"/>
                </a:solidFill>
                <a:latin typeface="Times New Roman"/>
              </a:rPr>
              <a:t>、水资源的浪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333399"/>
                </a:solidFill>
                <a:latin typeface="Times New Roman"/>
              </a:rPr>
              <a:t>、随手乱丢垃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647960" cy="6172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304920" y="685800"/>
            <a:ext cx="3598920" cy="43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瞧我的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58320" y="1219320"/>
            <a:ext cx="2649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谈谈同学们在校用水情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84360" y="1722600"/>
            <a:ext cx="60962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</a:rPr>
              <a:t>1.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</a:rPr>
              <a:t>清洁卫生用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</a:rPr>
              <a:t>同学们在厕所用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6000" y="81000"/>
            <a:ext cx="8820000" cy="673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8000" y="692280"/>
            <a:ext cx="5761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66"/>
                </a:solidFill>
                <a:latin typeface="Arial"/>
                <a:ea typeface="黑体"/>
              </a:rPr>
              <a:t>让我们的子孙能继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66"/>
                </a:solidFill>
                <a:latin typeface="Arial"/>
                <a:ea typeface="黑体"/>
              </a:rPr>
              <a:t>享受绿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900000" y="0"/>
            <a:ext cx="100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7621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试分析浪费水资源的原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2590920"/>
            <a:ext cx="58676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没有环保意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没有节约观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不是自家的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187280" y="476280"/>
            <a:ext cx="5905800" cy="916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改变我们的行为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28200" y="5734080"/>
            <a:ext cx="225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生在捡“薄膜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971800" y="838080"/>
            <a:ext cx="2890800" cy="3657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819520" y="304920"/>
            <a:ext cx="32004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为鸭子家庭让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4648320"/>
            <a:ext cx="853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 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日，在加拿大安大略省彼得伯勒的车道上，众多汽车在一名男子的指挥下纷纷停下，为匆匆赶往河中的鸭妈妈和她的小宝宝们让道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新华社／美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保护我们的家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让我们从身边做起，爱护环境保护自然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拯救地球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还人类一个绿色世界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! 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国家领导重视环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4803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国家领导重视环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640872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国家领导重视环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2789280" cy="4608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372360" y="1989000"/>
            <a:ext cx="2270160" cy="4535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132000" y="1989000"/>
            <a:ext cx="3129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534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627280" y="130320"/>
            <a:ext cx="53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让醉人的绿色环绕我们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1280" y="343080"/>
            <a:ext cx="889344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 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让我们从身边做起，爱护环境保护自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拯救地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人类一个绿色世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!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让慰蓝明镜般的天空、清新的空气、清澈见底的河流、绿色的森林原野成为地球永远的风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36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334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19320" y="1143000"/>
            <a:ext cx="7162560" cy="62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、石油告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二、全球气温升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、水资源缺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四、紫外辐射量增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五、矿产资源耗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六、耕地面积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七、动植物品种和数量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八、沙漠面积扩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九、人口膨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、粮食需求可能超出地球的供给极限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3049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十大全球性问题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家园在呻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慰蓝明镜般的天空，清新的空气，清澈见底的河流，绿色的森林原野，这是人类祖先享受过的最佳自然环境。如今，科学技术高速发展，生产资料和生活水平也高速增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伴随来的是生产和生活垃圾、废料对生态环境的日益破坏。请君看看，天上地下白、黑、黄色污染都不同程度地影响着我们的健康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79280" y="260280"/>
            <a:ext cx="856944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9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水资源被污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7777080" cy="4638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50920" y="404640"/>
            <a:ext cx="8353440" cy="64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7"/>
                </p:tgtEl>
              </p:cMediaNode>
            </p:audio>
            <p:seq>
              <p:cTn id="127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1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鱼虾海鸟死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46280" y="1989000"/>
            <a:ext cx="3213000" cy="4869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76800" y="1989000"/>
            <a:ext cx="31989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6:57:0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3:14Z</dcterms:modified>
  <cp:revision>1</cp:revision>
  <dc:subject>主题班会课件(分28大类): http://shop62905894.taobao.com</dc:subject>
  <dc:title>主题班会课件(分28大类): http://shop62905894.taobao.com</dc:title>
</cp:coreProperties>
</file>