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2.jpeg" ContentType="image/jpeg"/>
  <Override PartName="/ppt/media/image3.png" ContentType="image/png"/>
  <Override PartName="/ppt/media/image5.jpeg" ContentType="image/jpeg"/>
  <Override PartName="/ppt/media/image6.jpeg" ContentType="image/jpeg"/>
  <Override PartName="/ppt/media/image11.jpeg" ContentType="image/jpeg"/>
  <Override PartName="/ppt/media/image18.png" ContentType="image/png"/>
  <Override PartName="/ppt/media/image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D0916-3CCD-4EAB-B9B0-828324FDD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78ADB-11B6-4B2E-9A4D-4ADE68217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9D5D7-2F97-47A6-B56F-FBBB6E42D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7D6AF-B730-43C1-B921-845FB8335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E5DF7-5FDB-4578-91EB-7FD05B955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7057A-193A-45DB-9AA3-1B6012C78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41D00-AF20-42D2-9112-8A88D80BD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E8657-0C82-4E34-9B20-D9F39043E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B3666-04E3-4192-BF79-4E118B19E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4B67B-EDCF-459F-937E-255CFB100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CC581-80FF-41FC-B3FC-BA8730F07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9CCE6-35D6-4F22-AF28-8383C2589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0035C-4362-4A01-A806-2FB8BB0BD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3FA3C-66B4-475E-846D-078FC02A4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99348-84A2-42B0-B725-15DFBE6BE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1C87D-7A3A-483A-BF63-AA4990E19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EF56E-D987-44E0-A9A4-C308E3BCE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398C222-D971-4469-A444-8C85E4EB4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4FB4525-5626-4C79-B6FD-69B603EEA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DA9774D-1A2A-41DB-823A-B69019CD5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3EF370A-9DCC-41B7-9870-2EE82C72F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6346F36-C97A-4FC2-97B6-DFD43224B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061E0-1806-4834-AF9A-F39FB32AD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18FE277-87AB-4CD5-896D-3E095299E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79C1F35-3402-41C1-BDC5-37ECC999F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AB38396-773E-4D57-9F14-CCAC989C2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D6804A3-4EBB-469C-A503-2074A9572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00AA1C0-04FD-40BB-9A70-7F1F3B6D7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85EB352-3319-4C98-857D-D4E007B3A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A7A8F6-A58E-473F-BA6C-C28F32FD2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42011-F1E7-4746-B64C-615ED047C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EE6E0-8FD9-4A62-AB51-C6B888417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04CA4-09A5-4724-866C-A3E6A5EF3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E7932-65B9-4308-AA7C-7CF396A71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B1344-711A-4C48-A653-070D4C0C4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2ECA6-D04F-4A33-910B-2772DC51B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EFBA3-D51A-4055-82AF-851CBDAE4E5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F7A51-1765-474F-97BD-2E8E480A3444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4EF9D-5B22-4357-BEE4-8B2385E9E2A8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6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2">
            <a:lum bright="-16000"/>
          </a:blip>
          <a:stretch/>
        </p:blipFill>
        <p:spPr>
          <a:xfrm>
            <a:off x="0" y="0"/>
            <a:ext cx="9144000" cy="68817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 txBox="1"/>
          <p:nvPr/>
        </p:nvSpPr>
        <p:spPr>
          <a:xfrm>
            <a:off x="755640" y="1341360"/>
            <a:ext cx="784872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保护环境，珍爱生命</a:t>
            </a:r>
            <a:endParaRPr b="1" lang="en-US" sz="4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共青团组织开展的“保护母亲河行动”中的“母亲河”是指（ ） 。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、黄河 　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B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、长江 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、黄河、长江及其他主要江河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为保护蓝天，我们在出门时，应该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(  )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。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、尽量选择乘坐舒适的交通工具 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B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、使用私人车  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、尽量选择乘坐公共交通工具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（ ）不属于白色污染。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、废弃农膜   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B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、废弃塑料袋 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、废弃纸饭盒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绿色产品是指（ ）。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、没有受到污染的产品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B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、有益于健康的产品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、既没有受到污染又不会污染环境和破坏环境的产品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保护水环境，我们应该选择使用（ ）洗衣粉。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、普通  　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B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、无磷   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、廉价   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D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、高价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饮用水的感官性状应该是（ ）和透明度良好。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、无色、无臭、无异味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B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、无色、无味 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、无色、透明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臭氧是一种天蓝色、有臭味的气体，在大气圈平流层中的臭氧层可以吸收和滤掉太阳光中大量的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___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，有效保护地球生物的生存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A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紫外线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B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红外线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可见光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D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热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我国有许多世界珍稀动物，金丝猴就是其中之一，它是国家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___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保护动物。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一级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B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二级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三级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D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四级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下列植物中，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___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对二氧化硫比较敏感，花的颜色可随周围空气二氧化硫含量的多少而有所改变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矮牵牛花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B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海棠花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月季花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D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野菊花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绿色食品指什么食品？（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）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，蔬菜，水果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B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、绿颜色的食品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安全无污染食品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D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有丰富营养价值的食品 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468000" cy="6962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我国环境保护事业是那一位领导人的 倡导下开创起来的？（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D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）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、毛泽东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B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、刘少奇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、邓小平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D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、周恩来 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湿地保护是环境保护的重要领域，是国际自然保护的一个热点；世界湿地日为每年的：（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C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）。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A. 3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月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12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日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B. 5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月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日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C. 2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月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日 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中国野生动物保护协会的会徽是（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B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）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A.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丹顶鹤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B.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大熊猫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C.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骆驼 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、工业“三废“和生活”三废“各指什么？ </a:t>
            </a:r>
            <a:br>
              <a:rPr sz="3200"/>
            </a:b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答：工业”三废“是指废气、废水、废渣； </a:t>
            </a:r>
            <a:br>
              <a:rPr sz="3200"/>
            </a:b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生活”三废“是制粪便、垃圾、污水。 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你知道食品污染按其污染性质大致可分为哪两类？ </a:t>
            </a:r>
            <a:br>
              <a:rPr sz="3200"/>
            </a:b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答：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、生物污染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B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、化学性污染 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环境污染主要有哪几种？ </a:t>
            </a:r>
            <a:br>
              <a:rPr sz="3200"/>
            </a:b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答（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）大气污染（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）水污染 （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）土壤污染 （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）食品污染（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）放射性污染 （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）噪音污染 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环境噪音主要来源于那四个方面？ </a:t>
            </a:r>
            <a:br>
              <a:rPr sz="3200"/>
            </a:b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答：交通、工业生产、建筑工业、社会生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78920" cy="688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restart="whenNotActive" nodeType="interactiveSeq" fill="hold">
                <p:stCondLst>
                  <p:cond evt="onClick">
                    <p:tgtEl>
                      <p:spTgt spid="155"/>
                    </p:tgtEl>
                  </p:cond>
                </p:stCondLst>
                <p:childTnLst>
                  <p:par>
                    <p:cTn id="51" fill="hold">
                      <p:stCondLst>
                        <p:cond evt="onClick">
                          <p:tgtEl>
                            <p:spTgt spid="155"/>
                          </p:tgtEl>
                        </p:cond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4" dur="1" fill="hold"/>
                                        <p:tgtEl>
                                          <p:spTgt spid="1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684360" y="636480"/>
            <a:ext cx="7848360" cy="560088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1332000" y="128916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工厂排放的废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000"/>
                            </p:stCondLst>
                            <p:childTnLst>
                              <p:par>
                                <p:cTn id="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608040" y="690480"/>
            <a:ext cx="7924680" cy="554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756720" cy="6961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755640" y="620640"/>
            <a:ext cx="77724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971640" y="765000"/>
            <a:ext cx="7086600" cy="5239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96" dur="1" fill="hold"/>
                                  <p:tgtEl>
                                    <p:spTgt spid="16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2340000" y="836640"/>
            <a:ext cx="3313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00"/>
                </a:solidFill>
                <a:latin typeface="Times New Roman"/>
              </a:rPr>
              <a:t>环境保护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111200" y="2174760"/>
            <a:ext cx="287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---------</a:t>
            </a:r>
            <a:r>
              <a:rPr b="1" lang="zh-CN" sz="2800" spc="-1" strike="noStrike" u="sng">
                <a:solidFill>
                  <a:srgbClr val="ffcc00"/>
                </a:solidFill>
                <a:uFillTx/>
                <a:latin typeface="Times New Roman"/>
              </a:rPr>
              <a:t>保护我们的家园</a:t>
            </a:r>
            <a:r>
              <a:rPr b="1" lang="zh-CN" sz="2800" spc="-1" strike="noStrike" u="sng">
                <a:solidFill>
                  <a:srgbClr val="ffcc00"/>
                </a:solidFill>
                <a:uFillTx/>
                <a:latin typeface="Times New Roman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60200" y="4941720"/>
            <a:ext cx="4344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环境——人类赖以生存和发展的自然环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及人类活动所能达到的宇宙空间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大气、水体、土壤和生物界是四大环境要素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014280" y="3213000"/>
            <a:ext cx="4816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曾经，人们是那样和谐愉快地与大自然融为一体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如今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: “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天堂”被蒙上了阴影；请听，生命之泉的呻吟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母亲河在哭泣，苍天在流泪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我们的家园正在忍受着魔鬼的蹂躏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1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819160" y="701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ahoma"/>
              </a:rPr>
              <a:t>一</a:t>
            </a:r>
            <a:r>
              <a:rPr b="0" lang="zh-CN" sz="44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zh-CN" sz="4400" spc="-1" strike="noStrike">
                <a:solidFill>
                  <a:srgbClr val="ffffff"/>
                </a:solidFill>
                <a:latin typeface="Tahoma"/>
              </a:rPr>
              <a:t>大气污染的来源</a:t>
            </a:r>
            <a:r>
              <a:rPr b="0" lang="zh-CN" sz="44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zh-CN" sz="4400" spc="-1" strike="noStrike">
                <a:solidFill>
                  <a:srgbClr val="ffffff"/>
                </a:solidFill>
                <a:latin typeface="Tahoma"/>
              </a:rPr>
              <a:t>危害</a:t>
            </a:r>
            <a:r>
              <a:rPr b="0" lang="zh-CN" sz="44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zh-CN" sz="4400" spc="-1" strike="noStrike">
                <a:solidFill>
                  <a:srgbClr val="ffffff"/>
                </a:solidFill>
                <a:latin typeface="Tahoma"/>
              </a:rPr>
              <a:t>治理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819160" y="226692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主要污染物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: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二氧化硫  碳氧化物   氮氧化物  碳氢化物  飘尘  煤尘  放射性物质等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826920" y="4076640"/>
            <a:ext cx="3529080" cy="251928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3"/>
          <a:stretch/>
        </p:blipFill>
        <p:spPr>
          <a:xfrm>
            <a:off x="4643280" y="4005360"/>
            <a:ext cx="3600720" cy="25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500"/>
                            </p:stCondLst>
                            <p:childTnLst>
                              <p:par>
                                <p:cTn id="13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730520" y="53316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宋体"/>
              </a:rPr>
              <a:t>来源与危害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722240" y="2329920"/>
            <a:ext cx="7242120" cy="361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1.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来源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: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煤  石油的燃烧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,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矿石冶炼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,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汽车尾气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,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工业废气等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2.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危害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     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危害人类健康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     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影响植物生长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     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破坏建筑材料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     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改变地球气候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1500"/>
                            </p:stCondLst>
                            <p:childTnLst>
                              <p:par>
                                <p:cTn id="16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2000"/>
                            </p:stCondLst>
                            <p:childTnLst>
                              <p:par>
                                <p:cTn id="17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restart="whenNotActive" nodeType="interactiveSeq" fill="hold">
                <p:stCondLst>
                  <p:cond evt="onClick">
                    <p:tgtEl>
                      <p:spTgt spid="172"/>
                    </p:tgtEl>
                  </p:cond>
                </p:stCondLst>
                <p:childTnLst>
                  <p:par>
                    <p:cTn id="177" fill="hold">
                      <p:stCondLst>
                        <p:cond evt="onClick">
                          <p:tgtEl>
                            <p:spTgt spid="172"/>
                          </p:tgtEl>
                        </p:cond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0" dur="1" fill="hold"/>
                                        <p:tgtEl>
                                          <p:spTgt spid="1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ahoma"/>
                <a:ea typeface="黑体"/>
              </a:rPr>
              <a:t>治理</a:t>
            </a:r>
            <a:r>
              <a:rPr b="0" lang="zh-CN" sz="4400" spc="-1" strike="noStrike">
                <a:solidFill>
                  <a:srgbClr val="ffffff"/>
                </a:solidFill>
                <a:latin typeface="Tahoma"/>
                <a:ea typeface="黑体"/>
              </a:rPr>
              <a:t>：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76360" y="1906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调整资源结构，开发新能源（太阳能、氢能、风能、地热等），减少使用煤、石油、天然气等化石燃料，减少工业废气排放，对废气进行回收净化再利用等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大力植树造林严禁乱砍滥伐。政府部门合理规划、制定标准、加强监测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1760040" y="512640"/>
            <a:ext cx="597924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空气质量日报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 通过新闻媒介向全社会发布空气质量周报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国务院环境保护委员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1997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年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月做出的决定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当时要求在全国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46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个环境保护重点城市发布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气质量周报。当年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月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23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日，南京市率先在当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新闻媒介上发布空气质量周报，紧接着，上海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武汉、沈阳……到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1998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年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6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月，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46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个城市全部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出了空气质量周报。这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46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个城市包括所有的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辖市、省会城市、经济特区城市以及一部分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点旅游城市。目前我国已有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个城市，即北京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厦门、南京、青岛、大连实现了日报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586880" y="512640"/>
            <a:ext cx="591624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空气质量日报（或周报）的主要内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包括“</a:t>
            </a:r>
            <a:r>
              <a:rPr b="1" lang="zh-CN" sz="3200" spc="-1" strike="noStrike">
                <a:solidFill>
                  <a:srgbClr val="00c600"/>
                </a:solidFill>
                <a:latin typeface="Times New Roman"/>
              </a:rPr>
              <a:t>空气污染指数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”、“</a:t>
            </a:r>
            <a:r>
              <a:rPr b="1" lang="zh-CN" sz="3200" spc="-1" strike="noStrike">
                <a:solidFill>
                  <a:srgbClr val="00c600"/>
                </a:solidFill>
                <a:latin typeface="Times New Roman"/>
              </a:rPr>
              <a:t>首要污染物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”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zh-CN" sz="3200" spc="-1" strike="noStrike">
                <a:solidFill>
                  <a:srgbClr val="00c600"/>
                </a:solidFill>
                <a:latin typeface="Times New Roman"/>
              </a:rPr>
              <a:t>空气质量级别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”、“</a:t>
            </a:r>
            <a:r>
              <a:rPr b="1" lang="zh-CN" sz="3200" spc="-1" strike="noStrike">
                <a:solidFill>
                  <a:srgbClr val="00c600"/>
                </a:solidFill>
                <a:latin typeface="Times New Roman"/>
              </a:rPr>
              <a:t>空气质量状况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”等。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    空气污染指数（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Air Pollution Index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简称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API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）就是将常规监测的几种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气污染物浓度简化成为单一的数值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式，并分级表示空气污染程度和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气质量状况。目前计入空气污染指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项目暂定为：二氧化硫、一氧化碳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二氧化氮、可吸入颗粒物和臭氧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不同地区的首要污染物有所不同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6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3214080" y="83556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80"/>
                </a:solidFill>
                <a:latin typeface="Times New Roman"/>
                <a:ea typeface="幼圆"/>
              </a:rPr>
              <a:t>空气质量分级标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826920" y="1557360"/>
          <a:ext cx="7490160" cy="4567320"/>
        </p:xfrm>
        <a:graphic>
          <a:graphicData uri="http://schemas.openxmlformats.org/drawingml/2006/table">
            <a:tbl>
              <a:tblPr/>
              <a:tblGrid>
                <a:gridCol w="2587680"/>
                <a:gridCol w="1805040"/>
                <a:gridCol w="3097440"/>
              </a:tblGrid>
              <a:tr h="94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80"/>
                          </a:solidFill>
                          <a:latin typeface="Times New Roman"/>
                          <a:ea typeface="幼圆"/>
                        </a:rPr>
                        <a:t>污染指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80"/>
                          </a:solidFill>
                          <a:latin typeface="Times New Roman"/>
                          <a:ea typeface="幼圆"/>
                        </a:rPr>
                        <a:t>质量级别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80"/>
                          </a:solidFill>
                          <a:latin typeface="Times New Roman"/>
                          <a:ea typeface="幼圆"/>
                        </a:rPr>
                        <a:t>质量状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80"/>
                          </a:solidFill>
                          <a:latin typeface="Times New Roman"/>
                          <a:ea typeface="幼圆"/>
                        </a:rPr>
                        <a:t>50</a:t>
                      </a:r>
                      <a:r>
                        <a:rPr b="0" lang="zh-CN" sz="1800" spc="-1" strike="noStrike">
                          <a:solidFill>
                            <a:srgbClr val="000080"/>
                          </a:solidFill>
                          <a:latin typeface="Times New Roman"/>
                          <a:ea typeface="幼圆"/>
                        </a:rPr>
                        <a:t>以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80"/>
                          </a:solidFill>
                          <a:latin typeface="Times New Roman"/>
                          <a:ea typeface="幼圆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80"/>
                          </a:solidFill>
                          <a:latin typeface="Times New Roman"/>
                          <a:ea typeface="幼圆"/>
                        </a:rPr>
                        <a:t>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80"/>
                          </a:solidFill>
                          <a:latin typeface="Times New Roman"/>
                          <a:ea typeface="幼圆"/>
                        </a:rPr>
                        <a:t>51</a:t>
                      </a:r>
                      <a:r>
                        <a:rPr b="0" lang="zh-CN" sz="1800" spc="-1" strike="noStrike">
                          <a:solidFill>
                            <a:srgbClr val="000080"/>
                          </a:solidFill>
                          <a:latin typeface="Times New Roman"/>
                          <a:ea typeface="幼圆"/>
                        </a:rPr>
                        <a:t>～</a:t>
                      </a:r>
                      <a:r>
                        <a:rPr b="0" lang="zh-CN" sz="1800" spc="-1" strike="noStrike">
                          <a:solidFill>
                            <a:srgbClr val="000080"/>
                          </a:solidFill>
                          <a:latin typeface="Times New Roman"/>
                          <a:ea typeface="幼圆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80"/>
                          </a:solidFill>
                          <a:latin typeface="Times New Roman"/>
                          <a:ea typeface="幼圆"/>
                        </a:rPr>
                        <a:t>I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80"/>
                          </a:solidFill>
                          <a:latin typeface="Times New Roman"/>
                          <a:ea typeface="幼圆"/>
                        </a:rPr>
                        <a:t>良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80"/>
                          </a:solidFill>
                          <a:latin typeface="Times New Roman"/>
                          <a:ea typeface="幼圆"/>
                        </a:rPr>
                        <a:t>101</a:t>
                      </a:r>
                      <a:r>
                        <a:rPr b="0" lang="zh-CN" sz="1800" spc="-1" strike="noStrike">
                          <a:solidFill>
                            <a:srgbClr val="000080"/>
                          </a:solidFill>
                          <a:latin typeface="Times New Roman"/>
                          <a:ea typeface="幼圆"/>
                        </a:rPr>
                        <a:t>～</a:t>
                      </a:r>
                      <a:r>
                        <a:rPr b="0" lang="zh-CN" sz="1800" spc="-1" strike="noStrike">
                          <a:solidFill>
                            <a:srgbClr val="000080"/>
                          </a:solidFill>
                          <a:latin typeface="Times New Roman"/>
                          <a:ea typeface="幼圆"/>
                        </a:rPr>
                        <a:t>1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80"/>
                          </a:solidFill>
                          <a:latin typeface="Times New Roman"/>
                          <a:ea typeface="幼圆"/>
                        </a:rPr>
                        <a:t>III</a:t>
                      </a:r>
                      <a:r>
                        <a:rPr b="0" lang="zh-CN" sz="1800" spc="-1" strike="noStrike">
                          <a:solidFill>
                            <a:srgbClr val="000080"/>
                          </a:solidFill>
                          <a:latin typeface="Times New Roman"/>
                          <a:ea typeface="幼圆"/>
                        </a:rPr>
                        <a:t>（</a:t>
                      </a:r>
                      <a:r>
                        <a:rPr b="0" lang="zh-CN" sz="1800" spc="-1" strike="noStrike">
                          <a:solidFill>
                            <a:srgbClr val="000080"/>
                          </a:solidFill>
                          <a:latin typeface="Times New Roman"/>
                          <a:ea typeface="幼圆"/>
                        </a:rPr>
                        <a:t>1</a:t>
                      </a:r>
                      <a:r>
                        <a:rPr b="0" lang="zh-CN" sz="1800" spc="-1" strike="noStrike">
                          <a:solidFill>
                            <a:srgbClr val="000080"/>
                          </a:solidFill>
                          <a:latin typeface="Times New Roman"/>
                          <a:ea typeface="幼圆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80"/>
                          </a:solidFill>
                          <a:latin typeface="Times New Roman"/>
                          <a:ea typeface="幼圆"/>
                        </a:rPr>
                        <a:t>轻微污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80"/>
                          </a:solidFill>
                          <a:latin typeface="Times New Roman"/>
                          <a:ea typeface="幼圆"/>
                        </a:rPr>
                        <a:t>151</a:t>
                      </a:r>
                      <a:r>
                        <a:rPr b="0" lang="zh-CN" sz="1800" spc="-1" strike="noStrike">
                          <a:solidFill>
                            <a:srgbClr val="000080"/>
                          </a:solidFill>
                          <a:latin typeface="Times New Roman"/>
                          <a:ea typeface="幼圆"/>
                        </a:rPr>
                        <a:t>～</a:t>
                      </a:r>
                      <a:r>
                        <a:rPr b="0" lang="zh-CN" sz="1800" spc="-1" strike="noStrike">
                          <a:solidFill>
                            <a:srgbClr val="000080"/>
                          </a:solidFill>
                          <a:latin typeface="Times New Roman"/>
                          <a:ea typeface="幼圆"/>
                        </a:rPr>
                        <a:t>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80"/>
                          </a:solidFill>
                          <a:latin typeface="Times New Roman"/>
                          <a:ea typeface="幼圆"/>
                        </a:rPr>
                        <a:t>III</a:t>
                      </a:r>
                      <a:r>
                        <a:rPr b="0" lang="zh-CN" sz="1800" spc="-1" strike="noStrike">
                          <a:solidFill>
                            <a:srgbClr val="000080"/>
                          </a:solidFill>
                          <a:latin typeface="Times New Roman"/>
                          <a:ea typeface="幼圆"/>
                        </a:rPr>
                        <a:t>（</a:t>
                      </a:r>
                      <a:r>
                        <a:rPr b="0" lang="zh-CN" sz="1800" spc="-1" strike="noStrike">
                          <a:solidFill>
                            <a:srgbClr val="000080"/>
                          </a:solidFill>
                          <a:latin typeface="Times New Roman"/>
                          <a:ea typeface="幼圆"/>
                        </a:rPr>
                        <a:t>2</a:t>
                      </a:r>
                      <a:r>
                        <a:rPr b="0" lang="zh-CN" sz="1800" spc="-1" strike="noStrike">
                          <a:solidFill>
                            <a:srgbClr val="000080"/>
                          </a:solidFill>
                          <a:latin typeface="Times New Roman"/>
                          <a:ea typeface="幼圆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80"/>
                          </a:solidFill>
                          <a:latin typeface="Times New Roman"/>
                          <a:ea typeface="幼圆"/>
                        </a:rPr>
                        <a:t>轻度污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80"/>
                          </a:solidFill>
                          <a:latin typeface="Times New Roman"/>
                          <a:ea typeface="幼圆"/>
                        </a:rPr>
                        <a:t>201</a:t>
                      </a:r>
                      <a:r>
                        <a:rPr b="0" lang="zh-CN" sz="1800" spc="-1" strike="noStrike">
                          <a:solidFill>
                            <a:srgbClr val="000080"/>
                          </a:solidFill>
                          <a:latin typeface="Times New Roman"/>
                          <a:ea typeface="幼圆"/>
                        </a:rPr>
                        <a:t>～</a:t>
                      </a:r>
                      <a:r>
                        <a:rPr b="0" lang="zh-CN" sz="1800" spc="-1" strike="noStrike">
                          <a:solidFill>
                            <a:srgbClr val="000080"/>
                          </a:solidFill>
                          <a:latin typeface="Times New Roman"/>
                          <a:ea typeface="幼圆"/>
                        </a:rPr>
                        <a:t>2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80"/>
                          </a:solidFill>
                          <a:latin typeface="Times New Roman"/>
                          <a:ea typeface="幼圆"/>
                        </a:rPr>
                        <a:t>IV</a:t>
                      </a:r>
                      <a:r>
                        <a:rPr b="0" lang="zh-CN" sz="1800" spc="-1" strike="noStrike">
                          <a:solidFill>
                            <a:srgbClr val="000080"/>
                          </a:solidFill>
                          <a:latin typeface="Times New Roman"/>
                          <a:ea typeface="幼圆"/>
                        </a:rPr>
                        <a:t>（</a:t>
                      </a:r>
                      <a:r>
                        <a:rPr b="0" lang="zh-CN" sz="1800" spc="-1" strike="noStrike">
                          <a:solidFill>
                            <a:srgbClr val="000080"/>
                          </a:solidFill>
                          <a:latin typeface="Times New Roman"/>
                          <a:ea typeface="幼圆"/>
                        </a:rPr>
                        <a:t>1</a:t>
                      </a:r>
                      <a:r>
                        <a:rPr b="0" lang="zh-CN" sz="1800" spc="-1" strike="noStrike">
                          <a:solidFill>
                            <a:srgbClr val="000080"/>
                          </a:solidFill>
                          <a:latin typeface="Times New Roman"/>
                          <a:ea typeface="幼圆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80"/>
                          </a:solidFill>
                          <a:latin typeface="Times New Roman"/>
                          <a:ea typeface="幼圆"/>
                        </a:rPr>
                        <a:t>中度污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80"/>
                          </a:solidFill>
                          <a:latin typeface="Times New Roman"/>
                          <a:ea typeface="幼圆"/>
                        </a:rPr>
                        <a:t>251</a:t>
                      </a:r>
                      <a:r>
                        <a:rPr b="0" lang="zh-CN" sz="1800" spc="-1" strike="noStrike">
                          <a:solidFill>
                            <a:srgbClr val="000080"/>
                          </a:solidFill>
                          <a:latin typeface="Times New Roman"/>
                          <a:ea typeface="幼圆"/>
                        </a:rPr>
                        <a:t>～</a:t>
                      </a:r>
                      <a:r>
                        <a:rPr b="0" lang="zh-CN" sz="1800" spc="-1" strike="noStrike">
                          <a:solidFill>
                            <a:srgbClr val="000080"/>
                          </a:solidFill>
                          <a:latin typeface="Times New Roman"/>
                          <a:ea typeface="幼圆"/>
                        </a:rPr>
                        <a:t>3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80"/>
                          </a:solidFill>
                          <a:latin typeface="Times New Roman"/>
                          <a:ea typeface="幼圆"/>
                        </a:rPr>
                        <a:t>IV</a:t>
                      </a:r>
                      <a:r>
                        <a:rPr b="0" lang="zh-CN" sz="1800" spc="-1" strike="noStrike">
                          <a:solidFill>
                            <a:srgbClr val="000080"/>
                          </a:solidFill>
                          <a:latin typeface="Times New Roman"/>
                          <a:ea typeface="幼圆"/>
                        </a:rPr>
                        <a:t>（</a:t>
                      </a:r>
                      <a:r>
                        <a:rPr b="0" lang="zh-CN" sz="1800" spc="-1" strike="noStrike">
                          <a:solidFill>
                            <a:srgbClr val="000080"/>
                          </a:solidFill>
                          <a:latin typeface="Times New Roman"/>
                          <a:ea typeface="幼圆"/>
                        </a:rPr>
                        <a:t>2</a:t>
                      </a:r>
                      <a:r>
                        <a:rPr b="0" lang="zh-CN" sz="1800" spc="-1" strike="noStrike">
                          <a:solidFill>
                            <a:srgbClr val="000080"/>
                          </a:solidFill>
                          <a:latin typeface="Times New Roman"/>
                          <a:ea typeface="幼圆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80"/>
                          </a:solidFill>
                          <a:latin typeface="Times New Roman"/>
                          <a:ea typeface="幼圆"/>
                        </a:rPr>
                        <a:t>中度重污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80"/>
                          </a:solidFill>
                          <a:latin typeface="Times New Roman"/>
                          <a:ea typeface="幼圆"/>
                        </a:rPr>
                        <a:t>300</a:t>
                      </a:r>
                      <a:r>
                        <a:rPr b="0" lang="zh-CN" sz="1800" spc="-1" strike="noStrike">
                          <a:solidFill>
                            <a:srgbClr val="000080"/>
                          </a:solidFill>
                          <a:latin typeface="Times New Roman"/>
                          <a:ea typeface="幼圆"/>
                        </a:rPr>
                        <a:t>以上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80"/>
                          </a:solidFill>
                          <a:latin typeface="Times New Roman"/>
                          <a:ea typeface="幼圆"/>
                        </a:rPr>
                        <a:t>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80"/>
                          </a:solidFill>
                          <a:latin typeface="Times New Roman"/>
                          <a:ea typeface="幼圆"/>
                        </a:rPr>
                        <a:t>重度污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3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-36360" y="0"/>
            <a:ext cx="9361440" cy="7183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2353320" y="1340280"/>
            <a:ext cx="44312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空气质量日报、预报是通过新闻媒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向社会发布的环境信息，可以及时准确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地反映空气质量状况，增强人们对环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关注，促进群众对环境保护工作的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解和支持，提高全民的环境意识，促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人们生活质量的提高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ahoma"/>
              </a:rPr>
              <a:t>二</a:t>
            </a:r>
            <a:r>
              <a:rPr b="0" lang="zh-CN" sz="44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zh-CN" sz="4400" spc="-1" strike="noStrike">
                <a:solidFill>
                  <a:srgbClr val="ffffff"/>
                </a:solidFill>
                <a:latin typeface="Tahoma"/>
              </a:rPr>
              <a:t>水污染的来源 危害 治理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61520" y="2007720"/>
            <a:ext cx="53341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1.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来源：石油炼制、工业废水、生活废水、使用过农药、化肥的农田排水、降水淋洗大气污染物和地面淋洗固体垃圾等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2.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危害：污染水源，改变水质，加剧水源危害。造成水体富营养化，破坏海滨风景区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5580000" y="1886040"/>
            <a:ext cx="3313080" cy="21906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5540400" y="4132440"/>
            <a:ext cx="3352680" cy="217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0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afterEffect" fill="hold" presetClass="entr" presetID="7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1500"/>
                            </p:stCondLst>
                            <p:childTnLst>
                              <p:par>
                                <p:cTn id="230" nodeType="afterEffect" fill="hold" presetClass="entr" presetID="7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8" dur="1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3" dur="10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4" dur="indefinite" restart="never" nodeType="tmRoot">
          <p:childTnLst>
            <p:seq>
              <p:cTn id="245" restart="whenNotActive" nodeType="interactiveSeq" fill="hold">
                <p:stCondLst>
                  <p:cond evt="onClick">
                    <p:tgtEl>
                      <p:spTgt spid="185"/>
                    </p:tgtEl>
                  </p:cond>
                </p:stCondLst>
                <p:childTnLst>
                  <p:par>
                    <p:cTn id="246" fill="hold">
                      <p:stCondLst>
                        <p:cond evt="onClick">
                          <p:tgtEl>
                            <p:spTgt spid="185"/>
                          </p:tgtEl>
                        </p:cond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9" dur="1" fill="hold"/>
                                        <p:tgtEl>
                                          <p:spTgt spid="1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-36360" y="0"/>
            <a:ext cx="9289800" cy="6885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0" dur="indefinite" restart="never" nodeType="tmRoot">
          <p:childTnLst>
            <p:seq>
              <p:cTn id="251" restart="whenNotActive" nodeType="interactiveSeq" fill="hold">
                <p:stCondLst>
                  <p:cond evt="onClick">
                    <p:tgtEl>
                      <p:spTgt spid="187"/>
                    </p:tgtEl>
                  </p:cond>
                </p:stCondLst>
                <p:childTnLst>
                  <p:par>
                    <p:cTn id="252" fill="hold">
                      <p:stCondLst>
                        <p:cond evt="onClick">
                          <p:tgtEl>
                            <p:spTgt spid="187"/>
                          </p:tgtEl>
                        </p:cond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55" dur="1" fill="hold"/>
                                        <p:tgtEl>
                                          <p:spTgt spid="1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ahoma"/>
                <a:ea typeface="黑体"/>
              </a:rPr>
              <a:t>治理</a:t>
            </a:r>
            <a:r>
              <a:rPr b="0" lang="zh-CN" sz="4400" spc="-1" strike="noStrike">
                <a:solidFill>
                  <a:srgbClr val="ffffff"/>
                </a:solidFill>
                <a:latin typeface="Tahoma"/>
                <a:ea typeface="黑体"/>
              </a:rPr>
              <a:t>：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控制污水任意排放，对污水进行净化处理，改善用水制度，研究无污染新工业，合理、科学地施用化肥、农药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88200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99ff"/>
                </a:solidFill>
                <a:latin typeface="Tahoma"/>
              </a:rPr>
              <a:t>三</a:t>
            </a:r>
            <a:r>
              <a:rPr b="0" lang="zh-CN" sz="4400" spc="-1" strike="noStrike">
                <a:solidFill>
                  <a:srgbClr val="6699ff"/>
                </a:solidFill>
                <a:latin typeface="Tahoma"/>
              </a:rPr>
              <a:t>.</a:t>
            </a:r>
            <a:r>
              <a:rPr b="0" lang="zh-CN" sz="4400" spc="-1" strike="noStrike">
                <a:solidFill>
                  <a:srgbClr val="6699ff"/>
                </a:solidFill>
                <a:latin typeface="Tahoma"/>
              </a:rPr>
              <a:t>居室污染的来源危害及防治措施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1.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来源：煤、石油、液化气、天然气等的燃烧，煎、炒、烘、烤等高温烹调加工中产生的烟雾，烟草的燃烧，电器发出的电磁波，地毯中的螨虫，建筑装潢材料产生的甲醛、放射性稀有气体氡，化妆品，日用化学品，家宠等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2.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危害：引起人体呼吸道、消化道等疾病，导致各种癌症、皮肤病、传染病，影响婴幼儿智力和发育等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ahoma"/>
                <a:ea typeface="黑体"/>
              </a:rPr>
              <a:t>地球人的行动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5840" y="1773000"/>
            <a:ext cx="7958160" cy="40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防治措施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: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保持室内清洁通风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对电器辐射采取防护措施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并保持距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厨房要有通风换气设施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宠物要经常洗浴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养成良好的排便习惯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并注意及时清除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女性朋友要慎用化妆品和日常化学用品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建议男士少抽烟或不抽烟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ahoma"/>
              </a:rPr>
              <a:t>四、土壤污染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c00"/>
                </a:solidFill>
                <a:latin typeface="Tahoma"/>
              </a:rPr>
              <a:t>土壤污染的含义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由于土壤中的微生物、土壤中的化学反应，以及生长在土壤中的植物能分解某些污染物，因此，土壤对污染物具有净化能力。土壤中污染物的积累和净化是同时进行的。如果进入土壤的污染物的数量超过了土壤的净化能力，就会引起土壤质量下降，这种现象叫做土壤污染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76" dur="10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81" dur="1000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ahoma"/>
              </a:rPr>
              <a:t>土壤污染的来源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①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城市污水、工业废水的污染及危害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（汞、铅、镉、砷、酚、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CN</a:t>
            </a:r>
            <a:r>
              <a:rPr b="0" lang="zh-CN" sz="2400" spc="-1" strike="noStrike" baseline="30000">
                <a:solidFill>
                  <a:srgbClr val="ffffff"/>
                </a:solidFill>
                <a:latin typeface="Tahoma"/>
              </a:rPr>
              <a:t>-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等）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②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垃圾及工矿企业固体废弃物的污染及其危害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固体废弃物以日晒雨淋，它们的渗出液中所含有毒物质渗入土壤后，会改变土壤结构，影响其中微生物的活动。（蚊、蝇     传染病）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③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化肥、农药的污染及危害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（磷矿石中有铅、镉等造成土壤污染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28600" y="166320"/>
            <a:ext cx="769608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c00"/>
                </a:solidFill>
                <a:latin typeface="黑体"/>
                <a:ea typeface="黑体"/>
              </a:rPr>
              <a:t>保护我们的家园</a:t>
            </a:r>
            <a:r>
              <a:rPr b="0" lang="zh-CN" sz="4800" spc="-1" strike="noStrike">
                <a:solidFill>
                  <a:srgbClr val="ffcc00"/>
                </a:solidFill>
                <a:latin typeface="黑体"/>
                <a:ea typeface="黑体"/>
              </a:rPr>
              <a:t>!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52640" y="1557360"/>
            <a:ext cx="769608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方正大黑简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方正大黑简体"/>
                <a:ea typeface="方正大黑简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方正大黑简体"/>
                <a:ea typeface="方正大黑简体"/>
              </a:rPr>
              <a:t>保护人类的生存环境，实施“可持续发展战略”已经成为国际社会“和平与发展”永恒主题的主要内容之一！人类对大自然的破坏，已经开始自食其果，红色的警报正在拉响</a:t>
            </a:r>
            <a:r>
              <a:rPr b="1" lang="zh-CN" sz="3200" spc="-1" strike="noStrike">
                <a:solidFill>
                  <a:srgbClr val="ffffff"/>
                </a:solidFill>
                <a:latin typeface="方正大黑简体"/>
                <a:ea typeface="方正大黑简体"/>
              </a:rPr>
              <a:t>...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方正大黑简体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ahoma"/>
              </a:rPr>
              <a:t>地球母亲需要我们的帮助</a:t>
            </a:r>
            <a:r>
              <a:rPr b="1" lang="zh-CN" sz="3200" spc="-1" strike="noStrike">
                <a:solidFill>
                  <a:srgbClr val="cc0000"/>
                </a:solidFill>
                <a:latin typeface="Tahoma"/>
              </a:rPr>
              <a:t>!</a:t>
            </a:r>
            <a:r>
              <a:rPr b="1" i="1" lang="zh-CN" sz="3200" spc="-1" strike="noStrike">
                <a:solidFill>
                  <a:srgbClr val="cc0000"/>
                </a:solidFill>
                <a:latin typeface="Tahoma"/>
              </a:rPr>
              <a:t> </a:t>
            </a:r>
            <a:br>
              <a:rPr sz="3200"/>
            </a:br>
            <a:r>
              <a:rPr b="1" i="1" lang="zh-CN" sz="3200" spc="-1" strike="noStrike">
                <a:solidFill>
                  <a:srgbClr val="cc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26" dur="20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31" dur="2000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0" y="-27000"/>
            <a:ext cx="9144000" cy="6885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50920" y="407628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ahoma"/>
              </a:rPr>
              <a:t>同学们</a:t>
            </a:r>
            <a:r>
              <a:rPr b="0" lang="zh-CN" sz="40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zh-CN" sz="4000" spc="-1" strike="noStrike">
                <a:solidFill>
                  <a:srgbClr val="ffffff"/>
                </a:solidFill>
                <a:latin typeface="Tahoma"/>
              </a:rPr>
              <a:t>保护我们的环境从身边做起</a:t>
            </a:r>
            <a:r>
              <a:rPr b="0" lang="zh-CN" sz="4000" spc="-1" strike="noStrike">
                <a:solidFill>
                  <a:srgbClr val="ffffff"/>
                </a:solidFill>
                <a:latin typeface="Tahoma"/>
              </a:rPr>
              <a:t>!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联合国决议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每年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月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日——“世界环境日”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2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95952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304920" y="304920"/>
            <a:ext cx="8534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    </a:t>
            </a:r>
            <a:r>
              <a:rPr b="0" lang="zh-CN" sz="3200" spc="-1" strike="noStrike">
                <a:solidFill>
                  <a:srgbClr val="66ff33"/>
                </a:solidFill>
                <a:latin typeface="黑体"/>
                <a:ea typeface="黑体"/>
              </a:rPr>
              <a:t>这是一幅幅多么撩人的自然美景，然而，如今的地球正在遭受着前所未有的灾难：大气污染加剧、水污染严重，固体废弃物与日俱增、臭氧空洞、酸雨、赤潮、温室效应、水土流失、土地沙漠化等。生存环境的日益恶化，严重威胁着人类的健康和生命，于是，全人类大声疾呼：“</a:t>
            </a:r>
            <a:r>
              <a:rPr b="0" lang="zh-CN" sz="3200" spc="-1" strike="noStrike">
                <a:solidFill>
                  <a:srgbClr val="66ff33"/>
                </a:solidFill>
                <a:latin typeface="黑体"/>
                <a:ea typeface="黑体"/>
              </a:rPr>
              <a:t>Save  Our  Soul”</a:t>
            </a:r>
            <a:r>
              <a:rPr b="0" lang="zh-CN" sz="3200" spc="-1" strike="noStrike">
                <a:solidFill>
                  <a:srgbClr val="66ff33"/>
                </a:solidFill>
                <a:latin typeface="黑体"/>
                <a:ea typeface="黑体"/>
              </a:rPr>
              <a:t>，保护地球，保护环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059280" y="981000"/>
            <a:ext cx="172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必答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900000" y="1916280"/>
            <a:ext cx="727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世界环境日”为每年的（ ）。</a:t>
            </a:r>
            <a:br>
              <a:rPr sz="2400"/>
            </a:b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月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22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日  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6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月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日 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月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12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因空气污染引起的酸性降水被称为（ ）。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、酸水  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B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、酸雨 　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、酸雾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造成温室效应的最主要的气体为（ ）。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、二氧化碳  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B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、 甲烷 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、一氧化氮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4T10:28:13Z</dcterms:created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3T11:43:50Z</dcterms:modified>
  <cp:revision>1</cp:revision>
  <dc:subject>主题班会课件(分28大类): http://shop62905894.taobao.com</dc:subject>
  <dc:title>主题班会课件(分28大类): http://shop62905894.taobao.com</dc:title>
</cp:coreProperties>
</file>