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B72-7BF4-42FC-923E-3E20F1F7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0A9-886A-4E3F-88EA-D48E931D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08C-2704-4690-B9D2-D3F7025D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74A-653E-4083-B597-420D0F3E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592-B128-4951-8295-39A0EFE6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144-47ED-4C1F-8EF8-80E085DE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657-8F48-478F-8474-D651D130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07D-9C53-4AAE-8528-84181220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2D4-5CBD-459D-88A6-C94EBC9C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78A-6192-4854-95D2-737B7576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947-71A8-49A8-AEEA-AFC29C67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A5E-2833-43C1-87A0-DD8C465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734-8926-4B60-998E-27264B2579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426708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66ff"/>
                  </a:solidFill>
                  <a:prstDash val="sysDot"/>
                  <a:miter/>
                </a:ln>
                <a:solidFill>
                  <a:srgbClr val="ff5050">
                    <a:alpha val="56000"/>
                  </a:srgbClr>
                </a:solidFill>
                <a:latin typeface="方正姚体"/>
              </a:rPr>
              <a:t>----</a:t>
            </a:r>
            <a:r>
              <a:rPr b="1" lang="zh-CN" sz="1800" spc="1" strike="noStrike">
                <a:ln w="19080">
                  <a:solidFill>
                    <a:srgbClr val="9966ff"/>
                  </a:solidFill>
                  <a:prstDash val="sysDot"/>
                  <a:miter/>
                </a:ln>
                <a:solidFill>
                  <a:srgbClr val="ff5050">
                    <a:alpha val="56000"/>
                  </a:srgbClr>
                </a:solidFill>
                <a:latin typeface="方正姚体"/>
              </a:rPr>
              <a:t>你离“环保”到底有多远？</a:t>
            </a:r>
            <a:endParaRPr b="1" lang="en-US" sz="1800" spc="1" strike="noStrike">
              <a:ln w="19080">
                <a:solidFill>
                  <a:srgbClr val="9966ff"/>
                </a:solidFill>
                <a:prstDash val="sysDot"/>
                <a:miter/>
              </a:ln>
              <a:solidFill>
                <a:srgbClr val="ff5050">
                  <a:alpha val="56000"/>
                </a:srgbClr>
              </a:solidFill>
              <a:latin typeface="方正姚体"/>
              <a:ea typeface="方正姚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20574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方正姚体"/>
              </a:rPr>
              <a:t>高二（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方正姚体"/>
              </a:rPr>
              <a:t>9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方正姚体"/>
              </a:rPr>
              <a:t>）班主题班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方正姚体"/>
              <a:ea typeface="方正姚体"/>
            </a:endParaRPr>
          </a:p>
        </p:txBody>
      </p:sp>
      <p:sp>
        <p:nvSpPr>
          <p:cNvPr id="44" name=""/>
          <p:cNvSpPr/>
          <p:nvPr/>
        </p:nvSpPr>
        <p:spPr>
          <a:xfrm>
            <a:off x="2101680" y="6078600"/>
            <a:ext cx="70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绿色学校的主要标志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学生切实掌握各种教材中有关环保内容；师生环境意识较强；积极参与面向社会的环境监督和宣传教育活动；校园整洁优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5334120"/>
            <a:ext cx="11052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897200"/>
            <a:ext cx="762012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如何进行绿色消费，环保购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认“环保标志”，选购绿色产品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用无氟制品，保护臭氧层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选用无磷洗衣粉，保护江河湖泊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买环保电池，防止汞镉污染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E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选绿色包装，减少垃圾灾难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F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认绿色食品标志，保障自身健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657960"/>
            <a:ext cx="8001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下列行为属于“重复使用，多次利用”环保要求的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自备购物袋，少用塑料袋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自备餐盒，减少白色污染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少用一次性筷子，别让森林变木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584720"/>
            <a:ext cx="6715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6.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我国有着丰富的野生动植物资源。我国的哪一类植物资源占据全世界首位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哪一类动物的种类是世界上最多的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　　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A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裸子植物；鸟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被子植物  鱼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藻类植物  虫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168000"/>
            <a:ext cx="831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废旧电池中含有哪些有毒重金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汞   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铅   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镉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35280"/>
            <a:ext cx="716292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我国最早建立的自然保护区是哪一年建立的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叫什么名字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．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1956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年  鼎湖山自然保护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B. 1957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年    卧龙自然保护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C  1956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年    惠州自然保护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D 1957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年     湛江红树林自然保护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53240"/>
            <a:ext cx="7921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哪一种植物被誉为“植物中的熊猫”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　　　　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银杉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金钱松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珙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33920"/>
            <a:ext cx="72388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下列哪些行为属于维护环境清洁的好行为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不乱涂乱画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乱扔垃圾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在公共场所高声喧哗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分类回收　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E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随地吐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9907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好，经过这样的议论抢答，想必不多不少会令你有点收获吧？！下面，问你一个问题 ， 你知道什么是垃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1814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Arial"/>
                <a:ea typeface="黑体"/>
              </a:rPr>
              <a:t>好，那么你又知道垃圾如如何进行分类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321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从工业生态学的视角看，垃圾是放错了位置的资源，是终将有一天 可以使用的原料矿藏。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50116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33"/>
                </a:solidFill>
                <a:latin typeface="Arial"/>
                <a:ea typeface="黑体"/>
              </a:rPr>
              <a:t>其实，垃圾分为</a:t>
            </a:r>
            <a:r>
              <a:rPr b="1" lang="zh-CN" sz="3400" spc="-1" strike="noStrike">
                <a:solidFill>
                  <a:srgbClr val="990033"/>
                </a:solidFill>
                <a:latin typeface="Arial"/>
                <a:ea typeface="黑体"/>
              </a:rPr>
              <a:t>4</a:t>
            </a:r>
            <a:r>
              <a:rPr b="1" lang="zh-CN" sz="3400" spc="-1" strike="noStrike">
                <a:solidFill>
                  <a:srgbClr val="990033"/>
                </a:solidFill>
                <a:latin typeface="Arial"/>
                <a:ea typeface="黑体"/>
              </a:rPr>
              <a:t>种：可回收垃圾、厨余垃圾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33"/>
                </a:solidFill>
                <a:latin typeface="Arial"/>
                <a:ea typeface="黑体"/>
              </a:rPr>
              <a:t>                                   </a:t>
            </a:r>
            <a:r>
              <a:rPr b="1" lang="zh-CN" sz="3400" spc="-1" strike="noStrike">
                <a:solidFill>
                  <a:srgbClr val="990033"/>
                </a:solidFill>
                <a:latin typeface="Arial"/>
                <a:ea typeface="黑体"/>
              </a:rPr>
              <a:t>有害垃圾、其他垃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055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由于各个时期，各个地区的垃圾结构成份、产生量、处理利用方式是不尽相同的，因而，在垃圾分类的方法上也不尽相同。从国内外各城市对生活垃圾分类的方法来看，大致都是根据垃圾的成分构成、产生量，结合本地垃圾的资源利用和处理方式来进行分类。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德国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，一般分为纸、玻璃、金属、塑料等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澳大利亚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，一般分为可堆肥垃圾，可回收垃圾，不可回收垃圾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日本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，一般分为可燃垃圾，不可燃垃圾，等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3225960"/>
            <a:ext cx="49532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回收的垃圾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主要包括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  <a:ea typeface="黑体"/>
              </a:rPr>
              <a:t>废纸、塑料、玻璃、金属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  <a:ea typeface="黑体"/>
              </a:rPr>
              <a:t>布料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五大类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废纸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报纸、期刊、图书、各种包装纸、办公用纸、广告纸、纸盒等等，但是要注意纸巾和厕所纸由于水溶性太强不可回收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塑料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各种塑料袋、塑料包装物、一次性塑料餐盒和餐具、牙刷、杯子、矿泉水瓶等。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玻璃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各种玻璃瓶、碎玻璃片、镜子、灯泡、暖瓶等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金属物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易拉罐、罐头盒、牙膏皮等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布料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废弃衣服、桌布、洗脸巾、书包、鞋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你认为，环保到底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2514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面先看两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flas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867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大家有什么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67080" y="3191040"/>
            <a:ext cx="4334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彩云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彩云"/>
              <a:ea typeface="华文彩云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4120" y="3200400"/>
            <a:ext cx="533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彩云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彩云"/>
              <a:ea typeface="华文彩云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840680"/>
            <a:ext cx="71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厨余垃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包括剩菜剩饭、骨头、菜根菜叶等食品类        废物，经生物技术就地处理堆肥，每吨可生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吨有机肥料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有害垃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包括废电池、废日光灯管、废水银温度计、过期药品等，这些垃圾需要特殊安全处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267080"/>
            <a:ext cx="731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6600"/>
                </a:solidFill>
                <a:latin typeface="Arial"/>
                <a:ea typeface="黑体"/>
              </a:rPr>
              <a:t>那么现在，根据以上的内容，大家 一起玩一个关于垃圾分类的游戏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4479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黑体"/>
              </a:rPr>
              <a:t>好，下面先进行抢答比赛！目的在于让你自己知道你的环保意识有多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133720"/>
            <a:ext cx="655344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规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当完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后，最快站起来的那位同学可以进行回答。</a:t>
            </a:r>
            <a:r>
              <a:rPr b="1" lang="zh-CN" sz="3500" spc="-1" strike="noStrike">
                <a:solidFill>
                  <a:srgbClr val="ff5050"/>
                </a:solidFill>
                <a:latin typeface="Arial"/>
                <a:ea typeface="黑体"/>
              </a:rPr>
              <a:t>女生们，别矜持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答对有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题目是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黑体"/>
              </a:rPr>
              <a:t>不定项选择题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75248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为保护蓝天，我们在出门时，应该尽量选择乘坐＿＿＿＿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Ａ．公共交通工具；Ｂ．私人汽车；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Ｃ．出租车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0600" y="1065240"/>
            <a:ext cx="45954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世界卫生日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世界戒烟日是几月几号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A 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2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B 3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2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C  4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D 4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2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E 5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F 6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17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19320"/>
            <a:ext cx="62485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下列哪些项目可以分类回收，循环再生。（         　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废塑料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剩饭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废纸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生物垃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E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各种废弃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2980080"/>
            <a:ext cx="705024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如何进行绿色消费，环保购物。                     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A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认“环保标志”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B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用无磷洗衣粉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  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C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买无公害食品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    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D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用无氟制品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2141640"/>
            <a:ext cx="54864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有见过教师在教室或办公室、阅览室等公共场所吸烟吗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（      　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有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没有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经常这样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偶尔见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102040"/>
            <a:ext cx="73152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下列哪些行为属于维护环境清洁的好行为。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不乱涂乱画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乱扔垃圾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在公共场所高声喧哗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分类回收　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E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随地吐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2:33Z</dcterms:modified>
  <cp:revision>34</cp:revision>
  <dc:subject>主题班会课件(分28大类): http://shop62905894.taobao.com</dc:subject>
  <dc:title>主题班会课件(分28大类): http://shop62905894.taobao.com</dc:title>
</cp:coreProperties>
</file>