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4.png" ContentType="image/png"/>
  <Override PartName="/ppt/media/image8.jpeg" ContentType="image/jpeg"/>
  <Override PartName="/ppt/media/image31.wmf" ContentType="image/x-wmf"/>
  <Override PartName="/ppt/media/image28.png" ContentType="image/png"/>
  <Override PartName="/ppt/media/image5.jpeg" ContentType="image/jpeg"/>
  <Override PartName="/ppt/media/image6.png" ContentType="image/png"/>
  <Override PartName="/ppt/media/image27.gif" ContentType="image/gif"/>
  <Override PartName="/ppt/media/image7.png" ContentType="image/png"/>
  <Override PartName="/ppt/media/image16.jpeg" ContentType="image/jpeg"/>
  <Override PartName="/ppt/media/image13.gif" ContentType="image/gif"/>
  <Override PartName="/ppt/media/image11.png" ContentType="image/png"/>
  <Override PartName="/ppt/media/image9.jpeg" ContentType="image/jpeg"/>
  <Override PartName="/ppt/media/image30.jpeg" ContentType="image/jpeg"/>
  <Override PartName="/ppt/media/image3.wmf" ContentType="image/x-wmf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26.png" ContentType="image/png"/>
  <Override PartName="/ppt/media/image18.gif" ContentType="image/gif"/>
  <Override PartName="/ppt/media/image14.jpeg" ContentType="image/jpeg"/>
  <Override PartName="/ppt/media/image19.gif" ContentType="image/gif"/>
  <Override PartName="/ppt/media/image2.jpeg" ContentType="image/jpeg"/>
  <Override PartName="/ppt/media/image20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B68-E506-4B27-8C9D-1FE26AE5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E39-28BF-4E1C-BACC-F885910A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1CE-A3F3-4443-9AA5-BA157208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AE0-1F79-4ED9-9C44-9EC28C1F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F211-FCC2-40D9-92AB-64805F80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5E0F-63D5-47B6-ACE5-AD444B68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281C-68C1-4AF2-9351-7BE20C23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A2FC-E145-4A2E-8D6D-DAD22302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702E-626A-433D-8223-1643D14A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8630-B1DF-4A30-ACAD-04C24316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33B5-B221-459E-A2BB-377E4F09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36C-F6C0-4247-B151-7DC8563E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24DA-9576-48B6-BA74-BD297F55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8C1C-9C38-498E-AF1B-70639508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5A68-9837-4D4D-A496-B2E7ACA3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7C06-288F-44FF-BE9A-8DD75229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E5F9-1508-44AC-8FF9-596807A1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139-F510-4AE9-98FD-1E09E472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73B-A708-4F1F-B893-65342875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7B4-499F-4A00-B74D-9EE0765E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B84-ED74-4F55-BAD1-79233CA7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36F-1BD6-4124-A926-B28C2861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CBA-938D-47F1-A6DA-C57031BD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0B7-639D-4F88-BCFE-87F7DACF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142E-5D0A-43C4-BB02-73FE98BBA7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C471-1498-4951-9D20-7C7E29B4741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jpeg"/><Relationship Id="rId3" Type="http://schemas.openxmlformats.org/officeDocument/2006/relationships/slide" Target="slide20.xm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0.xml"/><Relationship Id="rId3" Type="http://schemas.openxmlformats.org/officeDocument/2006/relationships/image" Target="../media/image1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2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slide" Target="slide20.xml"/><Relationship Id="rId5" Type="http://schemas.openxmlformats.org/officeDocument/2006/relationships/image" Target="../media/image16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13.gif"/><Relationship Id="rId4" Type="http://schemas.openxmlformats.org/officeDocument/2006/relationships/image" Target="../media/image29.gif"/><Relationship Id="rId5" Type="http://schemas.openxmlformats.org/officeDocument/2006/relationships/slide" Target="slide20.xml"/><Relationship Id="rId6" Type="http://schemas.openxmlformats.org/officeDocument/2006/relationships/image" Target="../media/image16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13.gif"/><Relationship Id="rId4" Type="http://schemas.openxmlformats.org/officeDocument/2006/relationships/image" Target="../media/image29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1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0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693440" cy="8542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92360" y="1197000"/>
            <a:ext cx="64767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依法参与环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自觉维护环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021360"/>
            <a:ext cx="2262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52480" y="4876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95480" cy="2514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40000" y="1628640"/>
            <a:ext cx="511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、从小品中你发现了哪些不良风气？              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、这些不良风气会对我们班级体带来怎样的影响？             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、我们应该怎么做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9184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3860640"/>
            <a:ext cx="2695320" cy="274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08000" y="1411200"/>
            <a:ext cx="547380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99"/>
                </a:solidFill>
                <a:latin typeface="Times New Roman"/>
                <a:ea typeface="黑体"/>
              </a:rPr>
              <a:t>小品</a:t>
            </a: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黑体"/>
              </a:rPr>
              <a:t>香蕉皮的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1052640"/>
            <a:ext cx="7010640" cy="3733560"/>
          </a:xfrm>
          <a:prstGeom prst="cloudCallout">
            <a:avLst>
              <a:gd name="adj1" fmla="val -37930"/>
              <a:gd name="adj2" fmla="val 49148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8920" y="1125360"/>
            <a:ext cx="5257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思考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、这种行为对不对，错在哪里，并说出原因和理由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、当自己处于这种角色时，该如何做？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113360"/>
            <a:ext cx="2695680" cy="2744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184880" y="4889520"/>
            <a:ext cx="17798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79640" y="17002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汉仪雪峰体简"/>
                <a:ea typeface="汉仪雪峰体简"/>
              </a:rPr>
              <a:t>“</a:t>
            </a:r>
            <a:r>
              <a:rPr b="1" lang="en-US" sz="8000" spc="-1" strike="noStrike">
                <a:solidFill>
                  <a:srgbClr val="ff3300"/>
                </a:solidFill>
                <a:latin typeface="汉仪雪峰体简"/>
                <a:ea typeface="汉仪雪峰体简"/>
              </a:rPr>
              <a:t>IQ”</a:t>
            </a:r>
            <a:r>
              <a:rPr b="1" lang="zh-CN" sz="8000" spc="-1" strike="noStrike">
                <a:solidFill>
                  <a:srgbClr val="ff3300"/>
                </a:solidFill>
                <a:latin typeface="汉仪雪峰体简"/>
                <a:ea typeface="汉仪雪峰体简"/>
              </a:rPr>
              <a:t>大比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42920" y="180324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050920" y="4221000"/>
            <a:ext cx="1282680" cy="1295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643280" y="5084640"/>
            <a:ext cx="1132200" cy="113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596360" y="4508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484360" y="3141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———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环保教育知识有奖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1844640"/>
            <a:ext cx="831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游戏规则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Times New Roman"/>
                <a:ea typeface="幼圆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ff"/>
                </a:solidFill>
                <a:uFillTx/>
                <a:latin typeface="Times New Roman"/>
                <a:ea typeface="幼圆"/>
              </a:rPr>
              <a:t>全班共分为四小队，每队派两名代表作在第一排。比赛分抢答和必答两个部分。答对及相应得分，答错不得分，也不扣分。最终积分最高的一队将给与奖励，望全班同学踊跃参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62064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第一轮：必答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1733400" y="5638680"/>
            <a:ext cx="129564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A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3333600" y="5638680"/>
            <a:ext cx="1295640" cy="825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4781520" y="5638680"/>
            <a:ext cx="1295280" cy="825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C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6229440" y="5638680"/>
            <a:ext cx="12952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D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692280"/>
            <a:ext cx="795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人口超过一亿的国家 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Ａ、加拿大　Ｂ、英国　Ｃ、中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正确答案：美国 中国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00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世界环境日主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莫使旱地变荒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今年世界环境日中国主题为“生态安全与环境友好型社会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 下面哪一种行为是正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乱扔果皮纸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不捕杀青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保护环境 植树造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不打扫环境卫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（正确答案：不捕杀青蛙 植树造林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6360" y="-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4360" y="476280"/>
            <a:ext cx="777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下面哪一种行为是不对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滥伐森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破坏环境 捕杀东北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建立自然保护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滥垦草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正确答案：滥伐森林 捕杀东北虎 滥垦草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世界人均森林占有面积最多的洲是那个洲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洋洲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达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.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公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世界环境日是每年的几月几日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[6.5]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972.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43000" y="83808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琥珀简体"/>
              </a:rPr>
              <a:t>第二轮：风险提速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方正琥珀简体"/>
              </a:rPr>
              <a:t>抢答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362320"/>
            <a:ext cx="9010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琥珀简体"/>
              </a:rPr>
              <a:t>比赛规则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本轮比赛共有五小题。待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持人宣读完题目后方可解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题答对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分，答错倒扣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分，每题答题时间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秒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368280"/>
            <a:ext cx="831672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请说出植树节对人类的好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对环境的好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      ----------------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每答对一点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树木能够调节气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保持生态平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通过光合作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吸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O2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空气清洁新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亩地树林可以放出的氧气量足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人呼吸使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树林能防风固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涵养水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又能够吸收各种粉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亩地一年可以吸收各种粉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0-6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71640" y="692280"/>
            <a:ext cx="6985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ⅲ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树林能够减少噪音污染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4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米宽的林带可减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0-1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ⅳ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树木的分泌物有杀菌的作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森林里每立方米空气中含细菌三四百个，而空旷地每立方米空气中含细菌三四万个，两者相差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538280"/>
            <a:ext cx="830592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班会主持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龚丽君：（副班长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廖小君：（语文科代表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63640" y="762120"/>
            <a:ext cx="781200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被成为亚洲的”花园城市”的新加坡每年几月几日为植树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?[11.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.  197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第七届世界林业大会确定每年几月几日为世界林业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?[3.21]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目的是要各国充分重视保护森林资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让林业为人类服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促进社会经济发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4360" y="333360"/>
            <a:ext cx="7812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836640"/>
            <a:ext cx="72738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全球绿化最好的城市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[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波兰首都华沙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]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人均占有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73.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5.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世界人均森林储蓄量最高的是那国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最底的呢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[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蒙古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墨西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]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蒙古达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97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高出世界人均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0.7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墨西哥人均仅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885080" y="5877000"/>
            <a:ext cx="4399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30311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03280" y="1557360"/>
            <a:ext cx="7129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颁奖仪式</a:t>
            </a:r>
            <a:endParaRPr b="0" lang="en-US" sz="8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06760" cy="2149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101080" y="6021360"/>
            <a:ext cx="761760" cy="601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860640"/>
            <a:ext cx="2695680" cy="274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8028000" y="5373720"/>
            <a:ext cx="4395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303112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06760" cy="2149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86000" y="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8101080" y="6021360"/>
            <a:ext cx="761760" cy="601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1280" y="2133720"/>
            <a:ext cx="7993080" cy="1655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班主任总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860640"/>
            <a:ext cx="2695680" cy="2745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7596360" y="5373720"/>
            <a:ext cx="5126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303112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4788000"/>
            <a:ext cx="2268360" cy="1869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740720" y="4797360"/>
            <a:ext cx="1214280" cy="1387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762120" cy="601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63640" y="1403280"/>
            <a:ext cx="6624720" cy="6274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大家刚才提到的环境问题值得我们注意，这说明大家平时都很关心环保问题。我们不但要关心环境保护，更应该用实际行动保护环境。我们要从每一个家庭做起，从每一件事做起，为爱护地球做贡献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227640" y="488952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0" t="0" r="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2565360"/>
            <a:ext cx="763272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幼圆"/>
              </a:rPr>
              <a:t>《让我们荡起双浆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692360" y="1700280"/>
            <a:ext cx="5933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让我们高声齐唱</a:t>
            </a:r>
            <a:endParaRPr b="1" lang="en-US" sz="66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667640" y="558972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4284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5280" y="333360"/>
            <a:ext cx="381636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我们荡起双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船儿推开波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面倒映着美丽的白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周还绕着绿树红墙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船儿轻轻飘荡在水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迎面吹来凉爽的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领巾迎着太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阳光洒在海面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中鱼儿望着我们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260280"/>
            <a:ext cx="406728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悄悄地听我们愉快歌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船儿轻轻飘荡在水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迎面吹来凉爽的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完了一天的功课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来尽情欢乐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问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亲爱的伙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谁给安排下幸福的生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船儿轻轻飘荡在水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迎面吹来凉爽的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0"/>
          <a:ext cx="9144000" cy="683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812000" y="5516640"/>
            <a:ext cx="584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303112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99072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 </a:t>
            </a:r>
            <a:r>
              <a:rPr b="1" lang="zh-CN" sz="8800" spc="-1" strike="noStrike">
                <a:solidFill>
                  <a:srgbClr val="ff33cc"/>
                </a:solidFill>
                <a:latin typeface="华文新魏"/>
                <a:ea typeface="华文新魏"/>
              </a:rPr>
              <a:t>保护环境  ，是每个人应尽的职责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2095560"/>
            <a:ext cx="5562360" cy="4762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907320" y="0"/>
            <a:ext cx="4842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227560" y="158760"/>
            <a:ext cx="3784680" cy="2809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971640" y="549360"/>
            <a:ext cx="45720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歌曲欣赏：</a:t>
            </a:r>
            <a:endParaRPr b="0" lang="en-US" sz="72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5" name=""/>
          <p:cNvSpPr/>
          <p:nvPr/>
        </p:nvSpPr>
        <p:spPr>
          <a:xfrm>
            <a:off x="1330200" y="3193920"/>
            <a:ext cx="46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黑体"/>
              </a:rPr>
              <a:t>爱的奉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8172360" y="587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3112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41280" y="1905120"/>
            <a:ext cx="6607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环境污染防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法律有：《环境保护法》、《水污染防治法》、《大气污染防治法》、《固体废物污染防治法》、《环境噪声污染防治法》、《海洋环境保护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自然资源保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面的法律有：《水法》、《森林法》、《草原法》、《野生动物保护法》、《矿产资源法》、《土地管理法》、《渔业法》、《节约能源法》、《煤炭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自然灾害防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面的法律有：《水土保持法》、《防洪法》、《防震减灾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95480" y="304920"/>
            <a:ext cx="3200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宋体"/>
              </a:rPr>
              <a:t>环保法律知多少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38280" y="304920"/>
            <a:ext cx="1266840" cy="1447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20720" y="301680"/>
            <a:ext cx="7272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是世界环境保护日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界环境日主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莫使旱地变荒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今年世界环境日中国主题为“生态安全与环境友好型社会。为什么要用这么一个主题？据目前所知，在无垠的茫茫宇宙中，只有地球才有生命。人类与地球相伴相随，走过了漫长的岁月。人类世世代代深受地球的恩惠，然而人类似乎并不知道感恩，反而对地球进行致命的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76360" y="1197000"/>
            <a:ext cx="66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害，砍伐森林、杀戮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lu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动物，污染环境……当我们人类遭到地球的报复之后，我们深知宇宙中只有一个地球，地球是我们唯一的家园，我们必须放弃对地球的一切危害，对地球精心呵护，否则受到伤害的只能是我们人类自己。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环境是人类生存重要的需求之一。假如，人类生存的环境遭到了破坏，那么我们人类就将走向死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1413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360" y="136440"/>
            <a:ext cx="61912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环境污染对人体的危害</a:t>
            </a:r>
            <a:endParaRPr b="1" lang="en-US" sz="4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80820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急性危害：污染物在短期内浓度很高，或者几种污。 物联合进入人体可以对人体造成急性危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慢性危害：慢性危害主要指小剂量的污染物持续的作用于人体产生的危害。如大气污染对呼吸道慢性炎症发病率的影响等。   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远期危害：环境污染对人体的危害，一般是经过一段较长的潜伏期后才表现出来，如环境因素的致癌作用等。环境中致癌因素主要有物理、化学和生物学因素。物理因素，如放射线体外照射或吸入放射性物质引起的白血病、肺癌等，生物学因放，如热带性恶性淋巴瘤，已经证明是由吸血昆曳传播的一种病毒引素的。 化学因素，根据动物实验证明，有致癌性的化学物质达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10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余种。另外，污染物对遗传有很大影响。一切生物本身都具有遗传变异的特性，环境污染对人体遗传的危害，主要表现在致突变和致畸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9184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3860640"/>
            <a:ext cx="2695320" cy="274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08000" y="1411200"/>
            <a:ext cx="547380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99"/>
                </a:solidFill>
                <a:latin typeface="Times New Roman"/>
                <a:ea typeface="黑体"/>
              </a:rPr>
              <a:t>小品</a:t>
            </a: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黑体"/>
              </a:rPr>
              <a:t>不要乱扔垃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5:42:3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4:28Z</dcterms:modified>
  <cp:revision>1</cp:revision>
  <dc:subject>主题班会课件(分28大类): http://shop62905894.taobao.com</dc:subject>
  <dc:title>主题班会课件(分28大类): http://shop62905894.taobao.com</dc:title>
</cp:coreProperties>
</file>