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9.gif" ContentType="image/gif"/>
  <Override PartName="/ppt/media/chimes.wav" ContentType="audio/x-wav"/>
  <Override PartName="/ppt/media/image13.gif" ContentType="image/gif"/>
  <Override PartName="/ppt/media/image16.jpeg" ContentType="image/jpeg"/>
  <Override PartName="/ppt/media/image7.wmf" ContentType="image/x-wmf"/>
  <Override PartName="/ppt/media/image12.png" ContentType="image/png"/>
  <Override PartName="/ppt/media/image6.jpeg" ContentType="image/jpeg"/>
  <Override PartName="/ppt/media/applause.wav" ContentType="audio/x-wav"/>
  <Override PartName="/ppt/media/image8.gif" ContentType="image/gif"/>
  <Override PartName="/ppt/media/image21.png" ContentType="image/png"/>
  <Override PartName="/ppt/media/image20.gif" ContentType="image/gif"/>
  <Override PartName="/ppt/media/image19.gif" ContentType="image/gif"/>
  <Override PartName="/ppt/media/image1.jpeg" ContentType="image/jpeg"/>
  <Override PartName="/ppt/media/image5.png" ContentType="image/png"/>
  <Override PartName="/ppt/media/image17.jpeg" ContentType="image/jpeg"/>
  <Override PartName="/ppt/media/image18.png" ContentType="image/png"/>
  <Override PartName="/ppt/media/image15.gif" ContentType="image/gif"/>
  <Override PartName="/ppt/media/camera.wav" ContentType="audio/x-wav"/>
  <Override PartName="/ppt/media/image3.jpeg" ContentType="image/jpeg"/>
  <Override PartName="/ppt/media/drumroll.wav" ContentType="audio/x-wav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FD0-80EE-44D5-8104-903B001A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59A-D082-46DD-959A-3986C67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E9A-1417-416A-9513-B5784FF7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06B-79C5-49FB-B1E0-9DC5853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6BA-854A-41CC-BCB7-92724BF4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800-E75F-4740-A92F-F05A17F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51C-1756-4B19-8F2D-A7AB379F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C69-D3FC-4741-8535-BE31140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73B-15BA-421D-8602-6BAE54B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F24-C0EA-493B-AD05-43B985A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2A-B5A0-46F3-A02B-AD8D124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7D9-8D33-49EB-8761-B1A91F3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64A-6D61-4678-A4A8-2FDB34C9E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slide" Target="slide18.xml"/><Relationship Id="rId23" Type="http://schemas.openxmlformats.org/officeDocument/2006/relationships/image" Target="../media/image12.png"/><Relationship Id="rId24" Type="http://schemas.openxmlformats.org/officeDocument/2006/relationships/image" Target="../media/image13.gif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3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1.xml"/><Relationship Id="rId3" Type="http://schemas.openxmlformats.org/officeDocument/2006/relationships/image" Target="../media/image12.pn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3886200"/>
            <a:ext cx="3886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是中学生啦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523880" y="990720"/>
            <a:ext cx="4953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我们有一份成绩</a:t>
            </a:r>
            <a:endParaRPr b="0" i="1" lang="en-US" sz="4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校增一份光彩</a:t>
            </a:r>
            <a:endParaRPr b="0" i="1" lang="en-US" sz="4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23880" y="990720"/>
            <a:ext cx="49532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希望与你同行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077320" y="304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91120" y="1905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95288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29528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97180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18288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472428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038480" y="380880"/>
            <a:ext cx="419400" cy="419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362320" y="43434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380880" y="16765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581280" y="35053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8001000" y="1143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7391520" y="3581280"/>
            <a:ext cx="419040" cy="41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2438280" y="1981080"/>
            <a:ext cx="419400" cy="419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7772400" y="29718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tretch/>
        </p:blipFill>
        <p:spPr>
          <a:xfrm>
            <a:off x="7238880" y="137160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0"/>
          <a:stretch/>
        </p:blipFill>
        <p:spPr>
          <a:xfrm>
            <a:off x="2666880" y="3049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1447920" y="464832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0" y="6105600"/>
            <a:ext cx="1336680" cy="743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36232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67652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知荣辱，树新风，争做文明中学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确目标，端正态度，全面发展记牢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骂人，不打架，不要随口说脏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尊敬师长，团结同学，文明礼仪不能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爱学习，要自重，品学兼优人人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36232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219320"/>
            <a:ext cx="6324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乱花钱不浪费，勤俭节约心铭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爱护公物，保护公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做个尊规守纪的好标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果皮纸屑不乱扔，楼梯走廊不打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随地吐痰不文明，公众场合不喧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社会公德记心间，文明学生人人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5445000"/>
            <a:ext cx="790560" cy="581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92468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208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24680" y="574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838080"/>
            <a:ext cx="46087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动不如行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763560" cy="838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43000" y="2743200"/>
            <a:ext cx="693432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语言和行动两者之间，成功者选择做“行动的巨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自己的目标确定一个行动的计划，否则明天永远不会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676520" y="1752480"/>
            <a:ext cx="4952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班主任赠言</a:t>
            </a:r>
            <a:endParaRPr b="0" lang="en-US" sz="4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7620120" cy="536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809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09480" y="2286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明天更辉煌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638680" y="5335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歌曲欣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5880" y="2743200"/>
            <a:ext cx="213372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真心英雄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1038240" cy="83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410080"/>
            <a:ext cx="1336680" cy="743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68580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552600"/>
            <a:ext cx="447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在我心中 曾经有一个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要用歌声让你忘了所有的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灿烂星空 谁是真的英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平凡的人们给我最多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再没有恨 也没有了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但愿人间处处都有爱的影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用我们的歌 换你真心笑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祝福你的人生从此与众不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把握生命里的每一分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全力以赴我们心中的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不经历风雨 怎么见彩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没有人能随随便便成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把握生命里每一次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和心爱的朋友热情相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让真心的话 和开心的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在你我的心里流动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9246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9907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飞翔吧，七彩的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1447920"/>
            <a:ext cx="4496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品味成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12408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我们的学校、我们的班级有哪些值得骄傲的成果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152388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青少年科技教育先进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和谐教育实验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示范初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园林式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绿色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镇江市教育信息化先进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丹阳市德育先进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丹阳市优秀家长学校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49286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7621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       “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金无足赤，人无完人”，找找身上的不足之处，你发现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52480" y="2666880"/>
            <a:ext cx="54104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请欣赏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Flash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动画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80536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05360"/>
            <a:ext cx="684360" cy="503280"/>
          </a:xfrm>
          <a:custGeom>
            <a:avLst/>
            <a:gdLst>
              <a:gd name="textAreaLeft" fmla="*/ 281880 w 684360"/>
              <a:gd name="textAreaRight" fmla="*/ 402480 w 68436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29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5:11Z</dcterms:modified>
  <cp:revision>1</cp:revision>
  <dc:subject>主题班会课件(分28大类): http://shop62905894.taobao.com</dc:subject>
  <dc:title>主题班会课件(分28大类): http://shop62905894.taobao.com</dc:title>
</cp:coreProperties>
</file>