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B359-4966-418A-A927-221AF5A05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8FAE-4AEA-4EE8-9AED-2477F3E5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1116-38E9-4D1A-8697-EDABDCB8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08B4-A989-4423-A239-A098F9D46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1CC5-E14B-4D92-AED9-5394C6EC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01A7-A72A-4845-AAA4-75076126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1FFA-4355-4A68-9E25-7C563A73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F3C7-F743-425B-9BD8-669E80E7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3864-1F42-4CFE-8793-5F54F2C6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6120-61E2-4837-B090-F80061BC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5CC1-B42F-4E5E-BCD4-67AFC43B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013C-21C2-4C9B-9CCC-1A6ACD59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F3E9-34C3-4210-BDBB-6D34D911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825B-65B3-42D4-933C-183E925A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975D-8C5F-4CF6-B3CA-56B0A63C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8AFC-D116-4D5C-BBE3-FB6F42D41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06CD-7D17-483A-88B1-DD9D0794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D96B-B071-45D5-858B-41C27A64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2EF0-8C02-4E5C-AF70-3506B744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5EEE-3FB3-4A8C-B034-A37FE16F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99C1-EBEB-4ED1-8F91-A7F17590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8ADE-9C51-4331-B1B2-8E137625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8D8B-6716-441F-B4EB-E0825A7A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741D-2A5D-4C52-AB50-752BA66E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2B5D-D972-4E08-84A1-C28BE529F978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07AD-763D-4DAD-939F-94B41AA51944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5105;&#30340;&#26410;&#26469;&#19981;&#26159;&#26790;.mp3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7a77"/>
                </a:solidFill>
                <a:latin typeface="Arial"/>
              </a:rPr>
              <a:t>超越梦想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7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1680" y="549360"/>
            <a:ext cx="854064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每个人都有梦想，梦想是实现人生的既定目标，是迈向成功的第一步，梦想为我们奠定了未来的路途的坎坷，也为我们奠定了未来生活的方向，梦想是前进的路途上的一首动人的歌曲，梦想是踏向人生的征程的未来规划。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实现梦想，就要合理的规划梦想，把自己的综合的能力和自己的未来结合在一起，那就是自己的梦想的空间了。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第一步：合理的认识自己。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认识自己是实现自己的梦想的第一步，把自己的能力综合在一起，把握自己，才能合理的规划自己的梦想，不要超出自己的能力的范围，那是空想，在自己的能力范围的梦想，才能够实现。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第二步：规划实现梦想的步骤。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为自己的梦想设定目标，朝着既定的目标一步一步的走去。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第三步：适应生活节奏。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第四步：坚持不懈。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第五步：实现梦想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有梦想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就会实现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人类社会的进步就是人类产生不断的梦想，也是实现梦想的过程。例如：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 当人们觉得腿不够用时，就有人发明了：牛车、马车、汽车、火车、飞机。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 当人们觉得双手不够用时，就有人发明了锤子、锄头、机器、生产线。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 当人们觉得耳朵不够用时，就有人发明了留声机、电话。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 当人们觉得眼睛看得不够远时，有人发明了眼镜、望远镜。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 当人们觉得人脑不够用时，有人发明了珠算、计算器、电脑。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这些梦想实现的过程就是人类社会向前发展的过程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75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有梦想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就有成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面对机遇、面对问题、面对奋斗的过程成功人与不成功人的重要区别在于思考模式不同。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 成功人说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: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我能行，我一定行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!,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因为他千方百计的为成功努力。不成功的人说： 我不行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--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因为它会千方百计地找一个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"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借口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"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来证明他不行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 成功人说：我怎样才能富起来，千方百计地抓住机遇致富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不成功的人说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: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我这一辈子富不起来了，因此就不努力了。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 成功人说：因为我有孩子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我必须得富有。不成功的人说：因为我有孩子我才贫穷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 成功人说：贫穷是万恶之源，我要奋斗致富。不成功的人说：钱财是身外之物，他为不努力找借口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关于梦想的名言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4470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梦想只要能持久，就能成为现实。我们不就是生活在梦想中的吗？（丁尼生）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梦想一旦被付诸行动，就会变得神圣（阿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安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普罗克特）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人生最苦痛的是梦醒了无路可走。做梦的人是幸福的；倘没有看出可以走的路，最要紧的是不要去惊醒他（鲁迅） </a:t>
            </a:r>
            <a:br>
              <a:rPr sz="2800"/>
            </a:b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75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75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75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18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同学们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我们梦想已经了解了梦想的意义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就让我们去实现梦想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超越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对自己的未来做好打算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我们要相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------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我的未来不是梦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最后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祝大家梦想成真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!!!!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40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我的未来不是梦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907920"/>
            <a:ext cx="854064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你是不是像我在太阳下低头                             流着汗水默默辛苦的工作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你是不是像我就算受了冷漠                         也不放弃自己想要的生活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你是不是像我整天忙着追求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追求一种意想不到的温柔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你是不是像我曾经茫然失措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一次一次徘徊在十字街头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因为我不在乎别人怎么说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我从来没有忘记我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自己的承诺对爱的执著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1680" y="0"/>
            <a:ext cx="8540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我知道我的未来不是梦 我认真的过每一分钟  我的未来不是梦 我的心跟着希望在动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我的未来不是梦 我认真的过每一分钟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我的未来不是梦我的心跟着希望在动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跟着希望在动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你是不是像我整天忙着追求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 追求一种意想不到的温柔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 你是不是像我曾经茫然失措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 一次一次徘徊在十字街头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 因为我不在乎别人怎么说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 我从来没有忘记我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 对自己的承诺对爱的执著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我知道我的未来不是梦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我认真的过每一分钟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我的未来不是梦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我的心跟着希望在动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我的未来不是梦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我认真的过每一分钟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我的未来不是梦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我的心跟着希望在动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跟着希望在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超越梦想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540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当圣火第一次点燃是希望在跟随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当终点已不再永久是心灵在体会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不在乎等待几多轮回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不在乎欢笑伴着泪水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超越梦想一起飞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你我需要真心面对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让生命回味这一刻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让岁月铭记这一回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227640" y="98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67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67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67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67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4875120" cy="4103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857840" y="189000"/>
            <a:ext cx="4286160" cy="2808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857840" y="2997360"/>
            <a:ext cx="4286160" cy="33843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1680" y="4508640"/>
            <a:ext cx="4194000" cy="15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北京时间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月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日晚，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2006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年第四届国际田联世界田径总决赛在德国斯图加特打响，在男子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110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米栏决赛中，中国飞人刘翔以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12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秒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88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夺冠并打破赛会纪录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64000" y="5734080"/>
            <a:ext cx="503280" cy="35892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0279" h="21600">
                <a:moveTo>
                  <a:pt x="0" y="0"/>
                </a:moveTo>
                <a:lnTo>
                  <a:pt x="30279" y="0"/>
                </a:lnTo>
                <a:lnTo>
                  <a:pt x="30279" y="21600"/>
                </a:lnTo>
                <a:lnTo>
                  <a:pt x="0" y="21600"/>
                </a:lnTo>
                <a:close/>
              </a:path>
              <a:path fill="lightenLess" w="30279" h="21600">
                <a:moveTo>
                  <a:pt x="0" y="0"/>
                </a:moveTo>
                <a:lnTo>
                  <a:pt x="30279" y="0"/>
                </a:lnTo>
                <a:lnTo>
                  <a:pt x="28879" y="1400"/>
                </a:lnTo>
                <a:lnTo>
                  <a:pt x="1400" y="1400"/>
                </a:lnTo>
                <a:close/>
              </a:path>
              <a:path fill="darken" w="30279" h="21600">
                <a:moveTo>
                  <a:pt x="30279" y="0"/>
                </a:moveTo>
                <a:lnTo>
                  <a:pt x="30279" y="21600"/>
                </a:lnTo>
                <a:lnTo>
                  <a:pt x="28879" y="20200"/>
                </a:lnTo>
                <a:lnTo>
                  <a:pt x="28879" y="1400"/>
                </a:lnTo>
                <a:close/>
              </a:path>
              <a:path fill="darkenLess" w="30279" h="21600">
                <a:moveTo>
                  <a:pt x="30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9" y="20200"/>
                </a:lnTo>
                <a:close/>
              </a:path>
              <a:path fill="lighten" w="30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79" h="21600">
                <a:moveTo>
                  <a:pt x="8133" y="7301"/>
                </a:moveTo>
                <a:lnTo>
                  <a:pt x="9047" y="7301"/>
                </a:lnTo>
                <a:lnTo>
                  <a:pt x="9430" y="7667"/>
                </a:lnTo>
                <a:lnTo>
                  <a:pt x="18638" y="7667"/>
                </a:lnTo>
                <a:lnTo>
                  <a:pt x="19195" y="8224"/>
                </a:lnTo>
                <a:lnTo>
                  <a:pt x="19195" y="8772"/>
                </a:lnTo>
                <a:lnTo>
                  <a:pt x="21041" y="8772"/>
                </a:lnTo>
                <a:lnTo>
                  <a:pt x="21406" y="8224"/>
                </a:lnTo>
                <a:lnTo>
                  <a:pt x="22146" y="8224"/>
                </a:lnTo>
                <a:lnTo>
                  <a:pt x="22146" y="13376"/>
                </a:lnTo>
                <a:lnTo>
                  <a:pt x="21406" y="13376"/>
                </a:lnTo>
                <a:lnTo>
                  <a:pt x="21041" y="12828"/>
                </a:lnTo>
                <a:lnTo>
                  <a:pt x="19195" y="12828"/>
                </a:lnTo>
                <a:lnTo>
                  <a:pt x="19195" y="14107"/>
                </a:lnTo>
                <a:lnTo>
                  <a:pt x="9613" y="14107"/>
                </a:lnTo>
                <a:lnTo>
                  <a:pt x="9613" y="9877"/>
                </a:lnTo>
                <a:lnTo>
                  <a:pt x="9430" y="9877"/>
                </a:lnTo>
                <a:lnTo>
                  <a:pt x="9047" y="10243"/>
                </a:lnTo>
                <a:lnTo>
                  <a:pt x="8133" y="10243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4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中国的奥运健儿们在赛场上一次又一次的创造着奇迹，从“零”到“一百三十二”块金牌，对于一个仅参加了六届奥运会的中国来说，已经是一个不小的奇迹了。我们忘不了刘翔那短短的“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1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秒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88”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那是世界上又一条定律的破灭，无人能够再说黄种人不能站在短赛道的最终决赛上。网球可谓是欧洲人、澳洲人、美洲人的天下，我们国家也仅有一名华人有过世界排名第四的成绩，单今年的孙甜甜、李婷就是中国的两匹黑马，一路过关斩将，最终取得第一，这样的事实在太多太多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·····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75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01680" y="620640"/>
            <a:ext cx="8540640" cy="54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我们每个人都有自己的梦想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下面请同学们说说你们的梦想是什么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75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什么是梦想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提到梦想，那么什么是梦想？在很多人认为梦想实现不了则是幻想。梦想其实就是人们在内心深处对某一种成功的渴望。人人都想成为一个成功的人士。追求成功是个人提升和社会最完美的最伟大的驱动力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生活中，常有“梦想成真”之说。“梦想”是人生最美好的愿望，是人生追求的目标。人人都有自己的梦想，只要不是脱离实际，只要不是违背客观，只要不是好高鹜远，任何“梦想”都能“成真”。当然，欲使“梦想”成为现实，只有靠自己艰苦奋斗，不懈追求，才能得到你所要的东西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如何实现梦想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大多数人距离他们的目标只缺少了一个正确的决定，而且对大多数人来说，这个正确的决定就是下决心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--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对自己说：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"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我决定展开行动，追求目标。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"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这个世界上，没有一个人比一个决心达到目标的人更有力量，然而，在每个人下定决心之前，你必须先了解的是：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c5900"/>
                </a:solidFill>
                <a:uFillTx/>
                <a:latin typeface="Arial"/>
                <a:hlinkClick r:id="rId2" action="ppaction://hlinksldjump"/>
              </a:rPr>
              <a:t>首先，千万不要把如何实现梦想和梦想本身混为一谈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c5900"/>
                </a:solidFill>
                <a:uFillTx/>
                <a:latin typeface="Arial"/>
                <a:hlinkClick r:id="rId3" action="ppaction://hlinksldjump"/>
              </a:rPr>
              <a:t>其次，不要猜测你的梦想。</a:t>
            </a:r>
            <a:r>
              <a:rPr b="0" lang="zh-CN" sz="2400" spc="-1" strike="noStrike" u="sng">
                <a:solidFill>
                  <a:srgbClr val="dc5900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">
            <a:hlinkClick r:id="rId5" action="ppaction://hlinksldjump"/>
          </p:cNvPr>
          <p:cNvSpPr/>
          <p:nvPr/>
        </p:nvSpPr>
        <p:spPr>
          <a:xfrm>
            <a:off x="7380360" y="5589720"/>
            <a:ext cx="1079280" cy="718920"/>
          </a:xfrm>
          <a:prstGeom prst="rightArrow">
            <a:avLst>
              <a:gd name="adj1" fmla="val 50000"/>
              <a:gd name="adj2" fmla="val 37531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1680" y="620640"/>
            <a:ext cx="8518320" cy="54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你的第一个决定应该非常具体、明确：我到底想要什么？我想成为什么样的人？做什么？拥有什么？排除什么？追求什么？获得什么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   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你应该将你的决定用很简单的句子表达出来：“我想要</a:t>
            </a:r>
            <a:r>
              <a:rPr b="0" lang="zh-CN" sz="2400" spc="-1" strike="noStrike" u="sng">
                <a:solidFill>
                  <a:srgbClr val="007a77"/>
                </a:solidFill>
                <a:uFillTx/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。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"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空格上填上任何你真心想要的东西，或想做的事情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   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从某个角度来说，这有点像是一个小孩得到妈妈的同意，带着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块钱在糖果店里，自由选择任何他想到的糖果，请自由地在空格中填入你的决定，不要给自己任何限制，你惟一需要确定的是：这真的是你想要的吗？这就是你立刻想要、一直想要、而且非常想要的事物吗？如果答案是肯定的话，那么请排除所有你曾经自我设定的障碍，并且大胆直接地说：“是的，我全心全意地想要</a:t>
            </a:r>
            <a:r>
              <a:rPr b="0" lang="zh-CN" sz="2400" spc="-1" strike="noStrike" u="sng">
                <a:solidFill>
                  <a:srgbClr val="007a77"/>
                </a:solidFill>
                <a:uFillTx/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。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7164360" y="5734080"/>
            <a:ext cx="1440000" cy="647640"/>
          </a:xfrm>
          <a:custGeom>
            <a:avLst/>
            <a:gdLst>
              <a:gd name="textAreaLeft" fmla="*/ 41760 w 1440000"/>
              <a:gd name="textAreaRight" fmla="*/ 1398240 w 1440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8012" h="21600">
                <a:moveTo>
                  <a:pt x="0" y="0"/>
                </a:moveTo>
                <a:lnTo>
                  <a:pt x="48012" y="0"/>
                </a:lnTo>
                <a:lnTo>
                  <a:pt x="48012" y="21600"/>
                </a:lnTo>
                <a:lnTo>
                  <a:pt x="0" y="21600"/>
                </a:lnTo>
                <a:close/>
              </a:path>
              <a:path fill="lightenLess" w="48012" h="21600">
                <a:moveTo>
                  <a:pt x="0" y="0"/>
                </a:moveTo>
                <a:lnTo>
                  <a:pt x="48012" y="0"/>
                </a:lnTo>
                <a:lnTo>
                  <a:pt x="46612" y="1400"/>
                </a:lnTo>
                <a:lnTo>
                  <a:pt x="1400" y="1400"/>
                </a:lnTo>
                <a:close/>
              </a:path>
              <a:path fill="darken" w="48012" h="21600">
                <a:moveTo>
                  <a:pt x="48012" y="0"/>
                </a:moveTo>
                <a:lnTo>
                  <a:pt x="48012" y="21600"/>
                </a:lnTo>
                <a:lnTo>
                  <a:pt x="46612" y="20200"/>
                </a:lnTo>
                <a:lnTo>
                  <a:pt x="46612" y="1400"/>
                </a:lnTo>
                <a:close/>
              </a:path>
              <a:path fill="darkenLess" w="48012" h="21600">
                <a:moveTo>
                  <a:pt x="48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12" y="20200"/>
                </a:lnTo>
                <a:close/>
              </a:path>
              <a:path fill="lighten" w="48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12" h="21600">
                <a:moveTo>
                  <a:pt x="27505" y="10800"/>
                </a:moveTo>
                <a:lnTo>
                  <a:pt x="17000" y="17806"/>
                </a:lnTo>
                <a:lnTo>
                  <a:pt x="17000" y="3794"/>
                </a:lnTo>
                <a:close/>
              </a:path>
              <a:path fill="darken" w="48012" h="21600">
                <a:moveTo>
                  <a:pt x="29350" y="3794"/>
                </a:moveTo>
                <a:lnTo>
                  <a:pt x="29350" y="17806"/>
                </a:lnTo>
                <a:lnTo>
                  <a:pt x="31012" y="17806"/>
                </a:lnTo>
                <a:lnTo>
                  <a:pt x="31012" y="3794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1680" y="549360"/>
            <a:ext cx="854064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当你专注于自己真心想做的事情时，你必须先将你以前所有说过的话、做过的事放在一边，切断你的后路，从现在开始只剩下你和你的梦想，你已经不能回头了。就像你刚抓着一根摇晃的蔓藤越过山谷一样，现在的你无路可退，你已经站在山谷的另一边，接下来要面对的是：你该如何完成你的梦想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   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如果你将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"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如何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"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完成你的梦想，和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"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什么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"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是你的梦想混为一谈，那么你将永远一事无成。因为这个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"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如何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"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将会一直打击你，并阻碍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"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什么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"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的完成，最后你将失去尝试的勇气而不愿意再跨出下一步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   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如果你开始臆测你的梦想是否会实现，那么你将失去追求梦想所需要的动力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   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许多都在等待一个安全的环境，他们希望等所有的绿灯都亮了以后再出门。抱持这种想法的人，一辈子也无法走出家门。 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7380360" y="5661000"/>
            <a:ext cx="1295280" cy="647640"/>
          </a:xfrm>
          <a:custGeom>
            <a:avLst/>
            <a:gdLst>
              <a:gd name="textAreaLeft" fmla="*/ 41760 w 1295280"/>
              <a:gd name="textAreaRight" fmla="*/ 1253520 w 1295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788" y="1400"/>
                </a:lnTo>
                <a:lnTo>
                  <a:pt x="1400" y="1400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788" y="20200"/>
                </a:lnTo>
                <a:lnTo>
                  <a:pt x="41788" y="1400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8" y="20200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8" h="21600">
                <a:moveTo>
                  <a:pt x="25093" y="10800"/>
                </a:moveTo>
                <a:lnTo>
                  <a:pt x="14588" y="17806"/>
                </a:lnTo>
                <a:lnTo>
                  <a:pt x="14588" y="3794"/>
                </a:lnTo>
                <a:close/>
              </a:path>
              <a:path fill="darken" w="43188" h="21600">
                <a:moveTo>
                  <a:pt x="26938" y="3794"/>
                </a:moveTo>
                <a:lnTo>
                  <a:pt x="26938" y="17806"/>
                </a:lnTo>
                <a:lnTo>
                  <a:pt x="28600" y="17806"/>
                </a:lnTo>
                <a:lnTo>
                  <a:pt x="28600" y="3794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1:56:22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3:43:45Z</dcterms:modified>
  <cp:revision>1</cp:revision>
  <dc:subject>主题班会课件(分28大类): http://shop62905894.taobao.com</dc:subject>
  <dc:title>主题班会课件(分28大类): http://shop62905894.taobao.com</dc:title>
</cp:coreProperties>
</file>