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5F5-274C-4329-9BBE-D079BBC9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BB6-8F83-40FD-AE12-14E6C103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7DB-CE6C-4F80-AE1A-C440D2ED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010-F53F-4D8F-962B-CD4F7D67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9853-B71E-4690-BD39-C4144047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4A3A-21F4-47C6-B355-D144872F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D617-1F45-40AD-853E-BC311551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58D0-2185-462D-B72C-A9BF3FB3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EF18-979E-4F88-A681-72282D5D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00D1-661B-432E-AE7A-23BACBC9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E665-1665-49C9-B983-1B9558E3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189-0963-4EE0-AFC7-5BE79AF6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8A5B-E1F3-4EB8-9ECD-94EE9F4E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F92A-974D-4439-B427-EFE18EAB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4457-DD93-43E1-90E8-BBA123ED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7FFA-E9A5-4CC1-AAD3-AE45C019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0675-F004-4D70-9CC2-440FF410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C7B-CDC7-46AA-96CC-64DFE643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913-D19B-4520-AE3B-2BB39A57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72F5-2D79-4252-B3BE-315BCFCE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EFB-8B25-4174-8936-C8B0BBB9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C3BA-A406-4900-91E5-17D5FA46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4C1F-F1AF-40DA-8CFC-3D3E15E3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62BEC-70E9-40BF-9EB6-DDC645FD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77EE-900D-4A7E-BD1D-3F3BB836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3D86B-C640-46A4-9737-A25CF72B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44B5-15E4-4D15-A0F5-BFDF8706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43EEF-4286-4428-9A2A-528EE534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2299-5C9C-482A-9C92-6EA82969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89DEE-5859-4E6D-A453-A891D30A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BD91-AE65-413E-8E56-FF638752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E76-BB5D-4553-BCA1-1515C280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329D-B040-4B37-91CC-DEAD2965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092-1A91-405F-AADD-E29A5A52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04C-D632-42E7-8F1F-FE1DAA70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763-7217-430C-8228-4635B152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0E01-468F-415D-A386-97EC4DBD28C0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A34E-2FD1-4104-9BC4-F7EBFFAFC339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9DA3-3E6D-4961-9442-639338CD7E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0.328/%5B&#32676;&#26143;%5D&#30456;&#20146;&#30456;&#29233;&#19968;&#23478;&#20154;-&#32676;&#26143;.mp3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zt.tl100.com/s/lqcx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7424640" cy="35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让我们鼓足勇气迈向新的征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52280" y="6048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俞敏洪经典语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51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43000" y="2438280"/>
            <a:ext cx="7543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励志照亮人生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63600" y="4302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9144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“……我们人的生活方向有两种方式，第一种方式是像草一样活着，你尽管活着，每年还在成长，但是你毕竟是一棵草，你吸收雨露阳光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但是长不大。人们可以踩过你，但是人们不会因为你的痛苦而他产生痛苦；人们不会因为你被踩了而来怜悯你，因为人们本身就没有看到你。所以我们每一个人都应该像树一样的成长，即使我们现在什么都不是，但是只要你有树的种子，即使你被踩到泥土中间，你依然能够吸收泥土的养分，自己成长起来。当你长成参天大树以后，遥远的地方，人们就能看到你。走进你，你能给人一片绿色，活着是美丽的风景，死了依然是栋梁之才。活着死了都有用，这就是我们每一个同学做人的标准和成长的标准。”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二、“……每一条河流，都有不同的生命曲线，但是每一条河流都有自己的梦想，那就是奔向大海。我们的生命有的时候会是泥沙，你可能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就会像泥沙一样慢慢地沉淀下去了，一旦沉淀下去了，也许你不再为前进而努力了，但是你却永远见不到阳光了。所以我建议大家，不管你现在的生命是怎么样的，一定要有水的精神，像水一样不断地积蓄自己的力量，不断地冲破障碍。当你发现自己时机不到的时候，把自己的厚度积累起来；当有一天时机来临的时候，你就能够奔腾入海，成就自己的生命。”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班主任寄语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亲爱的同学们：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     回首走过的路，你们也许跌倒过，消沉过，然而青春的步伐不会因为曾经的坎坷而停滞，悠长的人生旅途，还将经历更多的磨练。俗语说：良好的开端等于成功的一半，只有赢在起点，才能不断飞跃。尽管我们任重而道远，但把他们分解，其实我们的每一天都是一个新的起点。让我们用勤劳与奋斗赢得希望与收获，用艰辛与执着赢得练达与成功，用拼搏与超越赢得灿烂与辉煌。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没有谁比谁聪明，只要有目标，付出行动，你就有成功的希望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要善于从细节中建立自己的自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-228960" y="1523520"/>
            <a:ext cx="937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非常了解你们渴望成功的心情。但是饭要一口一口吃，路要一步一步走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,“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万丈高楼平地起”。假如你上课没有效率，你的默写没有过关，你的作业错误率极高……那就意味着你不断在打击自己的自信。没有了细节的不断精致和美丽，怎么会有考试的好成绩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?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你一定要找出漏做题目的原因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去体验“投入”的感觉；你一定要提高你的课堂效率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避免“发呆”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,“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走神”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紧紧跟住老师的思路。当你的目光和老师交汇的时候，当你的一次次回答得到老师赞许的时候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当你在每堂课上津津有味地听讲并和老师产生互动、和同学热烈讨论的时候，你会觉得上课是一种难言的充实和享受；当你为一次小小的默写作了最精心的准备，顺利通过的时候，你一定是无比的喜悦……这一点一滴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都能让你信心满满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心情舒畅</a:t>
            </a:r>
            <a:r>
              <a:rPr b="1" lang="zh-CN" sz="2800" spc="-1" strike="noStrike">
                <a:solidFill>
                  <a:srgbClr val="0033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</a:rPr>
              <a:t>二、要学会从失败中奋起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-380880" y="1523520"/>
            <a:ext cx="9524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Verdana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失败其实并不可怕，有人说过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:"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即使我被一百次地打倒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我也要一百零一次地站起来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!"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因为反败为胜的经历和体验，比一帆风顺更值得我们回味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!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失败更能令我们警醒和反思！我们现在或许不是最好，或许还比别人差了一大截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但是不要害怕！我对你们，永远有信心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!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听过冰心老人的话吗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:"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成功的花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人们只惊羡于她现时的明艳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然而当初她的芽儿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却浸透了奋斗的泪水，洒遍了牺牲的血雨。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"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没有超人的付出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就不会有超人的成绩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!”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三、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</a:rPr>
              <a:t>要始终怀有一颗感恩的心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-305280" y="1523880"/>
            <a:ext cx="9448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Verdana"/>
              </a:rPr>
              <a:t>       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你们很幸运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!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教你们的老师，都是很棒的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!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除了课上交流，一定要在课后主动靠近老师，不要让疑问过夜。在解难释疑的过程中和老师建立更深厚的感情。所有老师都对你们充满信心，只是表达方式不同而已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不要听不进老师善意的直接的批评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我们已经长大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不能总在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"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蜜糖罐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"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里长大！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同学们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：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荣誉的桂冠往往要荆棘编就，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成功的道路往往由汗水铺通，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征途决非一帆风顺，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它需要：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忠贞不渝的追求，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朝气蓬勃的热情，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脚踏实地的努力，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持之以恒的攀登。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Verdana"/>
              </a:rPr>
              <a:t>同学们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Verdana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003300"/>
                </a:solidFill>
                <a:latin typeface="Verdana"/>
              </a:rPr>
              <a:t>成功的大门已向我们敞开，胜利的花环在向我们招手，老师将与你同行，共度一个愉快而充实的新学期，记住：</a:t>
            </a:r>
            <a:endParaRPr b="0" lang="en-US" sz="36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Verdana"/>
              </a:rPr>
              <a:t>        </a:t>
            </a:r>
            <a:r>
              <a:rPr b="1" lang="zh-CN" sz="4800" spc="-1" strike="noStrike">
                <a:solidFill>
                  <a:srgbClr val="003300"/>
                </a:solidFill>
                <a:latin typeface="Verdana"/>
              </a:rPr>
              <a:t>我努力，我成功，</a:t>
            </a:r>
            <a:endParaRPr b="0" lang="en-US" sz="4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Verdana"/>
              </a:rPr>
              <a:t>        </a:t>
            </a:r>
            <a:r>
              <a:rPr b="1" lang="zh-CN" sz="4800" spc="-1" strike="noStrike">
                <a:solidFill>
                  <a:srgbClr val="003300"/>
                </a:solidFill>
                <a:latin typeface="Verdana"/>
              </a:rPr>
              <a:t>我能行，我一定行！</a:t>
            </a:r>
            <a:endParaRPr b="0" lang="en-US" sz="4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025640" y="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同学们：大家新年好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121932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良好的开端，是成功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半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2010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年咱们班将秉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传统，在教书育人，做人处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的道路上并肩同行一个学期。我相信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45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颗金子般的心熔铸而成的班级，一定会是个优秀的班级！有缘才能相聚，有心才会珍惜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323280"/>
            <a:ext cx="914400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在这一学期里，可能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对同学们又一次心灵上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考验，责任感上的折磨。但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宁愿同学们平时痛苦，受伤，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不愿你们战时牺牲。常言说得好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兵熊熊一个，将熊熊一窝，班主任将携同任课教师，对你们的学业，做人处事，身心健康负责，希望你们身心愉快，健康成长，也希望你们早日成才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zh-CN" sz="40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相亲相爱一家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29811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198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cc0099"/>
                </a:solidFill>
                <a:latin typeface="Arial"/>
              </a:rPr>
              <a:t>活动</a:t>
            </a:r>
            <a:br>
              <a:rPr sz="4000"/>
            </a:br>
            <a:br>
              <a:rPr sz="4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2696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一、假如你是公司的老板，请你写出你招聘员工的几条标准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0880" y="243828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1676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说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：自己离这些要求还有多远的距离，自己将来靠什么来找工作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3718080"/>
            <a:ext cx="8610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</a:rPr>
              <a:t>你将来碰到的条件或许比你写下的还苛刻。现在我们离工作还有几年时间，现在怎么办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8370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二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年后，你将会给父母什么样的生活。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920" y="3275640"/>
            <a:ext cx="8839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学生们：你们拿什么来给父母这些？</a:t>
            </a:r>
            <a:br>
              <a:rPr sz="4000"/>
            </a:br>
            <a:br>
              <a:rPr sz="4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787840"/>
            <a:ext cx="92962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考考了三年，终上北大。前日下午，新东方创始人俞敏洪用自己高考实战经历鼓励江城高三学子：大考在即，要学会自我鼓励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 俞敏洪坦言，从小学到大学，从未考过全班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名，但凭借“自我鼓励”考上北大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 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自我鼓励考上了北大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 很多人知道作为新东方创始人俞敏洪参加过三次高考，但曾拖后腿的竟是他现在的强项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英语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 俞敏洪说，第一次参加高考，英语只考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。在复读班，英语基础差，从未得到老师的鼓励，靠强大的“自我鼓励功能”挺到最后。第二年高考，英语成绩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，虽比前一次有进步，但总分不高仍落榜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 在一片质疑声中，俞敏洪坚持再读一个高三。当年暑假，俞敏洪报了一个英语补习班。有了前两年的积累，加上最后一年的拼命用功，“高五生”俞敏洪英语得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，最终被北大</a:t>
            </a: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录取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18360" y="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Times New Roman"/>
              </a:rPr>
              <a:t>新东方总裁：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俞敏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04920" y="3151440"/>
            <a:ext cx="8610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 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于高中的学生而言，俞敏洪说：只要自己不放弃自己，任何人都打不倒你。“没有人鼓励，就自我鼓励。”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   考上大学，来自全国各地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名精英分子编成一班，俞敏洪是其中之一。“大学期间，我从未进入全班前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名。但我没有因此放弃自己，一天内背不下课文，我就花一周的时间天天背，到最后可以脱口秀。”俞敏洪说，在与同学智商相当的情况下，惟一能胜出对方的是超常的努力加毅力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寄语高中的后进生：即使最后一名，也要保持一颗上进的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0920" y="30492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99"/>
                </a:solidFill>
                <a:latin typeface="Times New Roman"/>
              </a:rPr>
              <a:t>新东方总裁：</a:t>
            </a:r>
            <a:r>
              <a:rPr b="1" lang="zh-CN" sz="5400" spc="-1" strike="noStrike">
                <a:solidFill>
                  <a:srgbClr val="ffff99"/>
                </a:solidFill>
                <a:latin typeface="Arial"/>
              </a:rPr>
              <a:t>俞敏洪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182520"/>
            <a:ext cx="922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确定自己的目标，订立自己的方向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规划自己的路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3305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人的一生中，有的人取得了辉煌的业绩，成为众人瞩目的精英人士。有的人却默默无闻，与成功无缘。高中三年生活不也是如此，经过三年高中生活，有的人能考上理想大学，名牌大学，也有的人高考落榜。其中一个重要的原因是一些拥有目标规划能力，为人的一生订立明确的方向。有人说：“理想是石，敲出星星之火，理想是火，点燃熄灭的灯，理想是灯，照亮前行的路，理想是路，引你走向黎明。”目标在人的一生中具有引导和动力保障的作用，一方面能为人指引前进的方向，另一方面能给人以不断向前的推动力。因此大家要规划好自己的高中生活，要有一种把自己从一棵小草培养成一棵参天大树的意识。</a:t>
            </a:r>
            <a:r>
              <a:rPr b="1" lang="zh-CN" sz="40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33:37Z</dcterms:modified>
  <cp:revision>74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