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hammer.wav" ContentType="audio/x-wav"/>
  <Override PartName="/ppt/media/chimes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3C8-BFE9-4967-8BF6-7EDF6087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59E-953B-476E-9868-C4E26CC9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A3B5-597B-4148-B664-2E958E1C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D29-75E0-4EC2-BB01-48A3DEE9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BBE4-531F-42A8-89C2-2FA4CB6A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C1E-6743-49DC-ACAD-83DEC4EA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080-3C64-4713-8CAF-9CF89C4D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8D6-9BC4-4193-800C-FA1DBB7C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950-E4F1-4AD1-81D3-185C8742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452-6BD0-48D2-BCA0-DFDE69E4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224-82FB-4D93-8A8A-2ADD3AEA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3A6-6CBA-4A57-A25A-A1E930A0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74F6-D701-4C55-8000-6CB98E6C68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50920" y="836640"/>
            <a:ext cx="56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目标一定要远大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5640" y="2205000"/>
            <a:ext cx="7920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行动成就梦想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404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关于如何才能实现我们的目标，如何才能成功，我们已经在这里探讨过多次，我们知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6200" y="249228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成功就是苦练，成功就是苦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6200" y="335772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我们也知道：成功就是坚持，      坚持创造奇迹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75632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我们还知道：成功必须如痴如醉，只有短期疯狂突破，才能长期全面征服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4762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我们曾经一起形成共识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成功没有电梯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只有一步一个脚印的楼梯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5002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但我今天想告诉大家的是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成功也有捷径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9640" y="0"/>
            <a:ext cx="820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人人都想成功，人人都想快速成功，快速成功的含义不是省略过程，而是在相同的时间里他行动的量比别人大，他走的路比别人长，因此，相对而言，他成功的速度也比别人更快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9080" y="428004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成功是有捷径的，捷径的含义是制定更正确的目标，找寻更正确的方法，采取更正确的行动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981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在远大理想的基础上，我们可以分解我们的目标，使之量化，不能量化的目标只能算是一个想法，不能算目标，而目标就是量化后的梦想！目标分解之后变得容易征服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6206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让我们要有疯狂的信念：感谢失败！失败是短暂的，人生就是失败与成功的交织！表面上你失败了但实际上你并没有失败，因为你积累了更多的智慧和经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98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年，在东京国际马拉松比赛中，名不见经传的日本选手山田本一出人意料的夺得了冠军。当记者问他凭什么取得如此惊人的成绩时，他说了一句话：凭智慧战胜对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328464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当时很多人都认为这个偶然跑到前面的矮个子选手故弄玄虚。马拉松是体力和耐力的运动，只要身体素质好，又有耐力，就有望夺冠。爆发力和速度都在其次，说明智慧取胜，确实有点勉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8360" y="260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两年后，意大利国际马拉松邀请赛，在意大利北部城市米兰举行，山田本一代表日本参加比赛，这一次，他又获得了冠军。记者在采访中问他：“上次在你的国家中比赛你获得了冠军，这一次远征米兰，在异国他乡又压倒所有的对手取得第一名，你能谈一谈经验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4292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山田本一性情木讷，不善言谈，回答记者的仍是上一次那句让人摸不着头脑的话：“用智慧战胜对手。”这回记者没有再在报纸上挖苦他，只是对他所谓的智慧迷惑不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18900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后，这个谜终于被解开了。他在他的自传中是这么说的：每次比赛之前，我都要乘车把比赛的路线仔细的看一遍，并把沿途比较醒目的标志画下来。比如，第一个标志是银行，第二个标志是一棵大树，第三个标志是一座红房子，这样一直画到赛程的终点。比赛开始后，我就奋力的向第一个目标冲去。等到达第一个目标我又以同样的速度向第二个目标冲去。四十几公里的赛程就被我分成这样几个小目标轻松地跑完了。起初，我并不懂得这样的道理，我把目标定在四十几公里外的终点线上，结果我跑到十几公里时就疲惫不堪了，我被前面那段遥远的路程给吓倒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44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曾想，在现实生活中，我们做事之所以回半途而废，这其中的原因，往往不是因为难度较大，而是觉得成功离我们较远。确切的说，我们不是因为失败而放弃，而是因为倦怠而失败。在人生的旅途中，假如我们稍具一点山田本一的智慧，一生中也许会少一些懊悔和惋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9337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面对学习也是这样，许多人一开始雄心勃勃，但是没有多久就偃旗息鼓了。原因之一就是不能量化目标，不会分解，结果东南西北找不到头绪，产生了畏惧心理，失败就是自然的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9640" y="1197000"/>
            <a:ext cx="842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　　人生就象一场梦！只要方向正确，事后回想起来，那一定是一场可歌可泣的美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47628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没有目标，我们就不会努力，因为我们不知道为什么要努力；没有目标，我们几乎会同时失去机遇、运气和别人的支持，因为我们不知道自己到底想要什么，也就没有什么能够帮助得了你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16000" y="189000"/>
            <a:ext cx="72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伟大的梦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造就伟大的人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213372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今天我们在这里定下的是造就我们伟大人生的                    又一个重要决定，它将是引领我们继续刻苦学习的一个明确目标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260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有一位哲学家到一个建筑工地分别问三个正在砌砖的工人说：“你在干什么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41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第一个工人头也不抬的说：“我在砌砖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9890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第二个工人抬了抬头说：“我在砌一堵墙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6370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第三个工人热情洋溢满怀景地说：“我在建一座教堂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3716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听完回答，哲学家马上就判断了这三个人的未来：第一个心中眼中只有砖，可以肯定，他一辈子能把砖砌好，就很不错了；第二个眼中有墙，心中有墙，好好干或许当一位工长、技术员；惟有第三位，必有大出息，因为他有远见，他心中有一座殿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9079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没有远见的人只看到眼前的、摸得着的手边的东西；相反，有远见的人心里装着整个世界。只有看到别人看不到的事物，才能做到别人做不到的事情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14842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但是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如果一个人光有远大的目标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而没有正确的方法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没有可以量化的正确行动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那他的目标就会流于空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105264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所以接下来的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天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我们的口号是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645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行动   行动   再行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1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5640" y="765000"/>
            <a:ext cx="64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行动激发潜能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1916280"/>
            <a:ext cx="64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行动征服恐惧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2924280"/>
            <a:ext cx="727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行动创造一切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4005360"/>
            <a:ext cx="828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行动让梦想成为现实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084640"/>
            <a:ext cx="828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行动成就灿烂未来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115920"/>
            <a:ext cx="83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想很容易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行动却很难而把想法付诸行动是世界上最难的事情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1640" y="2852640"/>
            <a:ext cx="871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人们的承诺不相上下，只有行动才能显出差异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4797360"/>
            <a:ext cx="871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你能预测自己未来的最佳方法就是去创造他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31640" y="1700280"/>
            <a:ext cx="882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与其空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不如马上行动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11592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只有行动才会产生结果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12536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只有行动，才能最终决定你的价值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299736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行动是成功最有力的保证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407664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任何伟大的目标，伟大的计划，最终都必须落实到行动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404640"/>
            <a:ext cx="86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你的成功，永远是取决于你采取了多少行动。你所有的知识，包括你的心态、目标、时间管理等，必须化为行动。不管你现在决定做多少事，不管你设定了多少目标，你一定要立即行动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4000" y="260280"/>
            <a:ext cx="86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持续的行动必将改变你的人生，成就你的梦想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3429000"/>
            <a:ext cx="86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现在做，马上就做，这是一切成功人士所必备的品质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60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所有成功的人都有目标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如果一个人不知道要往哪里去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要成为怎样的人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要做什么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那他就将一事无成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63700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心怀伟大的理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你将会变得伟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50864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目标定得小，成就就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有大志才会有大成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0920" y="620640"/>
            <a:ext cx="86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不完美地做完一件事情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也要比完美无缺的一事无成要好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620640"/>
            <a:ext cx="86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没游过泳的人站在水边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没跳过伞的人站在机舱门口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都是越想越害怕。人处于不利境地时也是这样。治疗恐惧的办法就是行动，做起来就不知道害怕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0920" y="4428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任何事情，不管你算得再好，不如现在卷起衣袖开始做。重要的是在执行的过程中，遇见一个困难解决一个困难，坚持不懈地做下去，最终总能到达目的地。这个时代，所有伟大的成功者，有谁不是这样做出来的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60360" y="1700280"/>
            <a:ext cx="86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一切都毫无意义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除非我们付诸行动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050920" y="1557360"/>
            <a:ext cx="54738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8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6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18900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就在不久前，在这个教室里，我曾跟我们每个同学定下了我们将要接受教育的最高理想。也曾定下了我们最近的目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3141720"/>
            <a:ext cx="878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时间匆匆而过，一转眼中考已临近，我们心中的热情是否依然如故？我们当时所定下的理想和目标是否已经在我们的心中生根？我们是否已经变得更加坚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7120" y="54936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所以，今天我们在填写我们志愿的学校时，我们的心中应该想着我们更远大的理想。我们只是在为实现我们心中那更远大的理想而选择一所理想的高中，一所我们向往已久的，适合我们的，能造就我们伟大人生的又一所美丽的学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3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　　一个人就如他的梦想、他的理想、他的希望和他的计划一样伟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997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　　一个人的梦想有多伟大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他就有多伟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5157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伟大的梦想造就伟大的人生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1268280"/>
            <a:ext cx="85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如果谨慎的选择目标，我们就能利用好生命的潜能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1197000"/>
            <a:ext cx="86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疯狂英语的创始人李阳，从下决心攻克英语的第一天起，就给自己订立了崇高的目标：我要把英语说得和美国的电影演员一样，我要把英语说得和美国播音员一样！我要把英语说得非常标准，超越绝大多数美国人！这个目标李阳早就达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在上大学的时候，李阳就在自己的笔记本上写下了“让三亿中国人讲一口流利的英文，让中国之声响彻全世界”的誓言！尽管当时有很多朋友不理解，甚至老师也不理解，认为不可思议，但是，我们看到他确实背负着这个梦想上了路！多少年来这个梦想一直激励着他忘我地工作，以至于成了他的精神支柱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501336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因为李阳的目标远远超越普通的英语学习者，所以李阳的成就也就远远超越了他们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23:58:3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23:46Z</dcterms:modified>
  <cp:revision>34</cp:revision>
  <dc:subject>主题班会课件(分28大类): http://shop62905894.taobao.com</dc:subject>
  <dc:title>主题班会课件(分28大类): http://shop62905894.taobao.com</dc:title>
</cp:coreProperties>
</file>