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reeze.wav" ContentType="audio/x-wav"/>
  <Override PartName="/ppt/media/camera.wav" ContentType="audio/x-wav"/>
  <Override PartName="/ppt/media/image14.wmf" ContentType="image/x-wmf"/>
  <Override PartName="/ppt/media/image18.gif" ContentType="image/gif"/>
  <Override PartName="/ppt/media/push.wav" ContentType="audio/x-wav"/>
  <Override PartName="/ppt/media/image3.png" ContentType="image/png"/>
  <Override PartName="/ppt/media/image17.jpeg" ContentType="image/jpeg"/>
  <Override PartName="/ppt/media/image13.jpeg" ContentType="image/jpeg"/>
  <Override PartName="/ppt/media/image7.jpeg" ContentType="image/jpeg"/>
  <Override PartName="/ppt/media/voltage.wav" ContentType="audio/x-wav"/>
  <Override PartName="/ppt/media/wind.wav" ContentType="audio/x-wav"/>
  <Override PartName="/ppt/media/image16.jpeg" ContentType="image/jpeg"/>
  <Override PartName="/ppt/media/image15.png" ContentType="image/png"/>
  <Override PartName="/ppt/media/drumroll.wav" ContentType="audio/x-wav"/>
  <Override PartName="/ppt/media/chimes.wav" ContentType="audio/x-wav"/>
  <Override PartName="/ppt/media/image6.gif" ContentType="image/gif"/>
  <Override PartName="/ppt/media/suction.wav" ContentType="audio/x-wav"/>
  <Override PartName="/ppt/media/image8.png" ContentType="image/png"/>
  <Override PartName="/ppt/media/image19.gif" ContentType="image/gif"/>
  <Override PartName="/ppt/media/image2.gif" ContentType="image/gif"/>
  <Override PartName="/ppt/media/image5.png" ContentType="image/png"/>
  <Override PartName="/ppt/media/image10.jpeg" ContentType="image/jpeg"/>
  <Override PartName="/ppt/media/whoosh.wav" ContentType="audio/x-wav"/>
  <Override PartName="/ppt/media/image1.jpeg" ContentType="image/jpeg"/>
  <Override PartName="/ppt/media/coin.wav" ContentType="audio/x-wav"/>
  <Override PartName="/ppt/media/image9.jpeg" ContentType="image/jpeg"/>
  <Override PartName="/ppt/media/image11.png" ContentType="image/png"/>
  <Override PartName="/ppt/media/image4.png" ContentType="image/png"/>
  <Override PartName="/ppt/media/image12.jpeg" ContentType="image/jpeg"/>
  <Override PartName="/ppt/media/cashreg.wav" ContentType="audio/x-wav"/>
  <Override PartName="/ppt/media/hammer.wav" ContentType="audio/x-wav"/>
  <Override PartName="/ppt/media/arrow.wav" ContentType="audio/x-wav"/>
  <Override PartName="/ppt/media/bomb.wav" ContentType="audio/x-wav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EB1-5A72-4BC4-BE81-88DA216F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0C2-06E5-4118-B14C-AA193E49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BA4-8AB7-4679-BF91-5F8B4161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308-5643-4F98-873B-4A1A1473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323-0120-4B6A-BB42-C2306BF6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FE0-0A84-4711-9354-DFABFBF9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7EE-BE55-47E1-A2F0-4B77AFB0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67B-820D-498B-83D7-92D0D929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1B5-1F21-433A-AAC6-C75F087F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7F2-C155-4601-8CF0-A365F23F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E2D-22FE-4614-8543-91E9EA1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033-5EB8-4D01-8654-A57A58F2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2CCA-C3A9-4695-9BA4-A1D2F068BF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hamm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Rar$DI00.437/&#25105;&#30340;&#26410;&#26469;&#19981;&#26159;&#26790;.mp3" TargetMode="External"/><Relationship Id="rId2" Type="http://schemas.openxmlformats.org/officeDocument/2006/relationships/hyperlink" Target="file:///../Local%20Settings/Temp/Rar$DI00.437/&#25105;&#30340;&#26410;&#26469;&#19981;&#26159;&#26790;.mp3" TargetMode="External"/><Relationship Id="rId3" Type="http://schemas.openxmlformats.org/officeDocument/2006/relationships/hyperlink" Target="file:///../Local%20Settings/Temp/Rar$DI00.437/&#25105;&#30340;&#26410;&#26469;&#19981;&#26159;&#26790;.mp3" TargetMode="External"/><Relationship Id="rId4" Type="http://schemas.openxmlformats.org/officeDocument/2006/relationships/image" Target="../media/image14.wmf"/><Relationship Id="rId5" Type="http://schemas.openxmlformats.org/officeDocument/2006/relationships/audio" Target="file:///tmp/home/.config/libreoffice/4/user/gallery/camera.wav" TargetMode="External"/><Relationship Id="rId6" Type="http://schemas.microsoft.com/office/2007/relationships/media" Target="file:///tmp/home/.config/libreoffice/4/user/gallery/camera.wav" TargetMode="External"/><Relationship Id="rId7" Type="http://schemas.openxmlformats.org/officeDocument/2006/relationships/image" Target="../media/image8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audio" Target="../media/projctor.wav"/><Relationship Id="rId14" Type="http://schemas.openxmlformats.org/officeDocument/2006/relationships/audio" Target="../media/hammer.wav"/><Relationship Id="rId15" Type="http://schemas.openxmlformats.org/officeDocument/2006/relationships/audio" Target="../media/suction.wav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bomb.wav" TargetMode="External"/><Relationship Id="rId3" Type="http://schemas.microsoft.com/office/2007/relationships/media" Target="file:///tmp/home/.config/libreoffice/4/user/gallery/bomb.wav" TargetMode="External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hoosh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audio" Target="../media/suction.wav"/><Relationship Id="rId4" Type="http://schemas.openxmlformats.org/officeDocument/2006/relationships/audio" Target="../media/cashreg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ush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380880"/>
            <a:ext cx="5400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放飞理想</a:t>
            </a:r>
            <a:endParaRPr b="1" lang="en-US" sz="1800" spc="-1" strike="noStrike">
              <a:ln w="255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0" y="594360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二（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）班主题班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990680" y="247644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PMingLiU"/>
              </a:rPr>
              <a:t>Dream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PMingLiU"/>
              <a:ea typeface="PMingLiU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09480" y="2133720"/>
            <a:ext cx="579132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80"/>
                  </a:solidFill>
                  <a:prstDash val="dash"/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把握青春</a:t>
            </a:r>
            <a:endParaRPr b="1" lang="en-US" sz="1800" spc="1" strike="noStrike">
              <a:ln w="9360">
                <a:solidFill>
                  <a:srgbClr val="008080"/>
                </a:solidFill>
                <a:prstDash val="dash"/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中学生选择未来职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1125360"/>
          <a:ext cx="8569080" cy="5399280"/>
        </p:xfrm>
        <a:graphic>
          <a:graphicData uri="http://schemas.openxmlformats.org/drawingml/2006/table">
            <a:tbl>
              <a:tblPr/>
              <a:tblGrid>
                <a:gridCol w="2371680"/>
                <a:gridCol w="1912680"/>
                <a:gridCol w="2698920"/>
                <a:gridCol w="1585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职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分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职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分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设计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警察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律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艺术家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生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业科技人员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演员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资企业职员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商人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企业家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运动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裁判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记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军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科学家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学教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305000" y="457200"/>
            <a:ext cx="684828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29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让我们来听听名人谈理想吧！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ransition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1112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404640"/>
            <a:ext cx="878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2f0dfb"/>
                </a:solidFill>
                <a:latin typeface="Arial"/>
              </a:rPr>
              <a:t>世界上最快乐的事，莫过于为理想而奋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2f0dfb"/>
                </a:solidFill>
                <a:latin typeface="Arial"/>
              </a:rPr>
              <a:t>苏格拉底 </a:t>
            </a:r>
            <a:br>
              <a:rPr sz="4000"/>
            </a:b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2f0dfb"/>
                </a:solidFill>
                <a:latin typeface="Arial"/>
              </a:rPr>
              <a:t>理想是指路明灯。没有理想，就没有坚定的方向；没有方向，就没有生活。</a:t>
            </a:r>
            <a:br>
              <a:rPr sz="4000"/>
            </a:b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  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——列夫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2f0dfb"/>
                </a:solidFill>
                <a:latin typeface="Arial"/>
              </a:rPr>
              <a:t>托尔斯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2f0dfb"/>
                </a:solidFill>
                <a:latin typeface="Arial"/>
              </a:rPr>
              <a:t>生活好比旅行，理想是旅行的路线，失去了路线，只好停止前进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2f0dfb"/>
                </a:solidFill>
                <a:latin typeface="Arial"/>
              </a:rPr>
              <a:t>雨果</a:t>
            </a:r>
            <a:br>
              <a:rPr sz="4000"/>
            </a:br>
            <a:r>
              <a:rPr b="1" lang="en-US" sz="4000" spc="-1" strike="noStrike">
                <a:solidFill>
                  <a:srgbClr val="2f0dfb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听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《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我的未来不是梦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33520" y="1523880"/>
            <a:ext cx="4286160" cy="335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09480" y="497664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华文新魏"/>
              </a:rPr>
              <a:t>听了这首歌你有什么感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华文新魏"/>
              </a:rPr>
              <a:t>你联想到什么没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5638680" y="28954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31324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71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刚才，我们一起欣赏了张雨生演唱的《我的未来不是梦》。我想，未来对于我们来说，就像是一扇神奇的大门，这扇门里藏着无穷的未知和可能，而且，不同的人肯定会设计出自己不同的未来。有的人把自己的未来设计地很伟大，有的人把自己的未来设计地很朴实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8280" y="5410080"/>
            <a:ext cx="6705720" cy="838440"/>
          </a:xfrm>
          <a:prstGeom prst="bevel">
            <a:avLst>
              <a:gd name="adj" fmla="val 12500"/>
            </a:avLst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320" y="5257800"/>
            <a:ext cx="441936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62120" y="2666880"/>
            <a:ext cx="59436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我的未来我负责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师哥师姐们在高三的感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每天都在忙忙碌碌的，总觉的有很多以前学习过的内容现在都不会，时间总是不够用，不知道怎样去参加高考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5053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总觉得前途太渺茫了，再九个月的时间就要高考    了，我不知道自己该怎样去面对。如果现在是高一高二就好了， 我一定要 认认真真学习，现在也就不至于压力这么大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1052640"/>
            <a:ext cx="8497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没有远大理想和崇高生活目的的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像一只没有翅膀的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台没有马达的机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盏没有钨丝的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－－张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志气太大，理想太多，事实迎不上来，结果自然是失望烦闷；志气太小，因循苟且，麻木消沉，结果就必至于堕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－－朱光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0"/>
            <a:ext cx="369576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名人名言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47628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没有目标，我们就不会努力，因为我们不知道为什么要努力；没有目标，我们几乎会同时失去机遇、运气和别人的支持，因为我们不知道自己到底想要什么，也就没有什么能够帮助得了你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7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7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33336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寄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341360"/>
            <a:ext cx="8002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一份耕耘，一份收获。为了自己的理想， 为了父母的希望，为了学到更深更广的科学文化知识，希望同学们能够勤奋学习，刻苦钻研，为了创造一个美好的明天而努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时光匆匆</a:t>
            </a: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转眼间</a:t>
            </a: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在座的大家都已经升上高二了</a:t>
            </a: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我们不再是懵懵懂懂的新生</a:t>
            </a: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我们有我们自己的计划、有自己的理想、自己的奋斗目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05320" y="30456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目标是人生大海中的舵标，能够使我们在遭遇混乱或阻力时，继续循正确的路径前进；而人们寻求人生目标的理由之一，就是他们内心渴望能够归属于一项重要任务、事业或者使命，所谓有标才有力。人生需要自己来耕耘，自己的未来靠自己争取、创造，我们自己的未来要我们自己负责的，同学们，让我们一起努力共同创造美好的明天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6840360" cy="165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909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480" y="20574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09480" y="609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5812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33520" y="41911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971800" y="2286000"/>
            <a:ext cx="2952720" cy="24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572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7467480" y="228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7772400" y="4038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7620120" y="1676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7696080" y="29718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38280" y="83808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华文彩云"/>
                <a:ea typeface="华文彩云"/>
              </a:rPr>
              <a:t>愿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华文彩云"/>
                <a:ea typeface="华文彩云"/>
              </a:rPr>
              <a:t>　</a:t>
            </a:r>
            <a:r>
              <a:rPr b="0" lang="zh-CN" sz="4400" spc="-1" strike="noStrike">
                <a:solidFill>
                  <a:srgbClr val="2b6367"/>
                </a:solidFill>
                <a:latin typeface="华文彩云"/>
                <a:ea typeface="华文彩云"/>
              </a:rPr>
              <a:t>插上理想的翅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6367"/>
                </a:solidFill>
                <a:latin typeface="华文彩云"/>
                <a:ea typeface="华文彩云"/>
              </a:rPr>
              <a:t>　飞向明天的辉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4920" y="83664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5950080"/>
            <a:ext cx="8763120" cy="37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610480" cy="36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80880" y="2133720"/>
            <a:ext cx="830592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永远相信远方，永远相信梦想。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687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3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38088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理想是什么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8120" y="457200"/>
            <a:ext cx="10666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38088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MingLiU"/>
              </a:rPr>
              <a:t>请欣赏《理想》流沙河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MingLiU"/>
              <a:ea typeface="PMingLiU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7315200" y="2895480"/>
            <a:ext cx="7650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28800" y="13716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各抒己见：</a:t>
            </a:r>
            <a:endParaRPr b="0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76520" y="2971800"/>
            <a:ext cx="5143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理想像什么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理想像什么？有人说，理想无影无形，无色无臭，什么也不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说，理想像满天繁星，驱散夜空的黑暗；理想像猎猎劲风，鼓起生命的风帆；理想像灰姑娘的水晶鞋，展现生命的光华；理想像展翅高翔的海燕，呼唤着生命风暴的更加猛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对于今天的我们来说，理想更像高悬天际的启明星，指引我们攻坚克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占领人生的制高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速联想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5520" y="3962520"/>
            <a:ext cx="871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同学们有明确的目标或梦想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你的目标或理想是什么？你知不知道它们的重要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95280" y="1066680"/>
            <a:ext cx="6629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梦想与未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0492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你的目标或理想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3048120"/>
            <a:ext cx="5715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PMingLiU"/>
              </a:rPr>
              <a:t>各抒己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PMingLiU"/>
              <a:ea typeface="PMingLiU"/>
            </a:endParaRPr>
          </a:p>
        </p:txBody>
      </p:sp>
    </p:spTree>
  </p:cSld>
  <p:transition spd="slow"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43:23Z</dcterms:modified>
  <cp:revision>41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