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9B9-D120-4C8A-AB8F-3A8A7386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B59-D82C-4E2B-BA75-01BFB1EC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659-BD81-43FF-ABAC-5CB2AA1B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064-47E1-46CF-8C9B-E3CB9239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FC5-F22E-45E0-94E8-754C6AE9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AE0-DB1C-4749-B01D-6572C8C3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372-1909-43D5-A90C-BF940FC4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BAE-1629-452F-84E8-9F141679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4E5-D6E8-46F6-A4EB-68FC58A3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A96-249D-43BF-B37D-5C2A439B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F60-699D-426D-9E2F-A0051EFD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5E1-8F73-4DAD-969E-6E34B326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63AC-6C60-4C20-BA7E-F6C8B48B22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0280" y="914400"/>
            <a:ext cx="5574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年轻的心属于梦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年轻的梦是一种追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扬起风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我们一起去远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不在乎前方有多渺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不在乎今后会有多少风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因为小小的心儿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藏着一个个的梦想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30240" y="1295280"/>
            <a:ext cx="1716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宋体-方正超大字符集"/>
              </a:rPr>
              <a:t>我们的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琥珀"/>
              </a:rPr>
              <a:t>理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宋体-方正超大字符集"/>
              </a:rPr>
              <a:t>我们会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琥珀"/>
              </a:rPr>
              <a:t>成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360" y="2707920"/>
            <a:ext cx="7416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cc"/>
                </a:solidFill>
                <a:latin typeface="Arial"/>
                <a:ea typeface="华文中宋"/>
              </a:rPr>
              <a:t>理想是力量的泉源、智慧的摇篮、冲锋的战旗、斩棘的利剑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3672000" cy="29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887640" cy="301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76360" y="4219560"/>
            <a:ext cx="3457440" cy="2638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219640" y="4292640"/>
            <a:ext cx="3924360" cy="256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67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67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67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67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26668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华文细黑"/>
              </a:rPr>
              <a:t>上路，尽可以创造你五彩的年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华文细黑"/>
              </a:rPr>
              <a:t>启程，尽可以奏响你生命的乐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066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3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年后路在何方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----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成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46c"/>
                </a:solidFill>
                <a:latin typeface="Arial"/>
              </a:rPr>
              <a:t>影响人才成长的自身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1.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崇高的成才目标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. </a:t>
            </a:r>
            <a:br>
              <a:rPr sz="6600"/>
            </a:b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2.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合理的智能结构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. </a:t>
            </a:r>
            <a:br>
              <a:rPr sz="6600"/>
            </a:b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3.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良好的身体素质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. </a:t>
            </a:r>
            <a:br>
              <a:rPr sz="6600"/>
            </a:b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4.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顽强的拼搏奋斗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  <a:ea typeface="_x000b__x000c_"/>
              </a:rPr>
              <a:t>成才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的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  <a:ea typeface="_x000b__x000c_"/>
              </a:rPr>
              <a:t>五个步骤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、人要在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18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岁以前确立人生目标，如果一个人在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18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岁都还没有确立目标的话，那这个人就没有作为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、为了实现自己的目标打下坚实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、自己要学会总结，人每总结一次，人自身就会上升一个台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、再看看自己所定的目标是否过高，从而修正自己的目标、理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、要坚持不懈的为自己所定的目标努力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685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幼圆"/>
              </a:rPr>
              <a:t>如何成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828800"/>
            <a:ext cx="75438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坚定你的理想，确定你的人生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不怕慢只怕站，时刻为自己的成才铺垫一条坚实的道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幼圆"/>
                <a:hlinkClick r:id="rId1" action="ppaction://hlinksldjump"/>
              </a:rPr>
              <a:t>3.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幼圆"/>
                <a:hlinkClick r:id="rId2" action="ppaction://hlinksldjump"/>
              </a:rPr>
              <a:t>在人生的旅途中无论我们遇到什么，拥有什么，失去什么，都不要忘记理想，忘记成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选择适合自己的方式，不要人云亦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时刻充满自信，相信自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关心热爱他人，帮助他人，先学会做一个好人，再去学做一个对社会有用的栋梁之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1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8380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不要因为我们曾经跌倒，就再不愿站起来而忘记赶路，到头来只会使自己一无所有；不要因为前方一路风雨，就犹豫徘徊畏缩不前，到头来只会使充满希望的生命之花凋谢枯萎；不要因为往昔的辉煌而忘乎所以，沉湎其中而不能自拔，到头来只会使如火的激情悄然熄灭。                     ————格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4960" y="685800"/>
            <a:ext cx="6788160" cy="546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838080" y="1066680"/>
            <a:ext cx="762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63244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黑猫白猫，抓到耗子就是好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送你一句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一个人的成才不是天生。 </a:t>
            </a: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一个人的成功也不是天生。 </a:t>
            </a: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  成才是他（她）爱学。不论什么时间，什么地方。 </a:t>
            </a: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  成功是他（她）奋斗。不论多么坚苦，多么困难。 </a:t>
            </a: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走下去是他们成功的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5365800" cy="5977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20000" y="1295280"/>
            <a:ext cx="1079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5400000">
            <a:off x="5106600" y="2665440"/>
            <a:ext cx="5184720" cy="122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的未来不是梦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幼圆"/>
              </a:rPr>
              <a:t>未来在我们手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7201080" cy="511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理想与成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914400"/>
            <a:ext cx="735480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昨天的理想就是今天的希望。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今天的理想就是明天的现实。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扬起理想风帆，驶向未来彼岸。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未来在召唤，明天会更好！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2280" y="3809880"/>
            <a:ext cx="8991720" cy="224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祝大家在即将到来的月考中取得成功</a:t>
            </a:r>
            <a:endParaRPr b="0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4565520" y="3424320"/>
            <a:ext cx="12960" cy="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4565520" y="3424320"/>
            <a:ext cx="12960" cy="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1219320" y="3808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391520" cy="552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066680"/>
            <a:ext cx="457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想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会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实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81480" y="1066680"/>
            <a:ext cx="2800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骨头在哪里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琥珀"/>
              </a:rPr>
              <a:t>理想的乐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6201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 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宋体"/>
              </a:rPr>
              <a:t>  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理想，一个既响亮而又富有诗意的名词，它是一种意志，一种精神，一种追求。</a:t>
            </a:r>
            <a:br>
              <a:rPr sz="2800"/>
            </a:b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     理想，对于我们来说具有非凡的魅力。我们想像鸟儿一样，在理想的天地间自由地飞翔；我们想用冰川雨雪给心灵一次彻底的洗礼；我们想用青春的双脚，去征服生活的崇山峻岭；我们想在夕阳余晖中将跋涉的身形塑成执著的剪影；为了青春的渴望，来吧，让我们一起走向坎坷不平而又遥远的里程！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58560" y="1197000"/>
            <a:ext cx="76201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早在两千多年前，作为一名普通农民的陈胜，就有要成为一个为国捐躯的英雄的理想，他树立了要推翻秦王朝残暴统治的志向，因此，当人讥笑他时，他就豪迈地说：小鸟怎么能知道大雁的志向呢？理想使他终于在大泽乡领导了中国历史上的第一次农民起义，成为农民起义的领袖。试想：如果他没有这远大的理想，能在大泽乡一下子鼓动并领导农民起来斗争吗？可见理想是多么重要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476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理想的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6201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优秀共青团员张海迪从小就身患绝症随时都受到死亡的威胁，但她却做出了很多正常人所做不到的事情，这岂不是奇迹？这是因为她从小树立了远大的理想，立志要成为一个对祖国对人民有用的人。有了理想，她就力量倍增，勇敢地向困难挑战，顽强地战胜困难而取得成功。理想简直就成了滋润她生命的甘露。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533520"/>
            <a:ext cx="685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如果说生活是一张白纸，等待我们用血水和泪水描绘自己的奋斗和拼搏的轨迹，那么生命便是一枝铅笔，它总是用自己瘦瘦的身躯，在洁白的素笺上流泻出笔底的风风雨雨…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生命是一枝铅笔，你可以用它为自己的未来设计充满喜悦与渴望的蓝图，也可以用灯下苦读的身影做细线条，自己紧张而丰富的生活勾勒出一幅充满活力的图画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333600" cy="4457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21387600">
            <a:off x="906480" y="3580920"/>
            <a:ext cx="320040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命是一支铅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62440" y="1371600"/>
            <a:ext cx="6275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．年轻，就是要把垦荒的犁紧握手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．年轻，就是要将挑战的剑举过头顶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c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．年轻，就是面对艰难曲折傲之以微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．年轻，就是诠释生命价值的创造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5120" y="304920"/>
            <a:ext cx="5410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年轻的责任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--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理想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如何树立理想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一、    理想变为现实，要有百折不挠的精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二、    理想变为现实，必须从平凡的工作做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2:30:3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41:59Z</dcterms:modified>
  <cp:revision>1</cp:revision>
  <dc:subject>主题班会课件(分28大类): http://shop62905894.taobao.com</dc:subject>
  <dc:title>主题班会课件(分28大类): http://shop62905894.taobao.com</dc:title>
</cp:coreProperties>
</file>