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18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46.jpeg" ContentType="image/jpeg"/>
  <Override PartName="/ppt/media/image48.png" ContentType="image/png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9.wmf" ContentType="image/x-wmf"/>
  <Override PartName="/ppt/media/image9.wmf" ContentType="image/x-wmf"/>
  <Override PartName="/ppt/media/image43.jpeg" ContentType="image/jpeg"/>
  <Override PartName="/ppt/media/image12.wmf" ContentType="image/x-wmf"/>
  <Override PartName="/ppt/media/image44.jpeg" ContentType="image/jpeg"/>
  <Override PartName="/ppt/media/image45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47.jpeg" ContentType="image/jpeg"/>
  <Override PartName="/ppt/media/image36.wmf" ContentType="image/x-wmf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.wmf" ContentType="image/x-wmf"/>
  <Override PartName="/ppt/media/image33.wmf" ContentType="image/x-wmf"/>
  <Override PartName="/ppt/media/image29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504-5F76-4329-98A4-0BDEF102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802-444B-4924-AB64-CB7BF6A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724-46CE-4F96-96AB-57EC2060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235-FC58-4D69-91D0-0B3978EF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5F1-0D2A-4CFB-9D87-11EAA22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10E-DA06-4988-AD43-A41020A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C4E-4F31-4CDF-BA33-10419C9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F0D-A920-4399-93A1-B810E48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4F1-EE26-4050-A738-C83BD97C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0CA-5DD3-4FE2-98E7-8564F9D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4DF-DB8C-461C-8958-9336F73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6D1-5654-4BAA-8AE2-EC4E0C57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CAA-39C9-4A92-A522-7AF943CC4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c.pconline.com.cn/imgcounter.jsp?dltypeid=4&amp;dlid=262&amp;linkid=26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dlersoeasy.139.com/photo/204185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ingku.com/vote/pic_LHNCXLU_WHMW.html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3840" y="189000"/>
            <a:ext cx="88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957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88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3920" y="171360"/>
            <a:ext cx="86961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8720" y="512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584280"/>
            <a:ext cx="8497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055520"/>
            <a:ext cx="7993080" cy="470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95480" y="112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温州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3840" y="485640"/>
            <a:ext cx="88963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5840" y="542880"/>
            <a:ext cx="8572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127160"/>
            <a:ext cx="8207280" cy="4603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7964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西安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11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40720" y="476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心，在云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http://51tech.net/pic/20041014203819.jpg"/>
          <p:cNvPicPr/>
          <p:nvPr/>
        </p:nvPicPr>
        <p:blipFill>
          <a:blip r:embed="rId12"/>
          <a:stretch/>
        </p:blipFill>
        <p:spPr>
          <a:xfrm>
            <a:off x="900000" y="907920"/>
            <a:ext cx="7166160" cy="538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14480" y="502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北京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697440" cy="5357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823880" y="863640"/>
            <a:ext cx="789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剑  桥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8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爱因斯坦说过，没有理想的生活，那是猪栏的生活。愿我们每一位挺起腰板，远离猪栏。如此，数十年后，当我们回首往事时，我们可以无愧无悔地说：从公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日起，我以一个直立的人行走至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距高考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，也许我们已失却了追求许多梦想的良机，但我们完全可以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每门增加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多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我们每位都可以笑傲高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24720" y="907920"/>
            <a:ext cx="3838320" cy="1557000"/>
          </a:xfrm>
          <a:prstGeom prst="rect">
            <a:avLst/>
          </a:prstGeom>
          <a:solidFill>
            <a:srgbClr val="c9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路，在脚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76500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让我们来追寻高考状元们的足迹，撷取智慧的火花，点燃照亮我们的星空的火炬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74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山东省高考理科状元张博然总结了自己的学习经验，主要有两个方面：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一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注重效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做题时要抓住试题的规律，即从一个有代表性的试题中发现此类问题的一般性规律，并举一反三，触类旁通。这样，学习就成为主动思考、探究的过程，不但感到轻松而有趣，还可以大大提高效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第二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培养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在平时学习的时候，老师就鼓励大家要树立必胜的信心，班里所有同学也都在考前相互鼓励。最后，他们创造了一个奇迹：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班级所有同学都考过了重点大学录取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891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课堂巧做笔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课堂上要保持旺盛的精力、敏捷的思维、敏感的捕捉信息的能力。语文、英语，、化学、生物这些全都要做笔记，你要跟住老师。老师都富于经验，他知道哪里容易出题，哪里是重点，以前的学生在哪容易出错，他会在讲课时一一渗透出来。所以你要时刻“警惕”，老师很不经意的一句话可能就是症结所在。而且一定要记老师的板书，好的板书是一节课的脉络，高中三年记下来后这就是你最大的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吉林理科状元    薛蓬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260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文：多揣摩高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阅读很灵活，并不是文章读懂就一定能拿高分，需要一定的答题技巧。高三时，我找出历年高考题中阅读的部分，先把文章读熟读通，然后自己组织答案，不需要用笔写出来，再和标准答案进行对照，看自己的语言组织和思考的线索方面和参考答案有什么区别，让自己的思维逐渐接近命题者的思维，这样在考场上，就比较容易答出和参考答案相近的答案，并且可以让自己的语言组织和思路更清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安徽省文科状元   曹姗   高考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760" y="333360"/>
            <a:ext cx="8985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数学：追根溯源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科生有句话叫“物理难，化学烦、数学作业做不完”，可见数学题的数量之惊人。所以，我并不提倡题海战术，做题应该是少而精，做一道就有一道的收获。在数学中注重比较、归纳和对题型的深入挖掘，不同的题常常有相同的本质，而同一道题也能发散、演变成许多不同的题。其内在具有一种规律性。在具体操作上就是找同一方面的典型题来研究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川文科状元    陈璇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77840"/>
            <a:ext cx="896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英语：经典句型记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“万变不离其宗”，这在英语上表现得最为明显。所有繁杂的知识点，都能融入一个个生动的句子中，句子尽管千变万化，但其中包含的语法不会变。而记下经典例句，往往比记下枯燥的语法知识要容易得多。对每一个知识点选择若干个经典例句，反复朗读，直到能熟练地运用，目的就达到了。经典例句，可以从课文中选，可以从做过的完型填空和阅读理解中选，可以从读过的课外读物中选……一切由你，但总的原则是句子要好记。如果有能力，不妨让你的经典例句复杂一点，比如把几种从句放入一个大句子中，平日里想一想，读一读，上考场时就可以用上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湖南文科状元    高焓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星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孩子的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岁时，她梦想当一名飞行员，翱翔在蔚蓝的苍穹，然后把飞机停在学校的操场上，载上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爸妈妈周游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七岁时，深邃的星空、灵动的星星引起了她无限的向往，她的心里植下了另一棵幼苗——当一名天文学家，去探索神秘的宇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四岁，她又想成为一名特警，只是羡慕那飒爽的英姿、传奇的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现在，她的向往趋于平淡，她渴望走进理想的大学，由此开始自己奋进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梦想，也许虚幻，但它却是掀起人生波澜的东风。让我们放飞我们的梦想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3120" y="189000"/>
            <a:ext cx="88408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化学：总结规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别把化学当作化学来学，而应把它当作数学或物理来学，也就是说，不要将化学看成是死记硬背的科目，其实化学中也是有许多规律的，很多同学抱怨化学方程式难记，其实根本不用记，给出确定的反应物，利用学过的知识分析反应物的化学物理性质，再结合原子守恒，氧化还原等规律，很容易就能写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河南理科状元 张超杰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266760"/>
            <a:ext cx="88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生物：构建知识网络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的识记内容相当多，联系又相当复杂，因此我倾向于制作知识网络图，将三册生物书归纳在一起，找到知识点的联系。相对物理，化学而言，生物的书写量大，对科学语言的表述要求很高，特别是实验设计、语言组织很重要，也很有难度。这就还需要熟练掌握书本上实验的步骤与叙述。        （ 湖北理科状元    李龙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1840" y="122400"/>
            <a:ext cx="89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虽然状元们的学习方法不能普遍适用于每一个同学，但是那些具有普遍性的学习经验有哪些呢？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视阅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大量阅读名著，大量阅读报纸、杂志。他们认为课外阅读对提高语文 能力和阅读能力很有帮助。学习英语也是大量阅读文章，这对提高语感，提高语法知识也颇有益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专心听讲勤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状元们在学习方法上的一个共同特点就是上课用心听讲，课后把老师布置的作业用心做好，多加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20640"/>
            <a:ext cx="89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勤学加巧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学习要刻苦，学习要勤奋，这是颠扑不破的一条真理。但是努力的目标，努力的手段，努力途径是什么，这是一个关键问题。只有做到巧学，才不会成为题海的牺牲者，溺水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我们平时说“勤学苦练”。苦，并不是“傻”的意思，而是说，练功时，第一，不要怕苦；第二，要苦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33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习题的主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不做习题的奴隶，这也是他们共同的学习方法。他们认为，做题不要太多，要精要多思考，同一题型做几道找到了规律即可。高考状元中，尚未发现一名没完没了地做题的同学。要使自己成为驾驭习题的人，要使做题为提高自己的学习质量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60280"/>
            <a:ext cx="882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师傅领进门，修炼在自身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是辛苦的，是智慧的，是个性的。愿我们每位同学发挥自己的聪明才智，寻找适合自己的学习方法，让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结出丰硕的果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醒各位，学习首先是辛苦的，要舍得一身剐，才能把皇帝拉下马。舍此，一切都是水中月，镜中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后，让我们一起放飞我们的梦想——（全体朗诵下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060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没有理想的生活，那是猪栏的生活。我们要挺起腰板，远离猪栏。我们宣誓：从公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日起，我要以一个直立的人格形象行走人生长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距高考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，也许我们已失却了追求许多梦想的良机，但我们完全可以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每门增加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为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我们甘愿流淌奋斗的汗水，抛洒牺牲的血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考，请为我们作证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26028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为有牺牲多壮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敢教日月换新天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3040" y="2571840"/>
            <a:ext cx="3990960" cy="4286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5219640" cy="3382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556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9973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http://51tech.net/pic/20041014203548.jpg"/>
          <p:cNvPicPr/>
          <p:nvPr/>
        </p:nvPicPr>
        <p:blipFill>
          <a:blip r:embed="rId12"/>
          <a:stretch/>
        </p:blipFill>
        <p:spPr>
          <a:xfrm>
            <a:off x="755640" y="527040"/>
            <a:ext cx="7632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ttp://51tech.net/pic/20041014203650.jpg"/>
          <p:cNvPicPr/>
          <p:nvPr/>
        </p:nvPicPr>
        <p:blipFill>
          <a:blip r:embed="rId1"/>
          <a:stretch/>
        </p:blipFill>
        <p:spPr>
          <a:xfrm>
            <a:off x="1187280" y="765000"/>
            <a:ext cx="6767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吴邦国出席复旦百年庆典并发表讲话"/>
          <p:cNvPicPr/>
          <p:nvPr/>
        </p:nvPicPr>
        <p:blipFill>
          <a:blip r:embed="rId2"/>
          <a:stretch/>
        </p:blipFill>
        <p:spPr>
          <a:xfrm>
            <a:off x="324000" y="371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24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782640"/>
            <a:ext cx="7731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431120" cy="524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4800" y="1270080"/>
            <a:ext cx="789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厦  门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4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09:03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19:53Z</dcterms:modified>
  <cp:revision>24</cp:revision>
  <dc:subject>主题班会课件(分28大类): http://shop62905894.taobao.com</dc:subject>
  <dc:title>主题班会课件(分28大类): http://shop62905894.taobao.com</dc:title>
</cp:coreProperties>
</file>