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hoosh.wav" ContentType="audio/x-wav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CAC-2755-464D-AA3B-17AA923A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EA5-FF02-4FDA-B63C-3C747F6B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158-6C91-4BAB-B621-AA8A3D95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6AA-A1F0-448C-BE9F-73342902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2F8-F470-4F8D-BE6C-75200B5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5F3-4E14-444F-834D-E97B736F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3FB-8B49-4EC7-BB07-EC0E183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758-2812-4225-9667-E1B71C7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95F-4693-4FD2-A11E-83C6D7D4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0B8-9406-4A9E-9DEA-C3E3AFE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F5C-22FC-4168-B74E-02A0D26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6EC-C283-495B-A8AF-8740937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9CEE-08B3-4EFE-BFDC-BF3A908F1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3lian.com/img2008/03/021/gifbj044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6836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219320" y="2301840"/>
            <a:ext cx="982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童年，已经远去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成长，已经来临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40384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未来的路…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908000" y="765000"/>
            <a:ext cx="460872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心动不如行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5" name=""/>
          <p:cNvSpPr/>
          <p:nvPr/>
        </p:nvSpPr>
        <p:spPr>
          <a:xfrm>
            <a:off x="517680" y="5630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63560" cy="83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语言和行动两者之间，成功者选择做“行动的巨人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自己的目标确定一个行动的计划，否则明天永远不会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12000" y="4941720"/>
            <a:ext cx="2592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Ac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amond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有这样一则故事，三位砌砖工人在工作，有人问他们在做什么，他们的回答各不相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一个说是“砌砖，一个说是“赚工资”，而第三个却自豪地说：“我正在创造世界上最富有特色的房子。”正是这位工匠有了这一远大的理想，后来才成为有名的建筑大师，而另两位则一生默默无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03280" y="3429000"/>
            <a:ext cx="6858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人活着要有远大的理想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托尔斯泰－－他将人生的理想分为一辈子的理想，一个阶段的理想，一年的理想，一个月的理想，甚至一天，一分钟的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7086600" cy="957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3284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句话，生活中时时都应有理想。我们的童年，已经远去；成长，已经来临；未来的路我们该如何去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2923" t="18301" r="4491" b="115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141300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00720" y="475308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6680" y="189000"/>
            <a:ext cx="1521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考上大学有什么价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87360" y="189000"/>
            <a:ext cx="1521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考上大学有多少可能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成功无捷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1212840"/>
            <a:ext cx="676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“如果我兢兢业业工作一个月，我能转正吗？”老板答道：“你的问题让我想到一个冷房间的温度计，你用热手捂着它，能使表上显示温度上升，不过房间一点也不会温暖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4672080"/>
            <a:ext cx="6248520" cy="119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的成就是因为昨天的积累，明天的成功则有赖于今天的努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因为你有选择，你主载自己的人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84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981000"/>
            <a:ext cx="6948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上初中时，老师给我讲过一个故事：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故事讲完后，老师问：“这个故事有什么问题吗？”我们说：“兔子不会爬树。”， “一只兔子不可能同时砸晕三只猎狗。” “还有哪？”老师继续问。直到我们再找不出问题了，老师才说：“可是还有一个问题，你们都没有提到，土拨鼠哪里去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197240"/>
            <a:ext cx="6716520" cy="119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自己心目中的目标哪去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简单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836640"/>
            <a:ext cx="67201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从前，有两个饥饿的人得到了一位长者的恩赐：一根鱼杆和一篓鲜活硕大的鱼。经过谈判，其中，一个人得到了一篓鱼，另一个得到了一根鱼杆。得到鱼的人原地就用干柴搭起篝火煮起了鱼，他狼吞虎咽，还没有品出鲜鱼的肉香，转瞬间，连鱼带汤就被他吃了个精光，不久，他便饿死在空空的鱼篓旁。另一个人则提着鱼杆继续忍饥挨饿，一步步艰难地向海边走去，可当他已经看到不远处那片蔚蓝色的海洋时，他浑身的最后一点力气也使完了，他也只能眼巴巴地带着无尽的遗憾撒手人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又有两个饥饿的人，他们同样得到了长者恩赐的一根鱼杆和一篓鱼。只是经过谈判，他们并没有各奔东西，而是商定共同去找寻大海，他俩每次只煮一条鱼，他们经过遥远的跋涉，来到了海边，从此，两人开始了捕鱼为生的日子，几年后，他们盖起了房子，有了各自的家庭、子女，有了自己建造的渔船，过上了幸福安康的生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4941720"/>
            <a:ext cx="6680160" cy="119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付出以行动以前先得思考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时候，一个简单的道理，却足以给人意味悠长的生命启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3352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目标——行动三角式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等号左边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示我们的目标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示我们的行动；等号右边则表示我们所取得的进步或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                                            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=0                                                           0+1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=0                                                       1+0+1=2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=0                                                   2+0+1+0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=0                                               3+0+1+0+1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+0=0                                           5+0+1+0+1+0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+0+0=0                                       7+0+1+0+1+0+1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+0+0+0=0                                   10+0+1+0+1+0+1+0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+0+0+0+0=0                               13+0+1+0+1+0+1+0+1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+0+0+0+0+0=0                           17+ 0+1+0+1+0+1+0+1+0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0+0+0+0+0+0+0+0+0+0=0                       21+ 0+1+0+1+0+1+0+1+0+1=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…………                                                           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73920" y="1700280"/>
            <a:ext cx="2819160" cy="1447560"/>
          </a:xfrm>
          <a:prstGeom prst="wedgeEllipseCallout">
            <a:avLst>
              <a:gd name="adj1" fmla="val -20777"/>
              <a:gd name="adj2" fmla="val 82675"/>
            </a:avLst>
          </a:prstGeom>
          <a:solidFill>
            <a:srgbClr val="d9e9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从三角式中得到了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333360"/>
            <a:ext cx="92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人成才要分五个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560" y="1052640"/>
            <a:ext cx="84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人要在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18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岁以前确立人生目标，如果一个人在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18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岁都还没有确立目标的话，那这个人就没有作为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56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336600"/>
                </a:solidFill>
                <a:latin typeface="华文楷体"/>
                <a:ea typeface="华文楷体"/>
              </a:rPr>
              <a:t>、为了实现自己的目标打下坚实基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2130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自己要学会总结，人每总结一次，人自身就会上升一个台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2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336600"/>
                </a:solidFill>
                <a:latin typeface="华文楷体"/>
                <a:ea typeface="华文楷体"/>
              </a:rPr>
              <a:t>、再看看自己所定的目标是否过高，从而修正自己的目标、理想。</a:t>
            </a:r>
            <a:r>
              <a:rPr b="0" lang="zh-CN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5300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要坚持不懈的为自己所定的目标努力学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29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1:33Z</dcterms:modified>
  <cp:revision>2</cp:revision>
  <dc:subject>主题班会课件(分28大类): http://shop62905894.taobao.com</dc:subject>
  <dc:title>主题班会课件(分28大类): http://shop62905894.taobao.com</dc:title>
</cp:coreProperties>
</file>