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8921-E805-4F6C-AF6D-5214A5D0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408-649A-4280-B58B-EB1C434B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461-18E9-416A-81EF-4C076B57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5EA-EC80-477B-9E5A-9DFFEB07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CF4BC-3CA9-448D-AF83-ADDE5A30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30BFB-440F-45F0-8852-55E91659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B4FE5-69F6-4EB0-A6B7-A8F8AAEE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5075F-5F9A-47A4-8346-95EC04A6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22ADA-84E0-4A79-BE29-5FD3C7B7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F43DF-1116-400D-AED9-6CF7E4A1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45323-3FC7-464C-AB90-1B434F89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7C7B-173F-4C69-B53E-B5DDBBE7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96199-ECA1-42BA-B9AE-94879420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8054B-FC5E-4F24-A2B8-3FC5B6A2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3340A-13BD-45DD-9385-DC6D127D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43629-5A1D-469D-A3C9-B7D500D5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C9B02-EE06-4F22-9E8F-9AF0177F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C821-8F59-4B7B-AD79-CEA42632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2CF8-E5F2-4C0E-AD80-CB0489EB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0EB-DA5B-4FA8-99FF-8F2C26A9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967-BBC1-4B54-9522-A58749B4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F30-DAC8-44A5-A642-32EB53AE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DD7-237D-41EB-AF78-BFE35A8A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7DD-D22E-416B-AB21-C1EDE3A5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5D88-CD6C-4904-BFCD-3DDF4AA43C3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4A5C-8CD3-41F9-A64A-E9DFC1C77DE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%B3%BE%B0&amp;in=9412&amp;cl=2&amp;cm=1&amp;sc=0&amp;lm=-1&amp;pn=5&amp;rn=1&amp;di=2559602124&amp;ln=200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%B3%BE%B0&amp;in=14813&amp;cl=2&amp;cm=1&amp;sc=0&amp;lm=-1&amp;pn=2&amp;rn=1&amp;di=234280776&amp;ln=2000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%B3%BE%B0&amp;in=14813&amp;cl=2&amp;cm=1&amp;sc=0&amp;lm=-1&amp;pn=2&amp;rn=1&amp;di=234280776&amp;ln=2000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qq%BF&#1404;%E4%B7%DB&#619;&amp;in=16656&amp;cl=2&amp;cm=1&amp;sc=0&amp;lm=-1&amp;pn=3&amp;rn=1&amp;di=2716125016&amp;ln=1735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&#1057;%B9%B7&amp;in=9652&amp;cl=2&amp;cm=1&amp;sc=0&amp;lm=-1&amp;pn=1&amp;rn=1&amp;di=326719964&amp;ln=2000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3%E1%B0%F2&amp;in=27310&amp;cl=2&amp;cm=1&amp;sc=0&amp;lm=-1&amp;pn=39&amp;rn=1&amp;di=385639940&amp;ln=2000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%B3%BE%B0&amp;in=21505&amp;cl=2&amp;cm=1&amp;sc=0&amp;lm=-1&amp;pn=1&amp;rn=1&amp;di=812503772&amp;ln=2000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%B3%BE%B0&amp;in=21505&amp;cl=2&amp;cm=1&amp;sc=0&amp;lm=-1&amp;pn=1&amp;rn=1&amp;di=812503772&amp;ln=2000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%B3%BE%B0&amp;in=2803&amp;cl=2&amp;cm=1&amp;sc=0&amp;lm=-1&amp;pn=9&amp;rn=1&amp;di=2344975336&amp;ln=2000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CC&#505;%FB%CE%DD&amp;in=24752&amp;cl=2&amp;cm=1&amp;sc=0&amp;lm=-1&amp;pn=23&amp;rn=1&amp;di=650077841&amp;ln=2000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%B3%BE%B0&amp;in=12506&amp;cl=2&amp;cm=1&amp;sc=0&amp;lm=-1&amp;pn=107&amp;rn=1&amp;di=1337364008&amp;ln=2000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%B3%BE%B0&amp;in=14813&amp;cl=2&amp;cm=1&amp;sc=0&amp;lm=-1&amp;pn=2&amp;rn=1&amp;di=234280776&amp;ln=2000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%B3%BE%B0&amp;in=14813&amp;cl=2&amp;cm=1&amp;sc=0&amp;lm=-1&amp;pn=2&amp;rn=1&amp;di=234280776&amp;ln=2000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258920" y="907920"/>
            <a:ext cx="59752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华文行楷"/>
              </a:rPr>
              <a:t>梦想与青春同行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华文行楷"/>
              <a:ea typeface="华文行楷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101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9629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-46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当你孤独寂寞时，你会：（ 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去找朋友，或去找些事情来做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独自去散散步，或者去看看戏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闭门胡思乱想来打发时间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当自己有缺点的时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就：（ 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承认自己的缺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力设法改正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如果没有人发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不予理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不自我检讨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即或有人指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极力否认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对于生活开支，你：（ 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精打细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量入为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养成储蓄的习惯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认为只要不欠债就行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今朝有酒今朝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必有什么计划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8441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当遇到困难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就：（ 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找出产生困难的原因，并且把遇到挫折当作是一次经验和教训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内心不安，设法找人来帮忙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独自悲哀，感到消极，对前途无望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36144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当别人批评你时，你就：（ 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冷静地考虑别人的意见，如果是对的，就予以接受；不当的也不随便发怒，只找机会辩白一下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不理会别人的批评，不作任何反应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对别人的批评，一概表示不满，并且与人争吵。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 当别人遇到困难时，你就：（ 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首先判断对方遇到的是什么困难，如果有援助的必要，就立即去帮助对方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不问理由，尽力去助人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认为这是别人的事，采取袖手旁观的态度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8412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对事物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看法：（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认为事物不必分新旧，好不好要看价值如何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视同仁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只接受新的事物，旧的一概不要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你对生活的安排是采取：（ 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拟定一年的计划，在一年之中又按月拟定具体的工作和学习目标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请他人为自己安排，或者依照他人的生活计划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认为过一天算一天，不必做什么安排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9483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评分标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每题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记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分，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记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分，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记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分。各题得分相加，统计总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　　 答案解析：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分以上，优等。你对生活和事业抱有崇高理想，能面对现实，遇见困难挫折能设法克服，能与人合作，创造事业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40-59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分，中等。你对生活和事业有一定想法，基本上能正视现实，对大部分困难和挫折能想方设法克服，但有时也会产生悲观消极的念头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39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分以下，说明你对各种问题的认识尚不清楚，或抱有错误观念，对克服困难缺乏信心。你必须加紧练习，锻炼自己，多多交友，才能创造美好的前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1230600">
            <a:off x="467640" y="155700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66"/>
                </a:solidFill>
                <a:latin typeface="华文行楷"/>
                <a:ea typeface="华文行楷"/>
              </a:rPr>
              <a:t>Free TalK</a:t>
            </a:r>
            <a:r>
              <a:rPr b="1" i="1" lang="zh-CN" sz="7200" spc="-1" strike="noStrike">
                <a:solidFill>
                  <a:srgbClr val="ff0066"/>
                </a:solidFill>
                <a:latin typeface="华文行楷"/>
                <a:ea typeface="华文行楷"/>
              </a:rPr>
              <a:t>（自由发言）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860436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30080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50920" y="333360"/>
            <a:ext cx="8137440" cy="257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请欣赏歌曲《隐形的翅膀》</a:t>
            </a:r>
            <a:endParaRPr b="0" lang="en-US" sz="5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3564360"/>
            <a:ext cx="9144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ahoma"/>
              </a:rPr>
              <a:t>只要我们有手，我们就要勇于攀爬人生的高度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ahoma"/>
              </a:rPr>
              <a:t>只要我们有腿，我们就要不惮于丈量生命的高度青春，是既短暂而又漫长的。在每个人的青春期间，只要好好地把握它，在这个期间就会干一番好的事业，青春将永留心中。若是碌碌而庸，那么，青春会随着时间悄悄地溜走。车尔尼尔夫斯基有一名名言：一个没有被献知热情所鼓舞的人，永远不会做出伟大的事情。光明不能空度，   青春不能虚掷。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057400" y="0"/>
            <a:ext cx="4861080" cy="15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青春宣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0"/>
            <a:ext cx="914400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为了在人生中体现出人生的价值，我愿意把宝贵的青春奉献给新世纪。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“海阔凭鱼跃，天高任鸟飞。”我坚信，以我的青春，凭我的热忱，尽我的努力，再加上我的能力，二十一世纪一定会有我的一席之地，因为我拥有青春，拥有热情，拥有希望。这些无形却无穷的东西，它们明明白白刻在我的心中，我一定有足够的信心去拼搏。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 rot="1356600">
            <a:off x="1835280" y="1197000"/>
            <a:ext cx="4681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谢谢！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      </a:t>
            </a: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再见！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175680"/>
            <a:ext cx="8923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海子的梦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时的海子，正用他的天梯（诗歌）搭载着年轻的生命向太阳方向走去他离太阳越来越近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青春迎面走来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成为我和大地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开天辟地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世界必然破碎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青春迎面走来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世界必然破碎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天堂欢聚一堂又骤然分开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齐声欢呼 青春 青春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青春迎面走来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成为我和世界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天地突然获得青春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秘密传遍世界，获得世界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也将世界猛地劈开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天堂的烈火，长出了人形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是青春 依然坐在大火中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42920" y="0"/>
            <a:ext cx="7058160" cy="23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轮巨斧劈开                                                                                                                  世界碎成千万                                                                                   手中突然获得                                                                                   曙光是谁的天才                                                                                   先是幻象万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后是真理唯一                                                                                                                                                 青春就是真理                                                                                   青春就是刀锋                                                                                   石头围住天空                                                                                   青春降临大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076720" y="5950080"/>
            <a:ext cx="381636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请同学自由发言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765000"/>
            <a:ext cx="594360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请同学们阐述一下自己的梦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0" y="6497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71446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619280" y="1052640"/>
            <a:ext cx="51134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请欣赏舞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95" name=""/>
          <p:cNvSpPr/>
          <p:nvPr/>
        </p:nvSpPr>
        <p:spPr>
          <a:xfrm>
            <a:off x="3102120" y="5537160"/>
            <a:ext cx="575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BatangChe"/>
                <a:ea typeface="楷体_GB2312"/>
              </a:rPr>
              <a:t>dancer:</a:t>
            </a:r>
            <a:r>
              <a:rPr b="1" lang="zh-CN" sz="5400" spc="-1" strike="noStrike">
                <a:solidFill>
                  <a:srgbClr val="000000"/>
                </a:solidFill>
                <a:latin typeface="BatangChe"/>
                <a:ea typeface="楷体_GB2312"/>
              </a:rPr>
              <a:t>尚宇铭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1904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8548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42920" y="1557360"/>
            <a:ext cx="6120000" cy="23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怒放的生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54360" y="3903840"/>
            <a:ext cx="540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ahoma"/>
                <a:ea typeface="楷体_GB2312"/>
              </a:rPr>
              <a:t>献歌者：刘磊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271719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908000" y="765000"/>
            <a:ext cx="5040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欣赏小品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102" name=""/>
          <p:cNvSpPr/>
          <p:nvPr/>
        </p:nvSpPr>
        <p:spPr>
          <a:xfrm>
            <a:off x="1257480" y="37339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ahoma"/>
                <a:ea typeface="幼圆"/>
              </a:rPr>
              <a:t>表演者：王宁馨等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377280"/>
            <a:ext cx="91440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理测试《你有美好的前途吗？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于团体的工作，你抱着：（ 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热心参加的态度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漠不关心的态度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十分厌烦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你对工作的态度是：（ 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宁肯做待遇低些但价值高的工作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认为工作只不过是为了解决生活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一心一意只做报酬高的工作，不理会工作有没有意义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当自己逐渐长大时，你同时会：（ 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习更多的知识或者技能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内心感到恐惧与不安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毫无感觉，不予理会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于交朋友，你会感觉到：（ 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十分重要，因此在平时你就喜欢与人交往，注意礼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争取友谊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以为友谊很平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必重视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友谊无价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如孤独自处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于报纸刊物的看法：（ 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认为有注意的必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此常选择性阅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了解世界大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新的知识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当作是茶余饭后的消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有可无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予注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为与其看报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如去看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37000"/>
            <a:ext cx="755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于服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的态度是：（ 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要求端正、整齐，不必奢华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只要能保暖适体，不必讲究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敬罗衣后敬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对服装十分讲究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4:54:0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32:23Z</dcterms:modified>
  <cp:revision>17</cp:revision>
  <dc:subject>主题班会课件(分28大类): http://shop62905894.taobao.com</dc:subject>
  <dc:title>主题班会课件(分28大类): http://shop62905894.taobao.com</dc:title>
</cp:coreProperties>
</file>