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media/image7.gif" ContentType="image/gif"/>
  <Override PartName="/ppt/media/image12.gif" ContentType="image/gif"/>
  <Override PartName="/ppt/media/image9.gif" ContentType="image/gif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91A-F325-49F4-9F30-C0B3AE1E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44E-EE22-4A7C-9A72-CA504B7B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9E1-3BE8-43E7-8CB9-3A1F97A8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CF5A-B0CF-428F-B576-975CA625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442-82CF-4B05-AB5C-61642E28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5EB-1FAF-408A-A493-8B8F6BFF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FDC-B73E-4606-BCFA-E8647723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6A1-CCBD-4BAC-9F7B-654CEE9E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800-FE09-4768-B887-591C1E71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ACB-F1F4-4854-8C30-ADD54F4F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D5E-C1A5-42E4-859C-D72EAA93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44B-A356-4A95-A870-6712A42C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AF90-F531-4B9D-A149-BE3BC3D49C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0"/>
            <a:ext cx="58294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新学期、新起点、新期待 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95800" y="3124080"/>
            <a:ext cx="3728880" cy="2935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177012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77320" y="5994360"/>
            <a:ext cx="1143000" cy="1015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宋体"/>
              </a:rPr>
              <a:t>“</a:t>
            </a:r>
            <a:r>
              <a:rPr b="0" lang="zh-CN" sz="4000" spc="-1" strike="noStrike">
                <a:solidFill>
                  <a:srgbClr val="ff3399"/>
                </a:solidFill>
                <a:latin typeface="宋体"/>
              </a:rPr>
              <a:t>新学期”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  </a:t>
            </a:r>
            <a:r>
              <a:rPr b="0" lang="zh-CN" sz="4000" spc="-1" strike="noStrike">
                <a:solidFill>
                  <a:srgbClr val="3333cc"/>
                </a:solidFill>
                <a:latin typeface="Comic Sans MS"/>
              </a:rPr>
              <a:t>标志着松散、高度自我的寒假生活的结束，紧张忙碌、规范自律的新学年的开始。从现在开始，全校师生要消除“寒假综合症”，以崭新的姿态、满腔的热忱、饱满的精神投入新的工作学习之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1520" y="5753160"/>
            <a:ext cx="914400" cy="799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ff00ff"/>
                </a:solidFill>
                <a:latin typeface="宋体"/>
              </a:rPr>
              <a:t>新起点”</a:t>
            </a:r>
            <a:r>
              <a:rPr b="0" lang="zh-CN" sz="4400" spc="-1" strike="noStrike">
                <a:solidFill>
                  <a:srgbClr val="3333cc"/>
                </a:solidFill>
                <a:latin typeface="宋体"/>
              </a:rPr>
              <a:t>机遇与挑战并存，压力与动力同在，我相信，我们有信心、有能力，能在新的起点上赢得新的胜利，续写新的篇章。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38480" y="152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001000" y="4343400"/>
            <a:ext cx="457200" cy="228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5960" y="838080"/>
            <a:ext cx="876276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00ff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00ff"/>
                </a:solidFill>
                <a:latin typeface="宋体"/>
              </a:rPr>
              <a:t>新期待”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 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昨天的辉煌凝固成永恒的美丽，今日的期待孕育着明天的丰碑。同学们，琴弦松弛，奏不出动听的乐曲；纪律散漫，点不燃生命的火焰。如果你希望成功，当以组织纪律为保证，以创新理论为指导，以师生互动为动力，以质量成绩为目标，勇于超越自己的昨天和前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自己把自己说服，是一种理智的胜利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自己被自己感动，是一种心灵的升华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自己把自己征服，是一种人生的成熟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。</a:t>
            </a:r>
            <a:r>
              <a:rPr b="0" lang="zh-CN" sz="3600" spc="-1" strike="noStrike">
                <a:solidFill>
                  <a:srgbClr val="ff3399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38480" y="76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400" y="380880"/>
            <a:ext cx="91026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“</a:t>
            </a: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我不相信被动会有收获，凡事一定要主动出击才能成功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                 </a:t>
            </a: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----</a:t>
            </a: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迈克</a:t>
            </a: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·</a:t>
            </a: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乔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27016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一位哲人说：“你的心态就是你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主人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11480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一位伟人说“要么你去驾驭生命，要么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生命驾驭你。你的心态决定谁是坐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谁是骑师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2160" y="4038480"/>
            <a:ext cx="669960" cy="838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2160" y="2209680"/>
            <a:ext cx="669960" cy="838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5840" y="304920"/>
            <a:ext cx="6699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主动出击，积极进取，求则得之，寻则见之，叩则开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---“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今年花胜去年红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---“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最撩人春色是今年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838440" cy="779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52280" y="3048120"/>
            <a:ext cx="838440" cy="779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52280" y="4191120"/>
            <a:ext cx="83844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04:10:2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23:57Z</dcterms:modified>
  <cp:revision>9</cp:revision>
  <dc:subject>主题班会课件(分28大类): http://shop62905894.taobao.com</dc:subject>
  <dc:title>主题班会课件(分28大类): http://shop62905894.taobao.com</dc:title>
</cp:coreProperties>
</file>