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gif" ContentType="image/gif"/>
  <Override PartName="/ppt/media/image17.png" ContentType="image/png"/>
  <Override PartName="/ppt/media/image3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8.jpeg" ContentType="image/jpeg"/>
  <Override PartName="/ppt/media/image7.jpeg" ContentType="image/jpeg"/>
  <Override PartName="/ppt/media/image35.gif" ContentType="image/gif"/>
  <Override PartName="/ppt/media/image36.jpeg" ContentType="image/jpeg"/>
  <Override PartName="/ppt/media/image31.gif" ContentType="image/gif"/>
  <Override PartName="/ppt/media/image11.jpeg" ContentType="image/jpeg"/>
  <Override PartName="/ppt/media/image13.jpeg" ContentType="image/jpeg"/>
  <Override PartName="/ppt/media/image30.jpeg" ContentType="image/jpeg"/>
  <Override PartName="/ppt/media/image25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364-FE07-4CB2-8996-189DBF09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1A8-8E56-46F5-AE48-4CA11A93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948-2477-4385-91B7-BF5C1402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F50-87F3-41A0-A8B6-BC1C6319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152F-52B1-4996-824E-51E68918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5033-EFBC-4921-8C98-85301480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CD64-1EF6-4239-8B32-DF375CEF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CB38-5D35-4395-BB0E-661A270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8DF8-2493-48A7-A269-0C958444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19CD-5A0A-40CA-A4CA-BE00D8F1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DAD-1D93-436D-8691-C1652C7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789-9778-4ACC-9B3E-FEB7339C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CEB8-9E56-4B18-911A-3BC4FAE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A2BF-8A3B-434A-87BA-75C3DC3D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986D-554A-417F-85A6-368A8C9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7D6A-C528-4A8C-AFB3-BD7BB7AE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936-B7C0-441E-A0B0-E12228AA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98EF-30BD-433A-8337-C4E985D4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823F-A978-4E6B-9D3D-AFEC7E12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3EF5-65A3-4B6C-A222-C62ED66F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F14F-22CD-45B4-B43E-0B241262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EAC8-4368-4B33-ACE4-13425B4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DFF-C2E8-4E6D-BD5B-934422B0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3EC2-BA1D-4762-82E7-2526172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1BCE-F9B0-4349-AE89-1E6D5F48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FDF9-CE52-460E-B8A3-4DECBF2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3C0E-DC60-4552-AAC0-161CB87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63EE4-5F29-41B9-84D7-30613FDD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21F0-2101-4092-B742-9DE48244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2A50-4477-4E35-867F-3F5C2D6E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7A6D-A55F-442D-825A-092041B2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5DA57-70C3-40A2-8415-D1523FA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61AB-A934-4893-ADAD-5D99756B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B90-73C4-4350-8C09-BBC0141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A5B8-9D87-4EB0-8BE6-78C6DD7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B921-0ABB-491A-B435-F4DB6F8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476B-FFC9-4131-90E9-C0F99C3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945B-C827-4A7B-BA01-2E9FF199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4CA5-5594-4640-8490-7FD098A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6838-55B0-4CBF-A63B-86FD1FDA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02FA-B70D-4DDF-BC33-345A8145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1523-4658-4F19-BC97-4F98E1B2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AF0D-7753-46CA-A46E-9977BAA0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BED-40EF-449D-ADFD-0B0F86AE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2DA-FA23-449F-AEC2-69BC67AA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A33-E6BE-4D8D-9136-FF047EA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87E-F391-4D66-AE67-28E22E8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8F0-6A26-437F-9626-F7C9254E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9259-69E4-4CDF-BD01-745F9BA0B9F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248-D8E9-461B-950B-C01230FAD15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FCC-8F46-407E-96AF-4E3A0FA67810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0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0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1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B28-BC2C-491B-B767-65D99A2D664D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6676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403280" y="692280"/>
            <a:ext cx="554508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欢迎光临指导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79280" y="260280"/>
            <a:ext cx="374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西安交通大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20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5867280" cy="3500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3120" y="2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6000" cy="3319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6156360" y="47242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广州美术学院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867280" y="1484280"/>
            <a:ext cx="3025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星海音乐学院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3213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5651640" cy="3357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5796000" y="4437000"/>
            <a:ext cx="334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华南理工大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724360" y="1268280"/>
            <a:ext cx="3419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华南师范大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03480" y="692280"/>
            <a:ext cx="632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章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565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你认为自己现在所做的事情跟你的理想一致吗？面对现实你想说什么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合自己的情况发言，总结自己现在的优势与不足，可以谈今后有什么打算，谈你对未来的信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8920" y="4302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100800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2050920" y="765000"/>
            <a:ext cx="335304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唱得响亮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08" name=""/>
          <p:cNvSpPr/>
          <p:nvPr/>
        </p:nvSpPr>
        <p:spPr>
          <a:xfrm>
            <a:off x="116676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4500720" cy="1944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487840" y="539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500720" cy="2089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527120" y="42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195640" y="2060640"/>
            <a:ext cx="4464000" cy="2041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03120" y="589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9144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676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182840" y="164160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四章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4200" y="388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19240" y="4437000"/>
            <a:ext cx="45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I Believe I Can Fly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627280" y="2852640"/>
            <a:ext cx="51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如何去放飞理想？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03960" y="70884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76720" y="3357720"/>
            <a:ext cx="1224000" cy="12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算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4" name=""/>
          <p:cNvSpPr/>
          <p:nvPr/>
        </p:nvSpPr>
        <p:spPr>
          <a:xfrm>
            <a:off x="1023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50920" y="126828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如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将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字母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A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Z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分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编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上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1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26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的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A=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分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B=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分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…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Z=2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分</a:t>
            </a: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87240" y="3745080"/>
            <a:ext cx="264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Hard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Mo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Attitu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它们分别是多少分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211640" y="333360"/>
            <a:ext cx="172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算一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9" name=""/>
          <p:cNvSpPr/>
          <p:nvPr/>
        </p:nvSpPr>
        <p:spPr>
          <a:xfrm>
            <a:off x="267984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50920" y="333360"/>
            <a:ext cx="367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文字游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159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KNOWLEDGE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）得到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96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1+14+15+23+12+5+4+7+5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96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努力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HARDWORK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）也只得到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98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8+1+18+4+23+15+18+11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98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金钱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 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Money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得到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7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3+15+14+5+25 = 7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态度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TTITUDE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i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才是左右你生命的全部　　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+20+20+9+20+21+4+5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TW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95480" y="503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543480" y="20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7984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32000" y="692280"/>
            <a:ext cx="5688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放飞理想　展翅飞翔</a:t>
            </a:r>
            <a:endParaRPr b="1" lang="en-US" sz="4800" spc="1" strike="noStrike">
              <a:ln w="1260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5661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95480" y="85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11280" y="2060640"/>
            <a:ext cx="729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It is OUR ATTITUDE towards Life and Work that makes OUR Life 100%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们对待生活与工作的态度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使我们的人生更完美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33200" y="62064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实现理想，关键在于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979640" y="2781360"/>
            <a:ext cx="511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狗狗的梦想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85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47640" y="69228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欣赏动画片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384200" y="100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48120" y="1052640"/>
            <a:ext cx="4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实现理想在于心中有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11120" y="2421000"/>
            <a:ext cx="63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　要想获得成功，就必须要确定一个清晰可见的目标，因为目标是人奋勇向前的动力源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384200" y="22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7489800" cy="3744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00360" y="3284640"/>
            <a:ext cx="276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请立正站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两臂侧平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坚持一分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47640" y="765000"/>
            <a:ext cx="4680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我们一起来试一试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348" name=""/>
          <p:cNvSpPr/>
          <p:nvPr/>
        </p:nvSpPr>
        <p:spPr>
          <a:xfrm>
            <a:off x="7216920" y="561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016760" y="5084640"/>
            <a:ext cx="21272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76360" y="981000"/>
            <a:ext cx="7345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2200" y="553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276640"/>
            <a:ext cx="736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分钟，够回忆今天的事情了。　　　　　　　　　　　　　　　　　　　　　　　　　　　　　　　　一分钟可以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仰卧起坐。　　　　　　　　　　　　　　　　　　一分钟可以记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单词。　　　　　　　　　　　　　　　　　　　　　　　　　　　　　　　　一分钟跑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0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米没问题。　　　　　　　　　　　　　　　　　　　　　　　　　　　　　　　　　　一分钟足以组织一次很好的进攻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58920" y="98100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请大家说说一分钟你能做多少事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6200" y="49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68360" y="18900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距离高考的三个月里能做多少事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197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１、三个月（指在校的实际时间）有多长？　　　　　　　　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　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天　　　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4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时　　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44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２、假设每天学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小时，三个月的学习时间有多少？　　　　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时 　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0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３ 、如果以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公里／小时的速度骑车，每天骑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时就是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公里，三个月几乎可以走遍全中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４ 、如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钟消除一个学习障碍，每天可以消除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，三个月就可以消除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障碍，基本上可以消除学习上的疑虑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５ 、如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钟熟记英语单词一个，一小时就是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，那么三个月又可记忆多少个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600200" y="121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11120" y="9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5493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实现理想在于策略地驾驭时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1640" y="220500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把握好了生命中的每一分钟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也就是把握了理想的人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2133720"/>
            <a:ext cx="81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 他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生意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竞选州议员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生意再次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当选州议员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情人去世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精神完全崩溃，卧病在床六个月 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竞选州议长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竞选选举人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竞选国会议员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当选国会议员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国会议员连任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6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竞选参议员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竞选副总统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竞选参议员再次失败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终于当选美国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90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63600" y="9158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这个人是谁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28760" y="947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林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512200" y="2142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1008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71640" y="2133720"/>
            <a:ext cx="77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482280" y="1347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四、实现理想贵在坚持不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8400" y="249228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此路艰辛而泥泞。我一只脚滑了一下，另一只脚也因而站不稳，但我缓口气，告诉自己：“这不过是滑一跤，并不是死去而爬不起来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林肯在竞选参议员落败后如是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404640"/>
            <a:ext cx="3024360" cy="619128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1844640"/>
            <a:ext cx="6012000" cy="1871640"/>
          </a:xfrm>
          <a:prstGeom prst="wedgeRoundRectCallout">
            <a:avLst>
              <a:gd name="adj1" fmla="val 26129"/>
              <a:gd name="adj2" fmla="val 53055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ff"/>
                </a:solidFill>
                <a:latin typeface="Comic Sans MS"/>
                <a:ea typeface="黑体"/>
              </a:rPr>
              <a:t>我们十分渴望实现自己的理想，那么我需要做些什么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 flipH="1" rot="194400">
            <a:off x="6699240" y="3786120"/>
            <a:ext cx="2146320" cy="2746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611280" y="90792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正确态度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9640" y="364500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驾驭时间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9640" y="22766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目标明确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360" y="494172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坚持不懈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50760" y="25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95280" y="54936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一章：动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 rot="5400000">
            <a:off x="6480000" y="2241360"/>
            <a:ext cx="2592360" cy="93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我的理想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38420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403280" y="2492280"/>
            <a:ext cx="446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让爱传出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83" name=""/>
          <p:cNvSpPr/>
          <p:nvPr/>
        </p:nvSpPr>
        <p:spPr>
          <a:xfrm>
            <a:off x="37620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848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手语表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5584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23840" y="100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512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820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964720" cy="5616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527120" y="575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22520" y="2682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班主任寄语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66760" y="9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964720" cy="55436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556000" y="2708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校领导寄语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62064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一次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都在徘徊孤单中坚强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一次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就算很受伤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也不闪泪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知道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一直有双隐形的翅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带我飞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飞过绝望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去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们拥有美丽的太阳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看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天的夕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也会有变化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知道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一直有双隐形的翅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带我飞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给我希望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终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看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有梦想都开花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追逐的年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歌声多嘹亮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终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翱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心凝望不害怕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哪里会有风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就飞多远吧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隐形的翅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让梦恒久比天长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留一个愿望，让自己想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796000" y="404640"/>
            <a:ext cx="302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隐形的翅膀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203480" y="42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69960" y="47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6280" y="47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20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3520" y="228600"/>
            <a:ext cx="7696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各位老师的光临指导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3" name=""/>
          <p:cNvSpPr/>
          <p:nvPr/>
        </p:nvSpPr>
        <p:spPr>
          <a:xfrm>
            <a:off x="231840" y="568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79280" y="4648320"/>
            <a:ext cx="1752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816200" y="365040"/>
            <a:ext cx="426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二章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00000" y="2852640"/>
            <a:ext cx="684072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这是我们向往的大学校园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5" name=""/>
          <p:cNvSpPr/>
          <p:nvPr/>
        </p:nvSpPr>
        <p:spPr>
          <a:xfrm>
            <a:off x="592200" y="553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3480" y="54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2182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http://51tech.net/pic/200410142036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88000" y="5521320"/>
            <a:ext cx="4356000" cy="13366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588000" y="3933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611280" y="765000"/>
            <a:ext cx="3673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温州大学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28:0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0:02Z</dcterms:modified>
  <cp:revision>50</cp:revision>
  <dc:subject>主题班会课件(分28大类): http://shop62905894.taobao.com</dc:subject>
  <dc:title>主题班会课件(分28大类): http://shop62905894.taobao.com</dc:title>
</cp:coreProperties>
</file>