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F7C-860E-46BA-A4CF-24EAF254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85C-F684-4107-BE92-88BCCE57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3C3-3BB7-48FC-8A70-5F3DBC9C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33D-410C-45EB-91C8-867D0FD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372-DCBB-4A6E-997C-FC16C751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D3E-627C-4D16-9E40-066F150B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AD7-E0B6-49B6-B129-6E49A0CD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134-3A83-4567-9EF6-592DC2E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F41-7AA3-4556-8B81-657A241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C72-CB19-4D18-BC14-6A8B03F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100-8DF7-4D93-B7C3-55F2074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AC5-E253-4653-BA9E-999FE51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940-C702-42B4-8C1A-5D3445E18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55736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989000"/>
            <a:ext cx="806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放飞理想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5157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寻找人生的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让心灵</a:t>
            </a: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带着理想</a:t>
            </a: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自由放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关于现在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关于未来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你最想把握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2133720"/>
            <a:ext cx="7345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学习经验交流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功触手可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．  确立成功的方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从上次成绩最后一名开始，每位同学找一个同学作为竞争对手，在下次考试中打败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将自己的薄弱学科作业做得工整细致一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每天能周密安排学习计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每天明白自己什么知识真正懂了，什么知识没有弄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每天通过问老师解决一个问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竞争意识，找准比赛项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学习的热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听课效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上课主动回答问题的次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作业认真程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问题目的次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同学比遵守纪律的程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价成功的标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初级标准：保持原有学习状态不下滑，不放弃学习目标，不产生厌学情绪和破罐子破摔的思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中级标准：前进一小步（作业认真程度，听课认真程度，守纪律的程度，问题目的次数，上课积极回答问题的次数等等）并且能长时间保持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高级标准：战胜自己的懒惰，并战胜自己的竞争对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飞理想就是过好每一天，做好每一件事，走好每一步。只要我们脚踏实地的过好每一天，我们的人生理想就会天天实现，我们就可以天天放飞理想，天天享受人生的乐趣。不管我们处在人生的什么阶段，让我们从现在开始学会放飞理想，别让人生在虚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心得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的青春是有限的，虽然我平凡，但我会燃烧我的青春，我要用学习的光芒点燃青春的火把。因此，我比较端正学习态度，掌握学习方法，有效地利用每一分每一秒。因为我坚信，有志者事竟成，破釜沉舟，百二秦关终属楚；苦心人天不负，卧薪尝胆，三千越甲可吞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觉得学习有目标是很重要的，那才不会像无头苍蝇一样撞来撞去。我这个人就是这样，对自己的事情很有目标，玩的时候尽情的玩，学的时候我就能专心的学。每当我取得成绩的时候，每当我能够站在台上领奖的时候我就心里很高兴，因为我觉得我没有给父母丢脸。但是爸爸对我说：笑在最后才是笑的最好。我知道我的成绩还不值一提，我将用最大的力量最大的信心去取得最好的成绩，同学们看我的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然我个性活泼，看起来对什么都无所谓。但是我其实对学习是很认真的。我的理科较好主要是因为我上课很认真，并且喜欢自己去主动思考，所以课外没有用太多的时间去复习。当然我想如果课外我再努力一点的话我的成绩将会更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之所以取得现在与以往相比较好的成绩，是因为我上课的时候专心听讲，按照老师的思路去认真的听课。下课的时候我对有些疑难问题进行研究，不明白的就去问老师。每天都把上过的新课复习一遍，这样对自己的学习很有好处。如果不信可以去试试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拥有思维迟钝的我，曾在沙场中战死，也曾在众目睽睽中得胜。一般来说我对事情的处理犹豫不决没有太多的主见，但是唯有对学习，我始终有着执着的追求，我相信，只有学习，只有现在用知识武装自己将来我才能有自己的一席之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常常埋怨时间太紧，没有时间复习。鲁迅曾经说过：“时间就像海绵里的水，只要愿挤总还是有的。”时间一分一秒的过去，离各种考试越来越近了。同学们，花有重开日，人无再少年。让我们用剩下的时间，勤奋读书，勤思好问，让我们把握手中的时间，争取在各项考试中取得好成绩，给父母一份满意的答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之前的考试中，我的成绩下降很多。这归咎于我的学习方法不正确，重文轻理，对理科不重视。另一方面我不够勤奋，没有真正掌握知识，对学过的内容没有复习。在剩下的时间里我决定要迎头赶上，抓紧时间，改正学习方法。希望同学们跟我一样吸取教训，时刻警惕，不能放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成绩比上一次有了较大的进步。主要是因为我从之前的失败中总结了经验教训，从此便开始了努力学习，遇到不懂的问题便请教老师和同学，上课也很专心。由此我知道了，只要我们努力，只要我们真的想学好就真的可以做到。我衷心的希望我与大家一起进步，希望同学们能够牢记老师的教导，争取最好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2:24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2:57Z</dcterms:modified>
  <cp:revision>8</cp:revision>
  <dc:subject>主题班会课件(分28大类): http://shop62905894.taobao.com</dc:subject>
  <dc:title>主题班会课件(分28大类): http://shop62905894.taobao.com</dc:title>
</cp:coreProperties>
</file>