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8.gif" ContentType="image/gif"/>
  <Override PartName="/ppt/media/image15.gif" ContentType="image/gif"/>
  <Override PartName="/ppt/media/image1.png" ContentType="image/png"/>
  <Override PartName="/ppt/media/image19.gif" ContentType="image/gif"/>
  <Override PartName="/ppt/media/image3.jpeg" ContentType="image/jpeg"/>
  <Override PartName="/ppt/media/image24.jpeg" ContentType="image/jpeg"/>
  <Override PartName="/ppt/media/image2.png" ContentType="image/png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50B-292F-4B21-BF26-A8B36C3A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71D-D381-4B96-B099-5C198DF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16C-0C0F-43CE-9B63-14B53179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EAD-6EF9-4453-8743-91B04A9B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D1E-59C5-409B-800D-DA30DCCD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6910-5B76-49FD-9D39-8F305C66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AFAD-3E0F-481A-93B4-C358FBAF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94DC-60A1-45D9-87DA-5CFAC029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861-67A1-444D-A1C5-EB702C61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FB3-7D30-4DBD-B273-DD90069B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1E9-A0BC-4F2C-84DE-96EF6EE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B50-670D-48FD-B6E3-7D094148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471D-C4CE-4262-BDE3-37DCBA0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E64E-B074-4B3E-9CB3-4B54A6F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399C-A890-489E-A087-5E2177B4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FF72-D330-4565-8FD7-1B9365D2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B01A-4283-49A6-B1DB-DE9BC4AD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0EC2-F356-45B0-A58C-7C61D952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AB37-EA1C-4712-BFD9-A436D5A6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4E34-46F3-482D-A408-C5872F4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E8F4-6235-4C47-B8BD-CE7EF7A0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97FA-A022-43E8-AC78-0FBEBBE9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3DD-6433-43B5-A0B2-453E704A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2FB9-7357-4268-9471-C70EE6A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7D20-A09B-4A79-8AA1-E1BB212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C609-023D-455C-AA61-E95108A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8D64-A745-4CA6-BA62-FB3CD4A2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E84C-CE21-47A8-B487-B8D4FB2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ED42-4B1B-4871-AE24-DFF9CBCE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04A8-7D86-4A39-BE02-8757C2CF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45E5-BF0F-4B16-8E78-DD887079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A918-CBFC-46ED-93CE-EF5D26F5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1AA1-9F19-473A-9432-8723696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AE6-CBB4-4DBC-A091-2B696645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D01E-856F-4F1A-A825-944FB1AF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6287-5EDC-4307-87CC-AE056109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5F7E-97A1-4A76-B7C3-19E2240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50B8-F14C-4806-A7BC-F5DCDDA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22B5-19D0-4729-A3F7-D487B71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7A50-CC1B-499A-A838-20A2F65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5873-7BAA-4E57-AA98-7BBE003B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03E2-186D-478C-9094-D1EF663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CD43-A6E9-43F0-BBB9-D2B68189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318-5248-4224-BB02-5737D65A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9D7-07AB-4075-AECA-DC8D04D9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22B-21D3-47C1-8157-06D9780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65D-E253-4DC7-AF3C-EA27AD48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9AE-C54C-415D-BD04-F5613E06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BFF-A717-475C-992E-6F8D93ADA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A8E-A76C-4F8C-BD26-D3EDAA32F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497A-04DA-49D8-9E36-3DFEB698BFF7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A665-6F7A-4DA9-BF4C-7EC4747DD7E2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989000"/>
            <a:ext cx="860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放飞心中的梦想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851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主题班会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826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4360" y="981000"/>
            <a:ext cx="23032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评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 rot="5400000">
            <a:off x="-217080" y="1161000"/>
            <a:ext cx="2808360" cy="17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再见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155736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374920"/>
            <a:ext cx="88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73080" y="0"/>
            <a:ext cx="946944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世界上最快乐的事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莫过于为理想而奋斗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 2 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理想的实现只靠干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不靠空谈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. 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 3.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理想是反映美的心灵的眼睛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. 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 4.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理想是世界的主宰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. 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 5.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理想失去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青春之花也便凋零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因为理想是青春的光和热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.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124000" y="0"/>
            <a:ext cx="5687640" cy="988200"/>
            <a:chOff x="2124000" y="0"/>
            <a:chExt cx="5687640" cy="988200"/>
          </a:xfrm>
        </p:grpSpPr>
        <p:sp>
          <p:nvSpPr>
            <p:cNvPr id="200" name=""/>
            <p:cNvSpPr/>
            <p:nvPr/>
          </p:nvSpPr>
          <p:spPr>
            <a:xfrm>
              <a:off x="2124000" y="0"/>
              <a:ext cx="5687640" cy="914040"/>
            </a:xfrm>
            <a:prstGeom prst="wedgeRoundRectCallout">
              <a:avLst>
                <a:gd name="adj1" fmla="val -28958"/>
                <a:gd name="adj2" fmla="val 81078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0440" y="71280"/>
              <a:ext cx="528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有关理想的名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1308240" cy="2148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6238800"/>
            <a:ext cx="914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6157800" y="404640"/>
            <a:ext cx="1806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瞎子阿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幼丧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由同族婶母扶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私塾读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年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后从父学习鼓、笛、二胡、琵琶等乐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岁已能演奏多种乐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并经常参加奏乐活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他刻苦钻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精益求精，并广泛吸取民间音乐的曲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1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岁时被无锡道教音乐界誉为演奏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后双目失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称“瞎子阿炳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谋生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同时为了他钟爱的音乐事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了他的理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他身背琵琶、胡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走上街头，自编自唱，创作了蜚声国际乐坛的《二泉映月》，还有大量的歌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124000" y="0"/>
            <a:ext cx="5687640" cy="988200"/>
            <a:chOff x="2124000" y="0"/>
            <a:chExt cx="5687640" cy="988200"/>
          </a:xfrm>
        </p:grpSpPr>
        <p:sp>
          <p:nvSpPr>
            <p:cNvPr id="207" name=""/>
            <p:cNvSpPr/>
            <p:nvPr/>
          </p:nvSpPr>
          <p:spPr>
            <a:xfrm>
              <a:off x="2124000" y="0"/>
              <a:ext cx="5687640" cy="914040"/>
            </a:xfrm>
            <a:prstGeom prst="wedgeRoundRectCallout">
              <a:avLst>
                <a:gd name="adj1" fmla="val -28958"/>
                <a:gd name="adj2" fmla="val 81078"/>
                <a:gd name="adj3" fmla="val 16667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30440" y="71280"/>
              <a:ext cx="528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有关理想的故事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8101080" y="638172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20140" y="10800"/>
                </a:moveTo>
                <a:lnTo>
                  <a:pt x="30646" y="3794"/>
                </a:lnTo>
                <a:lnTo>
                  <a:pt x="30646" y="17806"/>
                </a:lnTo>
                <a:close/>
              </a:path>
              <a:path fill="darken" w="47279" h="21600">
                <a:moveTo>
                  <a:pt x="16633" y="3794"/>
                </a:moveTo>
                <a:lnTo>
                  <a:pt x="18295" y="3794"/>
                </a:lnTo>
                <a:lnTo>
                  <a:pt x="18295" y="17806"/>
                </a:lnTo>
                <a:lnTo>
                  <a:pt x="166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4392720" cy="914400"/>
          </a:xfrm>
          <a:prstGeom prst="wedgeRoundRectCallout">
            <a:avLst>
              <a:gd name="adj1" fmla="val 19208"/>
              <a:gd name="adj2" fmla="val 81078"/>
              <a:gd name="adj3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放飞理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104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63700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989000"/>
            <a:ext cx="874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9228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125360"/>
            <a:ext cx="8893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理想是石，敲出星星之火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理想是火，点燃熄灭的灯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理想是灯，照亮夜行的路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理想是路，引你走向黎明。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让童年成为美好的记忆，让青春焕发耀眼的光彩。签下未来的理想，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写下自己成长感言；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放飞美丽的梦想，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把它永远珍藏在心中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00360" y="1197000"/>
            <a:ext cx="5616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3300"/>
                </a:solidFill>
                <a:latin typeface="Arial"/>
                <a:ea typeface="华文彩云"/>
              </a:rPr>
              <a:t>畅谈理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838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87280" y="2276640"/>
            <a:ext cx="662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华文新魏"/>
              </a:rPr>
              <a:t>成功与理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47640" y="695160"/>
            <a:ext cx="1332000" cy="525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33cc33"/>
                </a:solidFill>
                <a:latin typeface="华文新魏"/>
              </a:rPr>
              <a:t>理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33cc33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33cc33"/>
                </a:solidFill>
                <a:latin typeface="华文新魏"/>
              </a:rPr>
              <a:t>想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33cc33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33cc33"/>
                </a:solidFill>
                <a:latin typeface="华文新魏"/>
              </a:rPr>
              <a:t>故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33cc33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33cc33"/>
                </a:solidFill>
                <a:latin typeface="华文新魏"/>
              </a:rPr>
              <a:t>事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33cc33"/>
              </a:solidFill>
              <a:latin typeface="华文新魏"/>
              <a:ea typeface="华文新魏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422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41440" y="692280"/>
            <a:ext cx="52545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音乐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924360" y="4941720"/>
            <a:ext cx="1152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330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476360" y="1268280"/>
            <a:ext cx="2016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诗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朗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544824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58920" y="836640"/>
            <a:ext cx="4321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才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展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454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42920" y="1700280"/>
            <a:ext cx="648180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理想趣闻</a:t>
            </a:r>
            <a:endParaRPr b="0" lang="en-US" sz="18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5" name=""/>
          <p:cNvSpPr/>
          <p:nvPr/>
        </p:nvSpPr>
        <p:spPr>
          <a:xfrm>
            <a:off x="1260360" y="4365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i     Xiang    Qu      W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-316080"/>
            <a:ext cx="4464000" cy="3694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6360" y="2308320"/>
            <a:ext cx="91440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Arial"/>
                <a:ea typeface="华文新魏"/>
              </a:rPr>
              <a:t>放飞理想的翅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976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0" y="616572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521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7:24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4:08Z</dcterms:modified>
  <cp:revision>1</cp:revision>
  <dc:subject>主题班会课件(分28大类): http://shop62905894.taobao.com</dc:subject>
  <dc:title>主题班会课件(分28大类): http://shop62905894.taobao.com</dc:title>
</cp:coreProperties>
</file>