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43D-ACB8-44EC-AC5C-9E8AFD57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984-5B7B-4E95-92F0-FF1E9B4C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8D2-F8A7-4DE6-886D-A9A6513C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A68-6CB0-4E0E-8BF1-FD50F8A0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7600-D4C1-4CB7-ADF2-E35312FB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A74A-78E1-455C-8E18-10E8FF71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D78C-C5E6-4BEA-A9A5-336F7F52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D066-FCD1-48F9-A63A-D6FB4EC1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CD97-D98F-495D-BC9F-1F0835DD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E016-80A7-4379-911E-65CEE3CB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97E3-074B-481A-9749-CBFA9180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BF2-8307-4A53-8EE8-03DC495B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89BF-457A-422A-BCD7-B35CAE4F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481A-4A8B-4F73-88D4-F10D3F1F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FFBC-9C1C-4B31-A86D-F347FBB4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6FAA-6D3D-4A4F-88CC-3DB48898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329F-94E1-4A5D-80BF-7E1C6C5F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83E-285D-4E98-B070-B4E0BEEF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17A-C168-48FE-AA15-9FD83A6C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A0F-2431-4BA8-90EB-056B3EEE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C9B-EDCA-40BA-B530-75D66924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B40-34C0-43C5-A8A4-23C14D68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342-D33B-46DA-8DEE-97272219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08D-BA34-4819-B793-33E2AAEF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F05E-5061-4A77-A3CF-03ECD1E1E3D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2108-D847-421B-AF60-37C855329D5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61.133.107.171/news/NewsNews/e/2005-06-07/17336872790.s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hxhyz.com/readnews.asp?newsid=49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zdaily.dayoo.com/gb/content/2004-07/02/content_1613145.htm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news.sina.com.cn/s/2005-07-17/11166456156s.shtml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sina.com.cn/c/2006-07-08/06369402679s.shtml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nformationtimes.dayoo.com/gb/content/2005-07/13/content_2134119.htm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y.poco.cn/lastphoto_v2.htx&amp;id=22063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100md.com/Html/Dir0/19/76/02.htm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orld.people.com.cn/GB/3873410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news.sina.com.cn/s/p/2006-02-18/19469138558.shtml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news.sina.com.cn/s/p/2006-01-07/17178800698.shtml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news.sina.com.cn/s/p/2006-03-01/20169236855.shtml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ews.sina.com.cn/o/2005-10-26/10247271094s.shtml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news.sina.com.cn/c/2006-07-26/07359568281s.shtml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edu.qq.com/a/20061201/000058.htm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ews.tom.com/1002/3292/2005221-1874622.html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news.sina.com.cn/c/2006-03-06/07368373886s.shtml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news.beihairen.cn/china_society/2006-7-19/news_289656.html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tv.uying.com/Class/10_41.stm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61.132.255.234/details.php?image_id=609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iwota.com/photo/18903800/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post.baidu.com/f?kz=109350973" TargetMode="External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8&#2047;%BC%BF%BC%B3%A1&#892;&#428;&amp;in=4&amp;cl=2&amp;cm=1&amp;sc=0&amp;lm=-1&amp;pn=3&amp;rn=1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edu.qq.com/a/20040805/000006.htm" TargetMode="External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.wuhan.net.cn/news/h/gkzs/2006/10-14/1160785574808894285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uzhan.com/html/200601/370444b4095dcaa6becef29b2e17108f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dzsw.cn/framenews/zsb2004.htm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youth.zaobao.com/school/pages/sch280801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  <a:ea typeface="楷体_GB2312"/>
              </a:rPr>
              <a:t>我选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楷体_GB2312"/>
              </a:rPr>
              <a:t>前途理想教育主题班会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冯小红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273400">
            <a:off x="838080" y="990720"/>
            <a:ext cx="6172200" cy="4527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20515800">
            <a:off x="4781880" y="53337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冥思苦想，答案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0"/>
            <a:ext cx="8381880" cy="5584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937960" y="60087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快来呀，放榜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00600" cy="342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224160"/>
            <a:ext cx="5486400" cy="3633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163520" y="4678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来通知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0"/>
            <a:ext cx="5181480" cy="362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78160"/>
            <a:ext cx="4648320" cy="3579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208920" y="4556160"/>
            <a:ext cx="193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3300"/>
                </a:solidFill>
                <a:latin typeface="Arial"/>
                <a:ea typeface="华文行楷"/>
              </a:rPr>
              <a:t>考上了</a:t>
            </a: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华文行楷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267080" cy="320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228600"/>
            <a:ext cx="4375080" cy="5791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76080" y="3581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我是一个失败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71400" y="4724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今后我该何去何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60400" y="646920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招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60680" y="61563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招聘单位多，应聘者更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311040" y="0"/>
            <a:ext cx="9455040" cy="1828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面对现实，我该如何选择以后的人生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45800" y="6071760"/>
            <a:ext cx="87692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步入这人头涌涌的招聘会，你有何感想？你选择什么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万人涌入招聘会"/>
          <p:cNvPicPr/>
          <p:nvPr/>
        </p:nvPicPr>
        <p:blipFill>
          <a:blip r:embed="rId1"/>
          <a:stretch/>
        </p:blipFill>
        <p:spPr>
          <a:xfrm>
            <a:off x="152280" y="-33480"/>
            <a:ext cx="8839440" cy="59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0"/>
            <a:ext cx="8229600" cy="5256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36000" y="5562720"/>
            <a:ext cx="52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我大声呼唤：我有能力！然而，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4645080" cy="6354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622120" y="-91800"/>
            <a:ext cx="78984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舒体"/>
              </a:rPr>
              <a:t>资本不足，怎么选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1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4286160" cy="3124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7840" y="2895480"/>
            <a:ext cx="4286160" cy="3238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4114800"/>
            <a:ext cx="4038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华文行楷"/>
              </a:rPr>
              <a:t>我选择了它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华文行楷"/>
              </a:rPr>
              <a:t>它选择我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隶书"/>
              </a:rPr>
              <a:t>在我们的人生历程中，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隶书"/>
              </a:rPr>
              <a:t>我们作了哪些选择？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隶书"/>
              </a:rPr>
              <a:t>你喜欢你的选择吗？为什么？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0"/>
            <a:ext cx="4286520" cy="3209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3808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33720" y="3657600"/>
            <a:ext cx="4286160" cy="2971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35600" y="305460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此景此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-31680"/>
            <a:ext cx="7391520" cy="6127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315680" y="6172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寻寻觅觅，只怨当初不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81480" cy="3890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2819520"/>
            <a:ext cx="3781440" cy="4038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52720" y="48006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茫茫人海，我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54320" y="4572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的生活会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014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495680" y="3308400"/>
            <a:ext cx="4648320" cy="35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5486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2120" y="57913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这就是我的生活，我的家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440"/>
            <a:ext cx="8839080" cy="5713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713400" y="5986440"/>
            <a:ext cx="220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出粮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个月的收入还比不上以前的零用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4565520" cy="4678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29240" y="685800"/>
            <a:ext cx="4514760" cy="6019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27240" y="5105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前路茫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39604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252840" y="-503280"/>
            <a:ext cx="729000" cy="77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这样的生活，我也得选择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0"/>
            <a:ext cx="7540560" cy="5592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744640" y="5867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行楷"/>
              </a:rPr>
              <a:t>后悔啊！只怪当初的选择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3520"/>
            <a:ext cx="4797360" cy="3119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04920"/>
            <a:ext cx="3333600" cy="26478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8345520" cy="7254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于别人的选择，你有何感想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0"/>
            <a:ext cx="77724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人生，是一场又一场的选择，你准备好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81680" y="1981080"/>
            <a:ext cx="3262320" cy="4953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87480"/>
            <a:ext cx="4724280" cy="3365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26280" y="36576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知识的营养，我要不断吸取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214280"/>
            <a:ext cx="609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f01"/>
                </a:solidFill>
                <a:latin typeface="Arial"/>
                <a:ea typeface="隶书"/>
              </a:rPr>
              <a:t>上课太无聊，还是这里刺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4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191120" y="2362320"/>
            <a:ext cx="4952880" cy="426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4114800" cy="335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10280" y="388620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太困了。睡一会儿再继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12952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作业快完成了，今天收获真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998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4038480" cy="3124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34120" y="53341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生活   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191120" y="12952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66680" y="380880"/>
            <a:ext cx="6629400" cy="8251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选择的背后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486400" y="3951360"/>
            <a:ext cx="3867120" cy="2906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2604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276720" y="762120"/>
            <a:ext cx="3243240" cy="4343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7760" y="2986200"/>
            <a:ext cx="1217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3300"/>
                </a:solidFill>
                <a:latin typeface="Arial"/>
                <a:ea typeface="华文行楷"/>
              </a:rPr>
              <a:t>渴望眼神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76440" y="2362320"/>
            <a:ext cx="1217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3300"/>
                </a:solidFill>
                <a:latin typeface="Arial"/>
                <a:ea typeface="华文行楷"/>
              </a:rPr>
              <a:t>艰辛劳作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81560" y="5943600"/>
            <a:ext cx="147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3300"/>
                </a:solidFill>
                <a:latin typeface="Arial"/>
                <a:ea typeface="华文行楷"/>
              </a:rPr>
              <a:t>不易的收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686800" cy="5559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18040" y="59342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高考来了，你准备好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80880"/>
            <a:ext cx="8540640" cy="1219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隶书"/>
              </a:rPr>
              <a:t>今天选择了，明天会怎样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17880" y="59436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f01"/>
                </a:solidFill>
                <a:latin typeface="Arial"/>
                <a:ea typeface="华文行楷"/>
              </a:rPr>
              <a:t>高考了，我该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562720" cy="3708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4680" y="4724280"/>
            <a:ext cx="289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你能否顺利通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 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这座独木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3222720"/>
            <a:ext cx="441972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31:21Z</dcterms:modified>
  <cp:revision>12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