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8.gif" ContentType="image/gif"/>
  <Override PartName="/ppt/media/image17.jpeg" ContentType="image/jpeg"/>
  <Override PartName="/ppt/media/image23.gif" ContentType="image/gif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2F5-F97A-4B18-9166-E066087A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45B-6582-40CD-BEA3-2F8264C8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2D8-23AC-4439-BB7B-5C8858A3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15A-EE41-474E-AAEF-28C4414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2FA-5512-4B54-8E33-C668216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7AE-6C67-4C9D-917A-60494CC3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764-6C96-4D32-97A0-DE1C53D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0F7-9E27-44D0-A5B5-185A3FBE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957-F11B-4DF6-A79F-F0A3527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75F-652E-4AA2-984C-D74A3670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FE7-D2BD-40C6-9FE4-2FA0FB1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FC8-C496-4D24-BEE5-71EC69E5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378-49AA-46F6-97C7-51E7813B4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4.gif"/><Relationship Id="rId5" Type="http://schemas.openxmlformats.org/officeDocument/2006/relationships/image" Target="../media/image23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" Target="slide8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572160" cy="11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59280" y="3645000"/>
            <a:ext cx="38178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华文行楷"/>
              </a:rPr>
              <a:t>实验中学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692280"/>
            <a:ext cx="7740720" cy="18730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坚守理想  学会承受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093080" y="4005360"/>
            <a:ext cx="136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华文行楷"/>
              </a:rPr>
              <a:t>能饮一杯无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53080" y="1143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0120" y="838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29400" y="1523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114800" y="1066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31520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124080" y="1066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209680" y="1066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36232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276720" y="609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2209680" y="137160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1369800"/>
            <a:ext cx="792468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当蜘蛛网无情地查封了我的炉台，当灰烬的余烟叹息着贫困的悲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我依然固执地铺平失望的灰烬，用美丽的雪花写下：想信未来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当我的紫葡萄化为深秋的露水，当我的鲜花依偎在别人的情怀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我依然固执地用凝霜的枯藤，在凄凉的大地上写下：相信未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我要用手指那涌向天边的排浪，我要用手掌那托住太阳的大海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摇曳着曙光那枝温暖漂亮的笔杆，用孩子的笔体写下：相信未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我之所以坚定地相信未来，是我相信未来人们的眼睛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她有拨开历史风尘的睫毛，她有看透岁月篇章的瞳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不管人们对于我们腐烂的皮肉，那些迷途的惆怅、失败的苦痛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是寄予感动的热泪、深切的同情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还是给以轻蔑的微笑、辛辣的嘲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我坚信人们对于我们的脊骨，那无数次的探索、迷途、失败和成功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一定会给予热情、客观、公正评定，是的，我焦急地等待着他们的评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朋友，坚定地相信未来吧！相信不屈不挠的努力</a:t>
            </a:r>
            <a:br>
              <a:rPr sz="2000"/>
            </a:b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信战胜死亡的年轻，相信未来、热爱生命。</a:t>
            </a:r>
            <a:br>
              <a:rPr sz="2000"/>
            </a:b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　　　　　　　　　　　　　　　　　　　　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-----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食指 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1968</a:t>
            </a:r>
            <a:r>
              <a:rPr b="1" lang="zh-CN" sz="2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年 北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659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flipH="1">
            <a:off x="0" y="0"/>
            <a:ext cx="7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28600" y="60199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981080" y="533520"/>
            <a:ext cx="297000" cy="30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62120" y="6248520"/>
            <a:ext cx="7086600" cy="23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696080" y="685800"/>
            <a:ext cx="320760" cy="365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133720" y="45720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相信未来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04920" y="762120"/>
            <a:ext cx="83055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13d03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感谢各位老师莅临指导！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13d03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1916280"/>
            <a:ext cx="784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：顺心遂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-19" b="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52280"/>
            <a:ext cx="89917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喜爱漫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喜爱旧金山的金门大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喜爱波士顿教堂玻璃上的反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喜爱俯瞰佛罗伦萨的全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喜爱在伦敦的圣詹姆斯公园喂鸽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震惊于卡纳克神殿的宏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陶醉于塞纳河的泛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神往于塞万提斯石像肩头的鸽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--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谛听莫斯科教堂的钟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赏玩泰国少女编织的小巧而又精致的花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品味精美的日本和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我奇异于南太平洋的完全不同的星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多么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429000"/>
            <a:ext cx="316044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听了这段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何感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181480"/>
            <a:ext cx="374508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怎样才能达成你的愿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现你的理想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98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581280" y="198108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048120" y="3048120"/>
            <a:ext cx="26668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注重细节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5120" y="609480"/>
            <a:ext cx="4267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34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/>
                  </a:outerShdw>
                </a:effectLst>
                <a:latin typeface="华文行楷"/>
              </a:rPr>
              <a:t>通往理想的阶梯</a:t>
            </a:r>
            <a:endParaRPr b="1" lang="en-US" sz="4800" spc="1" strike="noStrike">
              <a:ln w="234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480060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学会自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638680" y="4800600"/>
            <a:ext cx="221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会承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72200" y="3962520"/>
            <a:ext cx="1295280" cy="1218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-166"/>
          <a:stretch/>
        </p:blipFill>
        <p:spPr>
          <a:xfrm>
            <a:off x="0" y="250200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685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有一座一百米高的山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一个人站在山上往下扔鸡蛋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当鸡蛋向下落到一百米时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鸡蛋会怎么样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rcRect l="0" t="0" r="0" b="-173"/>
          <a:stretch/>
        </p:blipFill>
        <p:spPr>
          <a:xfrm>
            <a:off x="0" y="250668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6680" y="45720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从 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0 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到 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100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的整数中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,2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一共会出现多少次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5752440" y="3238200"/>
            <a:ext cx="563904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0" b="23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1907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一天，某女生正在和甲男通电话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乙男一把抢过女生的手机，开玩笑说：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你给我女朋友打电话干嘛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”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甲乙两人在电话里发生争执，随后双方干脆约定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校门口见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!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76720" y="990720"/>
            <a:ext cx="457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去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2193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去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4572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人生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AB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剧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371600"/>
            <a:ext cx="3821040" cy="441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8755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0848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这名只有十五六岁的少年，穿着牛仔裤和白色的运动鞋，腹部的内衣、外衣统统被殷红的鲜血浸透，孩子苍白着脸，身子无力地靠在门边，脑袋向左垂下，绝望地盯着冰凉的水泥地，一动不动。抢救无效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不幸身亡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33720" y="457200"/>
            <a:ext cx="3886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血写的惨剧</a:t>
            </a:r>
            <a:endParaRPr b="0" lang="en-US" sz="2400" spc="1" strike="noStrike">
              <a:ln w="9360">
                <a:solidFill>
                  <a:srgbClr val="ff9933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6180120"/>
            <a:ext cx="9144000" cy="303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320760" cy="365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934320" y="5943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410080" y="6172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981080" y="6172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886200" y="6019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752480" y="457200"/>
            <a:ext cx="51818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宋体"/>
              </a:rPr>
              <a:t>实话实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133720" y="1981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990720"/>
            <a:ext cx="845820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有一天，素有森林之王之称的狮子，来到了天神面前：“我很感谢你赐给我如此雄壮威武的体格、如此强大无比的力气，让我有足够的能力统治这整座森林。”天神听了，微笑地问：“但是这不是你今天来找我的目的吧！看起来你似乎为了某事而困扰呢！”狮子轻轻吼了一声，说：“天神真是了解我啊！我今天来的确是有事相求。因为尽管我的能力再好，但是每天鸡鸣的时候，我总是会被鸡鸣声给吓醒。神啊！祈求您，再赐给我一个力量，让我不再被鸡鸣声给吓醒吧！”天神笑道：“你去找大象吧，它会给你一个满意的答复的。”狮子兴匆匆地跑到湖边找大象，还没见到大象，就听到大象跺脚所发出的“砰砰”响声。狮子加速地跑向大象，却看到大象正气呼呼地直跺脚。狮子问大象：“你干嘛发这么大的脾气？”大象拼命摇晃着大耳朵，吼着：“有只讨厌的小蚊子，总想钻进我的耳朵里，害我都快痒死了。”狮子离开了大象，心里暗自想着：“原来体型这么巨大的大象，还会怕那么瘦小的蚊子，那我还有什么好抱怨呢？毕竟鸡鸣也不过一天一次，而蚊子却是无时无刻地骚扰着大象。这样想来，我可比他幸运多了。”狮子一边走，一边回头看着仍在跺脚的大象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心想：“天神要我来看看大象的情况，应该就是想告诉我，谁都会遇上麻烦事，而它并无法帮助所有人。既然如此，那我只好靠自己了！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反正以后只要鸡鸣时，我就当做鸡是在提醒我该起床了，如此一想，鸡鸣声对我还算是有益处呢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3720" y="380880"/>
            <a:ext cx="4248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勇度难关 收获理想</a:t>
            </a:r>
            <a:endParaRPr b="1" lang="en-US" sz="40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468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8:23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3:01Z</dcterms:modified>
  <cp:revision>29</cp:revision>
  <dc:subject>主题班会课件(分28大类): http://shop62905894.taobao.com</dc:subject>
  <dc:title>主题班会课件(分28大类): http://shop62905894.taobao.com</dc:title>
</cp:coreProperties>
</file>