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13B-3113-4C04-9291-6E5FFAD8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0DE-1E92-4992-ADD4-D31B390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449-BD5C-4B38-995A-9FDEDFCD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0E2-BAB2-478A-BB47-C21428AD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4079-82ED-4065-A736-55FF3885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CA43-A1D8-47B9-9D3C-20931E9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2F4A-F862-464C-A2E6-43032AA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C943-A81D-4749-99F6-7E2CDFA4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5638-5640-4030-837E-43E53EF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ABAB-DEB8-4B3B-8334-3012F5C5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7E27-D564-4855-BE1B-C6C0880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F32-3A0D-4A22-9342-F4AA6A9D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95F5-DDDC-40DE-9151-E6BBCBF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46AB-8D80-47F1-B4EA-588ECAA9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52A7-12ED-4AF2-A72D-A1E5B8C7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EFF1-F4B2-4349-98C0-BF6FB9E6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41B3-6F53-4E2E-AA97-40A06DCF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148C-2642-4ED9-963D-FFD6B4E4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44EA1-EF75-4CB3-8FE5-D01874A7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2C13-6FAF-4536-89CF-698C22F0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3EF1-E24B-4E9F-ACF9-62FCA226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18E19-6113-4E0C-BD54-A9E52D1D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EF1-4F1A-44C0-8DEF-8A776E9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1B36-1719-4CE4-B590-78FF2C65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93F5-04B3-495E-8AF7-D2EB2438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E5C6-3603-4EF0-9CAE-320F083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2913-EA77-47E5-A349-763F24B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32B9-26C0-4725-ADEC-4499440D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A735-B7BB-4357-A9AC-CA44CFF6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C11A-06EA-457C-A0DF-317C97B7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C2373-4335-4335-A8A4-A6EF1C75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D3B29-44C5-4698-A5F2-F66A8AA0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4D258-8B27-43A5-B01D-B6102500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B20-5280-4A97-AB69-05B67557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FEAE6-BFA0-466E-9105-8B869839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40DBA-0C1A-4353-A324-6A412A88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28610-392E-467D-995F-1930F5A2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B350E-9E3B-4E00-A0E1-706DA79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D0398-8000-4B4A-8ADA-BBE18161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58A54-3B15-42E8-B132-E2BDA90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0704B-700B-4196-9E92-0F6ACE16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C1F418-E940-40D7-979E-2E424179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EBFE1-89E7-4CAA-873A-89598BD0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0ED-E17A-4DDF-A976-07CDD289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4E1-47B5-40F1-B231-CB37232C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E17-B2B4-4BFA-A458-0DE661F3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240-1635-4818-8BA6-DD6E79D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D64-6E09-4930-8756-2EF67D47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9699-FD64-4B1C-9EC1-F5616173757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FA7B-D820-40B4-85A0-B16F8385C92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8D34-9E32-46E2-A056-E86A0038940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9D41-52F4-4B86-AE36-06053606609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76360" y="206064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I Believe I Can Fly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65440" y="314172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如何达到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18960" y="5229360"/>
            <a:ext cx="33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-----10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９班九周主题班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981000"/>
            <a:ext cx="82090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位日本马拉松长跑运动员，他的身体条件并不比其他国家的运动员更具优势，但他取得了最后的胜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2852640"/>
            <a:ext cx="82090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我没有什么秘诀，我只是将整个赛程以明显的建筑物标志分成若干个小目标，对于每个小目标，我都以百米冲刺的激情去跑完它，同时又以同样的激情去冲刺下一个目标，直到终点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68360" y="1341360"/>
            <a:ext cx="48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达到阶段目标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43280" y="1125360"/>
            <a:ext cx="33130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坚持不懈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3284640"/>
            <a:ext cx="835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只要放弃了就没有成功的机会；坚持不懈，就会拥有成功的希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0000" y="1700280"/>
            <a:ext cx="748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  <a:ea typeface="黑体"/>
              </a:rPr>
              <a:t>我们身边有哪些同学通过自己的努力并达到既定目标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260280"/>
            <a:ext cx="23335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身边的榜样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260280"/>
            <a:ext cx="3024360" cy="56898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71640" y="692280"/>
            <a:ext cx="1990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目标明确 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00000" y="1844640"/>
            <a:ext cx="1990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坚定信念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00000" y="4178160"/>
            <a:ext cx="19908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坚持不懈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00000" y="2997360"/>
            <a:ext cx="1990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达到阶段目标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1484280"/>
            <a:ext cx="5688000" cy="1728720"/>
          </a:xfrm>
          <a:prstGeom prst="wedgeRoundRectCallout">
            <a:avLst>
              <a:gd name="adj1" fmla="val 30462"/>
              <a:gd name="adj2" fmla="val 824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我十分渴望达到既定目标，那么我需要做些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 flipH="1" rot="194400">
            <a:off x="7243200" y="3789000"/>
            <a:ext cx="14065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55640" y="549360"/>
            <a:ext cx="3384720" cy="86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我的目标是（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27640" y="189000"/>
            <a:ext cx="4465440" cy="1728720"/>
          </a:xfrm>
          <a:prstGeom prst="cloudCallout">
            <a:avLst>
              <a:gd name="adj1" fmla="val -59208"/>
              <a:gd name="adj2" fmla="val 6935"/>
            </a:avLst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为什么要达到这个目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1700280"/>
            <a:ext cx="3311640" cy="1368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预计在什么时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达到这个目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3284640"/>
            <a:ext cx="3311640" cy="1657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预计在过程中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遇到什么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00720" y="2276640"/>
            <a:ext cx="4032000" cy="1871640"/>
          </a:xfrm>
          <a:prstGeom prst="cloudCallout">
            <a:avLst>
              <a:gd name="adj1" fmla="val -56180"/>
              <a:gd name="adj2" fmla="val 52546"/>
            </a:avLst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怎样解决这些问题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157720"/>
            <a:ext cx="3744720" cy="13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下一个目标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24000" y="1341360"/>
            <a:ext cx="647640" cy="5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2997360"/>
            <a:ext cx="64764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2267640" y="4869720"/>
            <a:ext cx="936720" cy="792000"/>
          </a:xfrm>
          <a:custGeom>
            <a:avLst/>
            <a:gdLst>
              <a:gd name="textAreaLeft" fmla="*/ 312120 w 936720"/>
              <a:gd name="textAreaRight" fmla="*/ 802440 w 93672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50920" y="189000"/>
            <a:ext cx="1800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推荐书籍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265640" y="189000"/>
            <a:ext cx="4483080" cy="6408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38200" y="1989000"/>
            <a:ext cx="324180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内容简介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通过一个叫林刚的中学生，讲述了自己如何向一个研究“教育成功学”的教授学习，并逐步掌握了成功所需要的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项基本素质，走向成功的故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55640" y="981000"/>
            <a:ext cx="41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90792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620640"/>
            <a:ext cx="699156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１、没有目标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２、目标模糊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３、有较清晰的短期目标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４、有十分清晰的长期目标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616572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通过举手现场调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4000" y="189000"/>
            <a:ext cx="8569080" cy="15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10199"/>
                </a:solidFill>
                <a:latin typeface="黑体"/>
                <a:ea typeface="黑体"/>
              </a:rPr>
              <a:t>1952</a:t>
            </a:r>
            <a:r>
              <a:rPr b="1" lang="zh-CN" sz="2800" spc="-1" strike="noStrike">
                <a:solidFill>
                  <a:srgbClr val="010199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10199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10199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101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10199"/>
                </a:solidFill>
                <a:latin typeface="黑体"/>
                <a:ea typeface="黑体"/>
              </a:rPr>
              <a:t>日清晨，</a:t>
            </a:r>
            <a:r>
              <a:rPr b="1" lang="en-US" sz="2800" spc="-1" strike="noStrike">
                <a:solidFill>
                  <a:srgbClr val="010199"/>
                </a:solidFill>
                <a:latin typeface="黑体"/>
                <a:ea typeface="黑体"/>
              </a:rPr>
              <a:t>34</a:t>
            </a:r>
            <a:r>
              <a:rPr b="1" lang="zh-CN" sz="2800" spc="-1" strike="noStrike">
                <a:solidFill>
                  <a:srgbClr val="010199"/>
                </a:solidFill>
                <a:latin typeface="黑体"/>
                <a:ea typeface="黑体"/>
              </a:rPr>
              <a:t>岁的费罗伦斯从卡塔林纳岛开始了横游卡塔林纳的尝试。那天早晨，雾很大，海水特别凉，她连护送她的船都几乎看不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10199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10199"/>
                </a:solidFill>
                <a:latin typeface="黑体"/>
                <a:ea typeface="黑体"/>
              </a:rPr>
              <a:t>个小时之后，她又冷又累，就叫人拉她上船，别人告诉她离海岸很近了，让她坚持下去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但她朝海岸方向望去，除了浓雾什么也看不到。</a:t>
            </a:r>
            <a:r>
              <a:rPr b="1" lang="en-US" sz="2800" spc="-1" strike="noStrike">
                <a:solidFill>
                  <a:srgbClr val="010199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10199"/>
                </a:solidFill>
                <a:latin typeface="黑体"/>
                <a:ea typeface="黑体"/>
              </a:rPr>
              <a:t>小时零</a:t>
            </a:r>
            <a:r>
              <a:rPr b="1" lang="en-US" sz="2800" spc="-1" strike="noStrike">
                <a:solidFill>
                  <a:srgbClr val="010199"/>
                </a:solidFill>
                <a:latin typeface="黑体"/>
                <a:ea typeface="黑体"/>
              </a:rPr>
              <a:t>55</a:t>
            </a:r>
            <a:r>
              <a:rPr b="1" lang="zh-CN" sz="2800" spc="-1" strike="noStrike">
                <a:solidFill>
                  <a:srgbClr val="010199"/>
                </a:solidFill>
                <a:latin typeface="黑体"/>
                <a:ea typeface="黑体"/>
              </a:rPr>
              <a:t>分钟之后，她被拉上船，而此地离加州海岸只有半英里！费罗伦斯后悔万分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说实在的，我不是为自己找借口，如果当时我看见陆地，也许我能坚持下来。”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4653000"/>
            <a:ext cx="6300720" cy="1873080"/>
          </a:xfrm>
          <a:prstGeom prst="cloudCallout">
            <a:avLst>
              <a:gd name="adj1" fmla="val 54486"/>
              <a:gd name="adj2" fmla="val -6491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Comic Sans MS"/>
                <a:ea typeface="华文新魏"/>
              </a:rPr>
              <a:t>她为什么没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Comic Sans MS"/>
                <a:ea typeface="华文新魏"/>
              </a:rPr>
              <a:t>达到目标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55640" y="1052640"/>
            <a:ext cx="756144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06200" y="907920"/>
            <a:ext cx="892980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11280" y="260280"/>
            <a:ext cx="806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　　那</a:t>
            </a:r>
            <a:r>
              <a:rPr b="1" lang="en-US" sz="2400" spc="-1" strike="noStrike">
                <a:solidFill>
                  <a:srgbClr val="010199"/>
                </a:solidFill>
                <a:latin typeface="黑体"/>
                <a:ea typeface="黑体"/>
              </a:rPr>
              <a:t>3%</a:t>
            </a: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的人，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来几乎都不曾更改过自己的人生目标，他们始终朝着同一个方向不懈地努力。</a:t>
            </a:r>
            <a:r>
              <a:rPr b="1" lang="en-US" sz="2400" spc="-1" strike="noStrike">
                <a:solidFill>
                  <a:srgbClr val="010199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年后，他们几乎都成了社会各界顶尖成功人士，他们中不乏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白手创业者、行业领袖、社会精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1938240"/>
            <a:ext cx="806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　　那</a:t>
            </a:r>
            <a:r>
              <a:rPr b="1" lang="en-US" sz="2400" spc="-1" strike="noStrike">
                <a:solidFill>
                  <a:srgbClr val="010199"/>
                </a:solidFill>
                <a:latin typeface="黑体"/>
                <a:ea typeface="黑体"/>
              </a:rPr>
              <a:t>10%</a:t>
            </a: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的人，大都生活在社会的中上层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他们的共同特点是，那些短期目标不断地被达到，</a:t>
            </a: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生活质量稳步上升。他们成为各行各业不可缺少的专业人士，如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医生、律师、工程师、高级主管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3676680"/>
            <a:ext cx="806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　　那</a:t>
            </a:r>
            <a:r>
              <a:rPr b="1" lang="en-US" sz="2400" spc="-1" strike="noStrike">
                <a:solidFill>
                  <a:srgbClr val="010199"/>
                </a:solidFill>
                <a:latin typeface="黑体"/>
                <a:ea typeface="黑体"/>
              </a:rPr>
              <a:t>60%</a:t>
            </a: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的人，几乎都生活在社会的中下层面。他们能安稳地生活与工作，但都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没有什么特别的成绩。</a:t>
            </a: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4653000"/>
            <a:ext cx="806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　　剩下的</a:t>
            </a:r>
            <a:r>
              <a:rPr b="1" lang="en-US" sz="2400" spc="-1" strike="noStrike">
                <a:solidFill>
                  <a:srgbClr val="010199"/>
                </a:solidFill>
                <a:latin typeface="黑体"/>
                <a:ea typeface="黑体"/>
              </a:rPr>
              <a:t>27%</a:t>
            </a:r>
            <a:r>
              <a:rPr b="1" lang="zh-CN" sz="2400" spc="-1" strike="noStrike">
                <a:solidFill>
                  <a:srgbClr val="010199"/>
                </a:solidFill>
                <a:latin typeface="黑体"/>
                <a:ea typeface="黑体"/>
              </a:rPr>
              <a:t>的人，他们几乎都生活在社会的最底层，他们的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生活都过得很不如意，常常失业，靠社会救济，并且常常在抱怨他人，抱怨社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6360" y="1341360"/>
            <a:ext cx="331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目标明确 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2924280"/>
            <a:ext cx="792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想获得成功，就必须要确定一个清晰可见的目标，因为目标是人奋勇向前的动力源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042920" y="476280"/>
            <a:ext cx="208764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  <a:ea typeface="黑体"/>
              </a:rPr>
              <a:t>可怜的跳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64000" y="404640"/>
            <a:ext cx="475308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它已经默认了这只杯子的高度是自己无法超越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916280"/>
            <a:ext cx="252072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  <a:ea typeface="黑体"/>
              </a:rPr>
              <a:t>幸运的大黄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1916280"/>
            <a:ext cx="489564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体形肥胖笨重，翅膀十分短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708280"/>
            <a:ext cx="777564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生物学家、物理学家断言，大黄蜂是绝对不可能会飞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2000" y="2349360"/>
            <a:ext cx="8352000" cy="4292640"/>
          </a:xfrm>
          <a:prstGeom prst="irregularSeal2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大黄蜂不仅能飞，而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速度远远超过一般蜜蜂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42920" y="692280"/>
            <a:ext cx="7416720" cy="947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现实生活中，当一件事被认为是不可能时，我们就会为不可能找到许多理由，例如：我的智商没有别人高，我吃不了苦，我天生记忆力差，我不是学数学的那块料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从而使这个不可能显得理所当然，我们也就当然不会采取积极有效的行动，最终的结果肯定是这件事真的成了不可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58920" y="3933720"/>
            <a:ext cx="712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不怕你做不到，就怕你想不到。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843280" y="692280"/>
            <a:ext cx="331308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坚定信念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92360" y="2492280"/>
            <a:ext cx="60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要，而且是一定要！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195640" y="3860640"/>
            <a:ext cx="4464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心动不如行动！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44:36Z</dcterms:modified>
  <cp:revision>1</cp:revision>
  <dc:subject>主题班会课件(分28大类): http://shop62905894.taobao.com</dc:subject>
  <dc:title>主题班会课件(分28大类): http://shop62905894.taobao.com</dc:title>
</cp:coreProperties>
</file>