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7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9.jpeg" ContentType="image/jpeg"/>
  <Override PartName="/ppt/media/image12.wmf" ContentType="image/x-wmf"/>
  <Override PartName="/ppt/media/image5.jpeg" ContentType="image/jpeg"/>
  <Override PartName="/ppt/media/image11.wmf" ContentType="image/x-wmf"/>
  <Override PartName="/ppt/media/image8.gif" ContentType="image/gif"/>
  <Override PartName="/ppt/media/image3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7A5-C67D-4CE6-8106-2E556FA6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143-180A-4486-B635-18CBBAFD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AB3EF-063A-4DF4-B740-03CEDA42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46233-5E60-444D-BAC0-195F20FB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F64E4-33B4-4519-97AB-7622985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0B273-5EED-4EED-8771-B85D0AA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60940-C4C4-4FBF-A52D-12A2C594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81CB-CA48-42CC-854B-D13910E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21FB2-DA22-4CF9-BEF2-06737304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F3ADB-7939-4B68-8136-37313AE9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9EE88-AC8B-452C-B29A-F7973055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A22-606F-41D5-B24D-5F8DB07C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F47-825B-41E5-9818-8F90D815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F0D-0F9F-4244-999C-69024ADA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95C4-D047-48C2-B490-5AAD91B9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E156-77E5-4677-A73C-A4C86089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0238-6911-4249-81B4-EEE9E7FD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92F-34A4-4C92-A046-C47D4FC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4ED-BF33-444D-A8C7-190721B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FA6D-1E2D-4D1A-A454-FB8FE13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795-70C7-4966-93AD-691A78E2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85C-C331-4877-8FCC-B304EFAF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6D27-BEDB-4E33-A430-83DD64C2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94F6-5EB1-49F9-9CEC-121DDF59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7DE-14E9-4563-B9C4-47F21E1C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4065-8BB0-4F8E-B4DC-259E28A5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6E58-9F40-41AE-A399-EE84E122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3100-70AD-4F6C-914B-CCBF4F4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511A-9B64-477F-972E-D11F10DA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C2C9-5291-442F-94D7-C7AE4D65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0DEB-0437-443C-BDAC-10FBF058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B61-BF65-4903-A854-1C9C592E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8035-B8C0-4A82-912C-96E6FF9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D410-1C63-40E6-A803-89A32DB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7ABC-D6C5-45CE-9DC5-B9F0784A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7662-089A-4DA0-9672-1328FB2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9E0E-9836-4B8B-885F-E89A475D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9994-632F-4BF6-A4AD-1159FCB2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DCD0-F89A-4A14-BAFE-2DB15D9E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065C-B073-4F01-98C0-81E43FC6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513B-FA28-41BD-B440-04FCFF88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6A8E-927A-48E5-9857-FE59D25D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15F-CE85-4E85-8AB4-C10E2C36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9027-7AC1-48EE-BE57-0132C4D4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032C-E0B0-4848-B4FE-EA5E6B7B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5E5D-9F2A-4CE8-80A0-E5FE03F0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C447-B753-4F92-BC1B-01553B5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B529-D85C-421F-910C-1433B04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93EB-4468-47E9-A041-898EDA3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4DBE-1243-40F8-8331-7E05999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BF9E-0F46-403A-8F29-97C60800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EC2E0-C5A2-4A7E-A9D9-69457BBB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4663-2413-47A1-A648-7D40F6A5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C48-38D1-4D3A-A665-0270452F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35DA-CF41-4B68-9D96-2569F0E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06DC-6367-4D6B-B592-16D516E2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823D3-EF8A-4444-8DCF-3AA7D64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C30A9-2616-4A04-BA6E-A89E1370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92E9-C18A-4F3A-ABD0-3A39F09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72BE-1B6B-4B7B-AC4D-7CDD8E41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0B01-4D96-4A32-B8F4-D9382B8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D3C22-ABA6-4F8C-8229-90917B7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7B263-EFAA-49E9-B365-58E5226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9EDA-CB8D-4F45-82E0-E7B3B297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7D3-FE96-446F-8031-B07B184D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531E-7F0A-463C-A64B-F0EF6EB6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58A2-ED8F-4ADC-9665-EFE23C9D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B666-51D9-40E7-8E98-339E00FB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8B31-3A01-46BC-B78D-922B0B12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0E831-2764-47D0-AAFC-560CA74A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3A6A-E255-4A9F-939B-CA668E4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1843-D1FE-43F3-BEAF-0C0F388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41C88-5A1E-42EF-9EA2-3D663256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E514-7B21-4F72-A683-49F7BEE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92B3-3EFE-4750-80CE-F97C73E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F28-91D8-4913-8969-16BE618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7EA3-FD54-424A-AB08-C736DE07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42182-B493-4A17-ACE8-8EEC5826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432B-5FB6-4176-96E7-4C159CA9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5852A-69B8-4F01-AD9D-36D76193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90A99-A5A1-4577-94C5-47BCF4F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4865C-43BF-44F0-BA8C-E58145C2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BF88-E08D-4B93-BEA5-0803DAEB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14616-9832-4A1E-B7F3-18998389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4BC3-CF7A-415D-942A-7905C113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54DC-8C0B-41E6-ABDF-C4A0AD09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6E2-97AA-4E83-BC34-5667721C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97164-86F2-49A6-BCB5-2B4332E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5C9F-5AA2-4A25-BCE4-80126931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09B78-45AC-4100-B344-910D65C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ED20-486C-4A56-AC64-F78D561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C6E4D-CE3B-4E58-8B3B-BAA78015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F1D2D-E15E-4EDD-9AED-A21A65F1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CCC0-A8ED-4DE9-9AEB-9EB81727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69AB-1C30-4D6C-BFC6-7600066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E4F2B-6F3F-4269-B188-7F7C3AE2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92BC5-BC09-46A7-8E33-F5972C25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F9D-4013-4BB5-B010-302FC78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70D3-CF1D-4DEB-852E-CC827366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DFE3B-3279-4DA3-8262-313FF374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4F5A-1494-4217-92A2-AEBAA4A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9F44E-5127-424E-A75B-08B9916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9A47A-39F4-4200-AA57-DF58D18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35CCE-4650-488E-A5DF-E68861EF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DBE70-F4C4-4E27-918E-AA69E196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16D5F-F738-4EBC-BB0A-A9A95C32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C4E2B-F600-4694-899B-8643AF25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BB240-D911-48A5-A3F9-3AC2C20F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C3E-EB80-4D1C-B3BF-0A0C97995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6F7E-3235-42BB-A1A2-43D224D37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7EA-7544-4EF4-926F-38672F2036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D92-385F-460D-BCDC-0D6B2BC02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C460-6281-4EAF-AFA3-70BB9838E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A922-E586-4EE6-A601-DFDF29890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8149-CCD2-4302-88CF-56D10BE39C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C977-19EE-4FE7-B083-36E595507F79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C28-888D-491A-B952-5CF631731904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22200" y="210960"/>
            <a:ext cx="8713800" cy="6531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971640" y="907920"/>
            <a:ext cx="7561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迎接人生的新起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211640" y="4292640"/>
            <a:ext cx="367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庆二十七中学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赫忠玲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050920" y="333360"/>
            <a:ext cx="50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走过昨天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324000" y="1592280"/>
            <a:ext cx="83516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346640" y="9360"/>
            <a:ext cx="4762440" cy="4067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900000" y="2781360"/>
            <a:ext cx="5329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飞得更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66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5280" y="1820880"/>
            <a:ext cx="8209080" cy="4921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1979640" y="260280"/>
            <a:ext cx="5040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他们如何走上人生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3168720" cy="26640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167280" cy="28069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684360" y="115920"/>
            <a:ext cx="70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他们是如何走上人生新起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428004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116240" cy="57214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648320" y="476280"/>
            <a:ext cx="4038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811680" cy="5256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672000" cy="48243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300720" y="5950080"/>
            <a:ext cx="86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587700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陈  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3467160" cy="5000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763640" y="587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岳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80000" y="5877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郑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39546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87640" cy="4044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816360" cy="40323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476360" y="5661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马克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6000" y="566100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爱迪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529080" cy="4535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38876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816360" cy="4321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403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971640" y="1628640"/>
            <a:ext cx="74167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青年人如朝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年轻跃动的生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喷薄欲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050920" y="44280"/>
            <a:ext cx="540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宣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cc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547640" y="1989000"/>
            <a:ext cx="5832720" cy="12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班进行曲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今朝桃李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他日栋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只为成功找办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不为失败找借口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826920" y="1916280"/>
            <a:ext cx="7632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光临指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248000" cy="4175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032360" cy="4176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411280" y="5157720"/>
            <a:ext cx="45370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      溯    初     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3961080" cy="4824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 rot="5400000">
            <a:off x="5460480" y="2539800"/>
            <a:ext cx="3240000" cy="127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讲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1032120" cy="18162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2100240" cy="2490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6804000" y="1916280"/>
            <a:ext cx="1368360" cy="1815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6012000" y="314172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356000" y="1268280"/>
            <a:ext cx="1368360" cy="1816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2124000" y="2133720"/>
            <a:ext cx="1751040" cy="2590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1116000" y="765000"/>
            <a:ext cx="403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宋体"/>
              </a:rPr>
              <a:t>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50000">
              <a:srgbClr val="ffcc99"/>
            </a:gs>
            <a:gs pos="100000">
              <a:srgbClr val="75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797360" y="476280"/>
            <a:ext cx="4346640" cy="3529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-299520" y="1341360"/>
            <a:ext cx="2009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逃        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4346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 rot="5400000">
            <a:off x="6047280" y="1377000"/>
            <a:ext cx="3529080" cy="172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心中的玫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5976720" cy="5616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2303280" cy="5545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411280" y="44280"/>
            <a:ext cx="2448000" cy="936720"/>
          </a:xfrm>
          <a:prstGeom prst="wedgeEllipseCallout">
            <a:avLst>
              <a:gd name="adj1" fmla="val -45981"/>
              <a:gd name="adj2" fmla="val 42374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感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606760" y="692280"/>
            <a:ext cx="5205240" cy="5545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 rot="5400000">
            <a:off x="-443520" y="2467440"/>
            <a:ext cx="3816360" cy="1417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幸福在哪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1:08:5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0:41Z</dcterms:modified>
  <cp:revision>47</cp:revision>
  <dc:subject>主题班会课件(分28大类): http://shop62905894.taobao.com</dc:subject>
  <dc:title>主题班会课件(分28大类): http://shop62905894.taobao.com</dc:title>
</cp:coreProperties>
</file>