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6DE55-1BB5-44E2-941C-C829C4A5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3EAF-9CC3-48EC-B598-B93DB97B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893C0-DB6E-4FBD-9867-5A2BEE60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82EF-8F34-438A-9276-60092881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0550-2398-4CA0-9E55-E05D3E19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95F3-0102-4E98-854D-2EB91361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CDA9-3DEE-47E1-A454-73EA71C2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DD8F-C6C8-46FE-A8D0-B5A00CD5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1B27-AEBF-45EF-ACBF-C60A3F42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5BAC-18F5-4165-BD39-6B1DD564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3B0C-E9BA-415C-981F-757FF399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F5EA-F7EC-4623-BA59-0FFAB29B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49B4-9298-430E-A758-24F07631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019D-3E4E-4E3E-BF10-F124DF56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A7FD-906F-46ED-BD25-96FC15F7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48C4-0D9E-4ABD-BB7A-19685ABB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66A1-FB06-4D53-9335-7E94DB60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12758-D80A-41CF-A753-F397366C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F2115-1FAD-4838-8A56-D515097D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7727-D8B6-4AD7-9FEA-98EDEBA0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E160C-C16A-409A-A5D8-8E2DA904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E539A-A90A-464C-8E4A-51324289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0308E-B719-4AB0-8D6C-5537E7A0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A672C-79BE-496B-A826-CCF890D3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BF413-E085-42C2-985A-FF74869A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B550-DCBD-40BB-B8FE-4CB9D2B1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5CCEE-8A05-470A-80E8-8A123116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4C16D-973C-469E-8CC1-78D0DBBA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87CB4-12B7-4950-8329-2BE6BBE5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622DE-A757-40BB-A89E-6DFFFC3F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77252-E237-41B2-AC1B-9679E72B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7AB1CB-2D59-43E8-A7D5-2AD30F93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68A5D5-857C-4E0C-8DFE-ACD0A760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04E9-D59D-421D-A157-54D674DA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AA6043-9B68-4069-BAD7-10EE14C3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100A3C-EFA6-4174-87D5-6A047686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4420E-1E78-4633-B6E1-AB3739AF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65E30-FF31-4907-941C-68014F73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C184E-C9F6-482E-B139-2378962A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921DE-6E9F-431B-A3D9-33448228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07BF8E-250A-44B2-855C-9E28C816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A7FBDA-6B3B-4669-9104-02C6A3F1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5AE064-94E8-4C4C-8B0D-0CF0B1DB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DFD8D-C2A7-40D3-B477-7F258CFE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2F779-0D66-4746-B6E3-E0D9797B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B2590-77F9-4188-A410-7B6555ED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B1F76-E996-4E7B-93B5-BB3BA1B1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E872A-7F25-450B-ADE2-662FBE69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CFCBE-CDD7-4CCE-85C1-B138EFB9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FBD35-240A-46DB-8A5C-CCE583C6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ACD0C-3BEB-4E18-9216-C682FADD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DE716-1274-4DA2-82A0-D63F4C66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4583B-3523-4B94-84A0-5E37ABE5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352CF-F799-486D-89E1-66B7EE05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ACFC6-D2AF-4F40-8376-95DF83E2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3AC2-F3C9-41E3-A648-D8EF2D01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F72EF-8F14-44DF-B660-B3EE327C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1C342-DB1B-4140-9F77-41AC5BE4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10743-EC0B-4D1C-ACEC-D5055842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114BB-7FD7-4C61-9B6B-8D1CE799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84249-4A6F-4F27-8F3A-3FE23530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EE21C-CFE2-4177-AB55-03F08E1D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391A6-CDD0-4270-9531-C14FF2EF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2E5F8-06A3-4CB7-86D0-63DF12E0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5B59A-D019-4C88-87DB-2E5C3970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B3834-5D94-415C-BF8E-4CB31A22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EEC2-35EB-404E-8F55-7CC30394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14CB7-83A8-40A4-9EC8-A9BF42B1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92B3C-0F6A-40EB-83C8-60B61B5E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6C010-C15E-4487-A4BC-E6D894A0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AA25-5D8C-4237-B0CB-00211E5E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8BC2-999E-4E07-92EF-077CF565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35FD-A07F-4D80-834E-2959A787503E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45A3-63B1-47A7-86FC-8340A921C1F4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4491-2D7F-4E97-A1D9-F2A231AA2D6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18F3-773F-4DE9-A4DB-23E0F8380F3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C4EF-A5F2-4F3B-A43D-EEA5268523E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4248-EB4A-45A8-9B1C-BC40C4B58A3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Tahoma"/>
              </a:rPr>
              <a:t>用目标引领我们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771280" y="549000"/>
            <a:ext cx="302436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华文行楷"/>
              </a:rPr>
              <a:t>主题班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543600" y="188280"/>
            <a:ext cx="78984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新魏"/>
              </a:rPr>
              <a:t>今天以目标定位开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14360" y="188280"/>
            <a:ext cx="78984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新魏"/>
              </a:rPr>
              <a:t>明天为现实能言无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08000" y="23817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1984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年，在东京国际马拉松邀请赛中，名不见经传的日本选手山田本一出人意外地夺得了世界冠军。当记者问他凭什么取得如此惊人的成绩时，他说了这么一句话：凭智慧战胜对手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当时许多人都认为这个偶然跑到前面的矮小子选手是在故弄玄虚。马拉松赛是体力和耐力的运动，只要身体素质好又有耐性就有望夺冠，爆发力和速度都还在其次，说用智慧取胜确实有点勉强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50920" y="171252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两年后，意大利国际马拉松邀请赛在意大利北部城市米兰举行，山田本一代表日本参加比赛。这一次，他又获得了世界冠军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记者又请他谈谈经验。山田本一性情木讷，不善言谈，回答的仍是上次那句话：凭智慧战胜对手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在记者得一再追问下，他说出了获得成功的做法是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87280" y="5846760"/>
            <a:ext cx="668664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华文新魏"/>
              </a:rPr>
              <a:t>你可以猜一猜他成功的做法：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08000" y="3006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每次比赛之前，我都要乘车把比赛的线路仔细勘查。第一个标志是银行；第二个标志是一棵大树；第三个标志是一座红房子……这样一直画到赛程的终点。比赛开始后，我就以百米的速度奋力地向第一个目标冲去，等到达第一个目标后，我又以同样的速度向第二个目标冲去。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40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多公里的赛程，就被我分解成这么几个小目标轻松地跑完了。起初，我并不懂这样的道理，我把我的目标定在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40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多公里外终点线上的那面旗帜上，结果我跑到十几公里时就疲惫不堪了，我被前面那段遥远的路程给吓倒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68360" y="2491920"/>
            <a:ext cx="8207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华文行楷"/>
              </a:rPr>
              <a:t>为发展定位——从我们现在的起点设定本学期的目标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539640" y="4292640"/>
            <a:ext cx="3311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华文行楷"/>
              </a:rPr>
              <a:t>班级建设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5300640"/>
            <a:ext cx="331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华文行楷"/>
              </a:rPr>
              <a:t>个人成长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189000"/>
            <a:ext cx="8208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华文行楷"/>
              </a:rPr>
              <a:t>临渊羡鱼，不如退而结网——从我做起、从现在做起、从点滴处做起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68000" y="1941480"/>
            <a:ext cx="82090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设立目标——我们成长的需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8360" y="4965840"/>
            <a:ext cx="82090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实现目标——我们共同的心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8360" y="2878200"/>
            <a:ext cx="82090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分解目标——我们成功的阶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8360" y="3957480"/>
            <a:ext cx="82090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调整目标——我们快乐的源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4360" y="189000"/>
            <a:ext cx="7343640" cy="1766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让我们提高认识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26028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隶书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0920" y="333360"/>
            <a:ext cx="849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勇敢的行为形成于内心的强大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一种心态对应一种行为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一种行为对应一种结果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573408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行成于心——树立成功的目标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4000" y="2997360"/>
            <a:ext cx="604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孔子曰：仁者不忧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       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智者不惑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       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勇者不惧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7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70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684360" y="189000"/>
            <a:ext cx="7343640" cy="1766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为实现目标的努力是有意义的！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39640" y="2781000"/>
            <a:ext cx="7777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琥珀"/>
              </a:rPr>
              <a:t>让我们为心中的目标而奋斗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436572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琥珀"/>
              </a:rPr>
              <a:t>预祝大家在月考中取得优异成绩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目标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计划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行动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勇气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方法的正确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坚持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成功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目标的重要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目标产生积极的心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目标使我们看清使命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产生动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目标使我们觉得生存的意义和价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目标使我们把重点从过程转到结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目标有助于我们分清轻重缓急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把握重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目标使我们集中精力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把握现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目标能提高激情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有助评估进展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目标产生信心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勇气和胆量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目标使人自我完善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永不停步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目标使你成为一个成功的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280" y="278136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曾有人做过一个实验：组织三组人，让他们分别沿着十公里以外的三个村子步行。第一组的人不知道村庄的名字，也不知道路程有多远，只告诉他们跟着向导走就是。刚走了两三公里就有人叫苦，走了一半时有人几乎愤怒了，他们抱怨为什么要走这么远，何时才能走到？有人甚至坐在路边不愿走了，越往后走他们的情绪越低落。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38040"/>
            <a:ext cx="66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fd03"/>
                </a:solidFill>
                <a:latin typeface="Tahoma"/>
                <a:ea typeface="华文琥珀"/>
              </a:rPr>
              <a:t>设定目标是获得成功前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 rot="5400000">
            <a:off x="-1944000" y="2890080"/>
            <a:ext cx="4967280" cy="72072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听一听别人做过什么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40" name=""/>
          <p:cNvSpPr/>
          <p:nvPr/>
        </p:nvSpPr>
        <p:spPr>
          <a:xfrm>
            <a:off x="971640" y="1125360"/>
            <a:ext cx="79930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71280" y="246384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第二组的人知道村庄的名字和路段，但路边没有里程碑，他们只能凭经验估计行程时间和距离。走到一半的时候大多数人就想知道他们已经走了多远，比较有经验的人说：</a:t>
            </a: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"</a:t>
            </a: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大概走了一半的路程。</a:t>
            </a: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"</a:t>
            </a: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于是大家又簇拥着向前走，当走到全程的四分之三时，大家情绪低落，觉得疲惫不堪，而路程似乎还很长，当有人说：</a:t>
            </a: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"</a:t>
            </a: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快到了！</a:t>
            </a: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"</a:t>
            </a: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大家又振作起来加快了步伐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"/>
          <p:cNvSpPr txBox="1"/>
          <p:nvPr/>
        </p:nvSpPr>
        <p:spPr>
          <a:xfrm rot="5400000">
            <a:off x="-1944000" y="3033000"/>
            <a:ext cx="4967280" cy="72072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听一听别人做过什么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8920" y="2392200"/>
            <a:ext cx="763272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ffffcc"/>
                </a:solidFill>
                <a:latin typeface="Tahoma"/>
              </a:rPr>
              <a:t>第三组的人不仅知道村子的名字、路程，而且公路上每一公里就有一块里程碑，人们边走边看里程碑，每缩短一公里大家便有一小阵的快乐。行程中他们用歌声和笑声来消除疲劳，情绪一直很高涨，所以很快就到达了目的地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 rot="5400000">
            <a:off x="-1801080" y="2890080"/>
            <a:ext cx="4967280" cy="72072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听一听别人做过什么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19280" y="907920"/>
            <a:ext cx="705816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ahoma"/>
              </a:rPr>
              <a:t>我们希望是哪一组的成员？</a:t>
            </a:r>
            <a:br>
              <a:rPr sz="4400"/>
            </a:br>
            <a:r>
              <a:rPr b="1" lang="zh-CN" sz="4400" spc="-1" strike="noStrike">
                <a:solidFill>
                  <a:srgbClr val="ffffcc"/>
                </a:solidFill>
                <a:latin typeface="Tahoma"/>
              </a:rPr>
              <a:t>谈谈你的理由。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 rot="5400000">
            <a:off x="-1991520" y="2720160"/>
            <a:ext cx="5545440" cy="9144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说一说你的感受和想法</a:t>
            </a:r>
            <a:endParaRPr b="1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47" name=""/>
          <p:cNvSpPr/>
          <p:nvPr/>
        </p:nvSpPr>
        <p:spPr>
          <a:xfrm>
            <a:off x="1692360" y="3213000"/>
            <a:ext cx="705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ahoma"/>
              </a:rPr>
              <a:t>我们现在像哪一组的成员？</a:t>
            </a:r>
            <a:br>
              <a:rPr sz="4400"/>
            </a:br>
            <a:r>
              <a:rPr b="1" lang="zh-CN" sz="4400" spc="-1" strike="noStrike">
                <a:solidFill>
                  <a:srgbClr val="ffffcc"/>
                </a:solidFill>
                <a:latin typeface="Tahoma"/>
              </a:rPr>
              <a:t>谈谈你的想法和计划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76360" y="2421000"/>
            <a:ext cx="741672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黑体"/>
                <a:ea typeface="黑体"/>
              </a:rPr>
              <a:t>启示：当人们的行动有明确的目标，并且把自己的行动与目标不断加以对照，清楚地知道自己的进行速度和与目标相距的距离时，行动的动机就会得到维持和加强，人就会自觉地克服一切困难，努力达到目标。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"/>
          <p:cNvSpPr txBox="1"/>
          <p:nvPr/>
        </p:nvSpPr>
        <p:spPr>
          <a:xfrm rot="5400000">
            <a:off x="-2064600" y="2720160"/>
            <a:ext cx="5545440" cy="9144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00ff99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我们应当达成的共识</a:t>
            </a:r>
            <a:endParaRPr b="1" i="1" lang="en-US" sz="1800" spc="1" strike="noStrike">
              <a:ln w="12600">
                <a:solidFill>
                  <a:srgbClr val="00ff99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971280" y="907560"/>
            <a:ext cx="7343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Verdana"/>
                <a:ea typeface="楷体_GB2312"/>
              </a:rPr>
              <a:t>牢记我们的总目标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28526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良心无愧   信心无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恒心无敌   青春无悔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834920" y="333360"/>
            <a:ext cx="561636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华文行楷"/>
              </a:rPr>
              <a:t>目标设想大家谈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1501560" y="13590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隶书"/>
              </a:rPr>
              <a:t>高中毕业时的我应当是这样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704960" y="25653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隶书"/>
              </a:rPr>
              <a:t>高三结束时我们的班应当是这样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76600" y="386064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隶书"/>
              </a:rPr>
              <a:t>高中毕业后十年我们应当是这样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4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4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4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4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6425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  <a:ea typeface="华文行楷"/>
              </a:rPr>
              <a:t>从他人的表现中感受——合理的设定目标是智慧和力量的体现！让我们作有智慧的人！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9:42:1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37:09Z</dcterms:modified>
  <cp:revision>1</cp:revision>
  <dc:subject>主题班会课件(分28大类): http://shop62905894.taobao.com</dc:subject>
  <dc:title>主题班会课件(分28大类): http://shop62905894.taobao.com</dc:title>
</cp:coreProperties>
</file>