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C3D-2F15-4C78-8BA1-2B38C600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656-C324-4368-8F06-309F6A21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4DA-15D1-45CC-A367-8F781F4B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D80-0765-49F0-8E3E-14EDBF5D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B5D-4080-4D92-A7EC-D8181B5C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25-F8C4-4353-8032-98DA9FE5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AD7-0F29-4291-8E2A-EB39B9DB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0E1-D88F-41E1-853A-CE640882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2D3-E144-4EAF-92BB-274DA0A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FB8-E135-4F29-B8B7-3249E2F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F27-DD35-4CF8-833C-34DEECE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3DF-A9C8-4528-A671-2A4678F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907-CC94-43B2-BB2A-C12C4FCE7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628640"/>
            <a:ext cx="3241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挑战的动力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——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目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71640" y="981000"/>
            <a:ext cx="453060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My wa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5300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526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476280"/>
            <a:ext cx="7570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　目标是老师们看到我们成才的那份欣慰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　目标是“有志者，事竟成”的那份恒心。 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目标是家长们期待我们长大的那份渴望。 　 　 </a:t>
            </a:r>
            <a:br>
              <a:rPr sz="2800"/>
            </a:b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　 　 </a:t>
            </a:r>
            <a:br>
              <a:rPr sz="2800"/>
            </a:b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目标是我们人生的憧憬、前进的方向和动力。 　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　 　 </a:t>
            </a:r>
            <a:br>
              <a:rPr sz="2800"/>
            </a:b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这就是目标，既简单又复杂。只要拥有了它，我们就无所不能、战无不胜。阳光总在风雨后，请相信有彩虹！心怀一个目标，成功就离你不远了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411280" y="3141720"/>
            <a:ext cx="269892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620640"/>
            <a:ext cx="81374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何谓目标？顺手拿过来一本《现代汉语词典》，上面写道：“想要达到的境地或标准。”言简意赅，明白之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只要目标专一而不三心二意，持之以恒而不半途而废，就一定能够实现我们美好的理想。 　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目标的实现＝方向＋恒心 　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    在这里，方向和恒心是缺一不可的，是实现目标的必需因素，当然了，机遇是不可忽视的，它其实是存在的，但由于它在任何事情上都会有影响，所以我在这里就不再详细分析了。 　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我们要知道高尔基的一句话：“一个人追求的目标越高，他的才干就发展得越快，对社会越有益。”这句话也离不开方向和恒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16000" y="907920"/>
            <a:ext cx="7128000" cy="24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下面来看几个小故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724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23640" y="4149720"/>
            <a:ext cx="49071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睛盯在目标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意义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目标集中在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男人邀请三个小男孩在雪地上玩一个游戏：“我呆会儿站在雪地的那一边，等我发出信号后，你们就开始跑。谁留在雪地上的脚印最直，谁就是这场比赛的胜利者，可以拿到奖品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比赛开始了。第一个小男孩从迈出的第一步开始，眼光就紧紧地盯着自己的双脚，以确保自己的脚印更直。第二个小男孩一直在左顾右盼，观察着同伴是如何做的。第三个小男孩最终赢得了这场比赛，他的眼睛一直盯着站在对面的那个男人，更确切地说，是一直盯着他手中拿着的奖品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63640" y="404640"/>
            <a:ext cx="5272200" cy="18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眼睛盯在目标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734080"/>
            <a:ext cx="748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有将眼光坚定不移地聚焦在人生目标上的人，才会少走弯路，与成功的距离也会大大缩短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33336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农夫养了一条狗，这条狗经常坐在路边等着车辆前来。一旦有车辆经过，它就会跑上马路，狂吠着试图超过汽车。 　　一天，一个邻居问这个农夫：“你认为你的狗能追上一辆汽车吗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?”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农夫回答说：“狗能不能追上汽车并没有困扰我，我烦恼的是即使它能超过一辆汽车，又有什么用呢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?”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华文新魏"/>
              </a:rPr>
              <a:t>　　生活中有许多人会犯同样的错误，一直在追求一个毫无意义的目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64500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-756360" y="2998080"/>
            <a:ext cx="41767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无意义的目标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美国一位生物学家有幸拍到一组精彩镜头。有一种麻雀大小的鸟儿扑扇着翅膀刚刚落在沙地上准备觅食时，潜伏在沙地里的蛇猛地窜了出来。鸟儿用自己的爪子一下又一下地拍击着蛇的头部，由于力量有限，蛇依然攻击不止。鸟儿一边躲闪着蛇信，一边用爪子继续拍击着蛇的头部，其落点分毫不差。在鸟儿拍击了１０００多次后，蛇终于无力地软瘫在沙地上，再也动不起来了。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　　这种鸟儿和蛇的力量是悬殊的，它甚至还没有一只麻雀飞得高。生物学家唯一的解释就是，这种鸟儿经过长期的经验积累后，终于掌握了一套对付蛇的办法，那就是瞄准蛇头的一个点，不停地去打。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　　在现实生活中，很多人之所以失败，就是没有把目标集中到一点坚持不懈地走下去，而成功者则把目标集中到一点，并锲而不舍地走到最后。由此看来，只要能把目标集中到一点，哪怕力量微小，但只要坚持，就能创造奇迹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525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把目标集中在一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87280" y="0"/>
            <a:ext cx="6624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完故事，你应该有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了很深的体会了，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出来吧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9640" y="2060640"/>
            <a:ext cx="73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0000" bIns="180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目标的人，如迷途的羔羊，似断樯的航船，迷惘而且无助。 　 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没有目标的人，如断线的风筝，似折翅的小鸟，难再飞上天空。 　 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没有目标的人，如秋风过后的枯树，似大雁南飞后的空巢，寂寞而且冷清。 　 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没有目标的人，如黑夜找不到灯塔，似登山时突遇到风暴，无法辨明方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92360" y="476280"/>
            <a:ext cx="59752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目标，天天向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35280" y="1700280"/>
            <a:ext cx="616104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制定好了目标，就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家分享吧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11:3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6:13Z</dcterms:modified>
  <cp:revision>1</cp:revision>
  <dc:subject>主题班会课件(分28大类): http://shop62905894.taobao.com</dc:subject>
  <dc:title>主题班会课件(分28大类): http://shop62905894.taobao.com</dc:title>
</cp:coreProperties>
</file>