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887-9FB4-42BD-8E8B-E4B620F1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24A-2AC3-4080-AAA7-67B08533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46F-82C9-4E02-AF12-70374BB5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1B7-D1D6-4E17-A930-17513CDE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306-CEF3-43F4-A853-AA60A1D5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4CA-372B-491C-8026-EA376067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B53-0601-4A9C-AEB4-25CE1E97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C44-C8F1-40CE-8E6E-1ED20011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A9B-F5F1-4C7B-AC94-8291D06C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6EC-E90D-477B-B4E2-ECDD50F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1A5-6826-4471-B4EF-40CD5C2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8A2-B7C3-406C-B539-E53C2DCA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68A0-7123-41CB-B972-7FDB197FF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zdsb.net/Article/ShowClass.asp?ClassID=37&amp;page=1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blog.jledu.gov.cn/group.asp?gid=34&amp;pid=28409" TargetMode="Externa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10_wallpaper/html/wallpaper2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ishjava.com/mobiletupian/4dc87f6a_34b5ce2fe/4dc87f6a_378.htm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ome.pica.com/12345/post.do?id=25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inaszjy.cn/tyff/tyff.asp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1412640"/>
            <a:ext cx="540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cc"/>
                </a:solidFill>
                <a:latin typeface="Arial"/>
                <a:ea typeface="华文新魏"/>
              </a:rPr>
              <a:t>读故事</a:t>
            </a:r>
            <a:br>
              <a:rPr sz="9600"/>
            </a:br>
            <a:r>
              <a:rPr b="1" lang="zh-CN" sz="9600" spc="-1" strike="noStrike">
                <a:solidFill>
                  <a:srgbClr val="0000cc"/>
                </a:solidFill>
                <a:latin typeface="Arial"/>
                <a:ea typeface="华文新魏"/>
              </a:rPr>
              <a:t>明道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5类孩子最易染上“网瘾”"/>
          <p:cNvPicPr/>
          <p:nvPr/>
        </p:nvPicPr>
        <p:blipFill>
          <a:blip r:embed="rId1"/>
          <a:srcRect l="5197" t="3311" r="3118" b="1648"/>
          <a:stretch/>
        </p:blipFill>
        <p:spPr>
          <a:xfrm>
            <a:off x="0" y="1601640"/>
            <a:ext cx="3500280" cy="5256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对学习的逆反心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5724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同学由于经常在学习上受到低评价，受不到老师的重视，加上心理素质较差，对学习逐渐产生紧张、焦虑、不安、麻木、恐惧以至反感，产生了逆反心理，经常赌气中断学习，一提学习就倒胃口。至于身心方面如果存在更为严重的疾患，就更不用说对学习欲望的消极影响了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国外古典花纹系列：规则边框类缎带横幅精致矢量花纹 - 花纹边框向量图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国外古典花纹系列：规则边框类缎带横幅精致矢量花纹 - 花纹边框向量图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君子报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有一个人很不满意自己的工作，他生气地对朋友说：“我的上司一点也不把我放在眼里，改天我要对他拍桌子，然后辞职不干。”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       “你对于那家展览公司完全弄清楚了吗？对于他们做展览的窍门完全弄清楚了吗？”他朋友反问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        “没有。”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        “君子报仇十年不晚，我建议你好好地把他们的一切展览事项、商业文书和公司组织完全搞通，甚至连怎么修理复印机的小故障都学会，然后辞职不干。”他的朋友建议道，“你用他们的公司做免费学习的地方，什么东西都弄通了以后，再一走了之，不是既出了气，又有许多收获吗？”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国外古典花纹系列：规则边框类缎带横幅精致矢量花纹 - 花纹边框向量图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那人听从了朋友的建议，从此便默记偷学，甚至下班以后，还留在办公室研究写商业文书的方法。一年之后，那位朋友偶然遇到他：“你现在大概多半都学会了，可以准备拍桌子不干了吧？”“可是我发现近半年来，老板对我刮目相看，最近又委以重任，又升职又加薪的，我已经成为公司的红人了！”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       “这是我早就料到的！”他朋友笑着说：“当初你的老板不重视你，是因为你的能力不足。而后你痛下苦功，担当重任，当然会令人对你刮目相看。只知抱怨上司的态度，却不反省自己的能力，这是人们常犯的毛病啊。”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人生智慧：你既然有时间抱怨，不如把这些时间用充实自己，总有一天，你会发现，其实你也能成为举足轻重的人物。到那时，一切的不如意都将成为历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/>
          </p:cNvPr>
          <p:cNvPicPr/>
          <p:nvPr/>
        </p:nvPicPr>
        <p:blipFill>
          <a:blip r:embed="rId2"/>
          <a:srcRect l="0" t="8027" r="4160" b="11034"/>
          <a:stretch/>
        </p:blipFill>
        <p:spPr>
          <a:xfrm>
            <a:off x="0" y="816120"/>
            <a:ext cx="9144000" cy="6041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什么要培养我们的学习兴趣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国外古典花纹系列：规则边框类缎带横幅精致矢量花纹 - 花纹边框向量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</a:rPr>
              <a:t>、对未来活动的准备作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060640"/>
            <a:ext cx="799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例如对于一名中学生来说，他对化学感兴趣，就可能激励他积累各种化学知识，研究各种化学现象，为将来研究和从事化学方面的工作打基础，做准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国外古典花纹系列：规则边框类缎带横幅精致矢量花纹 - 花纹边框向量图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71640" y="490680"/>
            <a:ext cx="741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对正在进行的活动起推动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00" y="1816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兴趣是一种具有浓厚情感的志趣活动，它可以使人集中精力去获得知识，积极愉快地从事某种活动。凡是符合自己的兴趣的活动，都容易提高人的积极性，并创造性地完成当前的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国外古典花纹系列：规则边框类缎带横幅精致矢量花纹 - 花纹边框向量图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对活动的创造性态度的促进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136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兴趣会促使人深入钻研、创造性地学习和工作。就中小学生来说，对一门课程感兴趣，会促使他刻苦钻研，并且进行创造性的思维，不仅会使他的学习成绩大大提高，而且可能改善学习方法，提高学习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些学者曾经说过：所有智力方面的工作都要依赖于兴趣。研究表明，兴趣比智力更能促进学生努力学习，提高学习成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开发作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国外古典花纹系列：规则边框类缎带横幅精致矢量花纹 - 花纹边框向量图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92360" y="1989000"/>
            <a:ext cx="5688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怎样培养自己的学习兴趣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国外古典花纹系列：规则边框类缎带横幅精致矢量花纹 - 花纹边框向量图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908000" y="1989000"/>
            <a:ext cx="52563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请同学们谈谈</a:t>
            </a:r>
            <a:endParaRPr b="0" lang="en-US" sz="1800" spc="1" strike="noStrike">
              <a:ln w="936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国外古典花纹系列：规则边框类缎带横幅精致矢量花纹 - 花纹边框向量图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百万富翁诞生的秘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心理学家们曾经做过这样一项研究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他们找了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个发刚大学毕业的学生，决定做自己喜欢的工作的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另外也找了同样学历和年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决定先投身热门行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赚到钱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再做自己喜欢的事情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个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2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年后，两个对照组中发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做自己喜欢的工作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个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个成为百万富翁，而后者只有一个百万富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4797360"/>
            <a:ext cx="81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论从事哪种职业，走向成功的第一步就是必须对这种职业感兴趣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国外古典花纹系列：规则边框类缎带横幅精致矢量花纹 - 花纹边框向量图10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124000" y="2205000"/>
            <a:ext cx="48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学习别人的经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国外古典花纹系列：规则边框类缎带横幅精致矢量花纹 - 花纹边框向量图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4360" y="1052640"/>
            <a:ext cx="7848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经验一：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不妨给自己定一些时间限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连续长时间的学习很容易使自己产生厌烦情绪，这时可以把功课分成若干个部分，把每一部分限定时间，例如一小时内完成这份练习、八点以前做完那份测试等等，这样不仅有助于提高效率，还不会产生疲劳感。如果可能的话，逐步缩短所用的时间，不久你会发现，以前一小时都完不成的作业，现在四十分钟就完成了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国外古典花纹系列：规则边框类缎带横幅精致矢量花纹 - 花纹边框向量图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320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一心不能二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不要在学习的同时干其他事或想其他事。一心不能二用的道理谁都明白，可还是有许多同学在边学习边听音乐。或许你会说听音乐是放松神经的好办法，那么你尽可以专心的学习一小时后全身放松地听一刻钟音乐，这样比带着耳机做功课的效果好多了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476280"/>
            <a:ext cx="482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404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经验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国外古典花纹系列：规则边框类缎带横幅精致矢量花纹 - 花纹边框向量图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不要整个晚上都复习同一门功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一个晚上来看数学或物理，实践证明，这样做非但容易疲劳，而且效果也很差。每晚安排复习两三门功课，情况要好多了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了十分重要的内容以外，课堂上不必记很详细的笔记。如果课堂上忙于记笔记，听课的效率一定不高，况且你也不能保证课后一定会去看笔记。课堂上所做的主要工作应当是把老师的讲课消化吸收，适当做一些简要的笔记即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907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经验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国外古典花纹系列：规则边框类缎带横幅精致矢量花纹 - 花纹边框向量图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979640" y="1916280"/>
            <a:ext cx="511344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具体的方法</a:t>
            </a:r>
            <a:endParaRPr b="0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国外古典花纹系列：规则边框类缎带横幅精致矢量花纹 - 花纹边框向量图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积极期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积极期望就是从改善学习者自身的心理状态入手，对自己不喜欢的学科充满信心，相信该学科是非常有趣的，自己一定会对这门学科产生信心。想像中的“兴趣”会推动我们认真学习该学科，从而导致对此学科真正感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国外古典花纹系列：规则边框类缎带横幅精致矢量花纹 - 花纹边框向量图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1052640"/>
            <a:ext cx="8137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如一位学生对学习地理毫无兴趣，怀着一种焦急的心情等待下课铃声，为了培养对地理的兴趣，他作了这样的练习：“我喜欢你，地理！”重复几遍之后，他觉得地理不像从前那样枯燥无味了。第二天他在图书馆借了一本有关地理的书，回家后，收拾一下房间，高高兴兴地读了起来，再上地理课时也开始听老师讲解了，后来很喜欢地理，总是急不可待地盼着上地理课。 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国外古典花纹系列：规则边框类缎带横幅精致矢量花纹 - 花纹边框向量图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16000" y="620640"/>
            <a:ext cx="655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从可以达到的小目标开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习之初，确定小的学习目标，学习目标不可定得太高，应从努力可达到的目标开始。不断的进步会提高学习的信心。不要期望在短期内将成绩提高上去，有的同学往往努力学习一两周，结果发现成绩提高不大，就失去信心，从而厌恶学习。持之以恒地努力，一个一个小目标的实现，是实现大目标的开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国外古典花纹系列：规则边框类缎带横幅精致矢量花纹 - 花纹边框向量图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只钟已经忙活了一辈子。有一天，一只老钟对一只小钟说：“你一年里要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256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啦。” 小钟吓坏了，说“哇，这么多，这怎么可能？！我怎么能完成那么多下呢！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这时候，另一只老钟笑着说：“不用怕，你只需一秒钟摆一下，每一秒坚持下来就可以了。” 小钟高兴了，想着：一秒钟摆一下好像并不难啊，试试看吧。果然，很轻松地就摆了一下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不知不觉一年过去了，小钟已经摆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256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！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292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当我们面对大困难的时候，往往望而怯步，孰不知只要根据实际，分期制定小目标，一一完成就行了。我想，这不仅是送给我的学生，同样是对自己的鞭策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348000" y="189000"/>
            <a:ext cx="2627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看故事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国外古典花纹系列：规则边框类缎带横幅精致矢量花纹 - 花纹边框向量图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了解学习目的，间接建立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目的，是指某学科的学习结果是什么，为什么要学习该学科。当学习该学科没有太强的吸引力时，对最终目标的了解是很重要的。学习过程多半都是要经过长期艰苦努力的，这种艰巨性往往让人望而却步，而学习又是学生的天职，不能不学，所以要认真了解每门学科的学习目的。看书上的绪言部分，听老师介绍学科发展的趋势，或从国家、社会的发展前景的高度去看待各门学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，记外语单词和语法规则，常常是枯躁无味的。但记住以后，会给听、说、读、写、译等技能的培养带来很大的帮助，而且考试中也会得高分。如果我们对学习的个人意义及社会意义有较深刻的理解，就会认真学习各门功课，从而对各科的学习发生浓厚的兴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国外古典花纹系列：规则边框类缎带横幅精致矢量花纹 - 花纹边框向量图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16360" y="115920"/>
            <a:ext cx="27352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减肥创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肥是令许多人望而却步的难事，是许多胖子们的大难题。但有一家减肥健美俱乐部却效果显著，久负盛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天，一位胖男子慕名而来，他已有过多次失败的经历了。他抱着最后一试的态度问教练，他该怎么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练记下了他的地址，然后告诉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家等候通知。明天有人告诉你怎么做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第二天一早，门铃响了，一位漂亮性感的青春女郎站在门口，对胖子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练吩咐，你要能追着我，我就是你 的。胖子大喜，从此每天早晨都在女郎后边狂追。 如此数月下来，胖子已逐渐身手矫健起来，他早都忘了这是减肥，只是想一定要把那姑娘追到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直到有一天，胖子心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天我一定能追到她了。他早早起来在门口等着，那位姑娘没来，来的是一位同他以前一样胖的女士。 胖女士对他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练吩咐，我要能追到你，你就是我的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评语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这只是一个笑话，但它却告诉我们，不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偷换概念目标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把一些艰苦的过程变得轻松有趣起来，这样你就能更好地坚持下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国外古典花纹系列：规则边框类缎带横幅精致矢量花纹 - 花纹边框向量图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培养自我成功感，以培养直接的学习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在学习的过程中每取得一个小的成功，就进行自我奖赏，达到甚么目标，就给自己什么样的奖励。有小进步，实现小目标则小奖赏，如让自己去玩一次自己想玩的东西；有中进步、实现中目标则中奖励，如买一本自己喜欢的书画或乐器等；有大进步、实现大目标则大奖励，如周末旅游等。这样通过渐次奖励来巩固自己的行为，有助于产生自我成功感，不知不觉就会建立起直接兴趣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国外古典花纹系列：规则边框类缎带横幅精致矢量花纹 - 花纹边框向量图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16000" y="620640"/>
            <a:ext cx="6551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把原有的其他兴趣转移到学习上来，以培养新的学习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个人在少年儿童时期都有自己特别感兴趣的事，如爱玩汽车、爱搭积木等。到了高年级后，就应当去发现、了解与爱好有关的知识，如怎样当个好驾驶员？汽车是如何发动的？汽车的构造原理是什麽？我所学的知识中那些和它们有关系？这样就把对学习的兴趣在原有的基础上发展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爱因斯坦中学时只对物理感兴趣，不喜欢数学，后来他在向纵深研究物理时发现数学是其基础，便又产生了对数学的兴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如你对语文基础知识的学习不感兴趣，而对写作非常感兴趣。这样你可以通过写作练习，体会出语文基础知识的学习对写作的重要意义，从而增强对语文基础知识学习的积极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国外古典花纹系列：规则边框类缎带横幅精致矢量花纹 - 花纹边框向量图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在解决实际问题的过程中，确立稳定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学得的知识解决实际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是能巩固知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是能修证知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是能带来自我成功的喜悦情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种喜悦情绪正式建立稳定持久的兴趣所必需的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国外古典花纹系列：规则边框类缎带横幅精致矢量花纹 - 花纹边框向量图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4392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保持兴趣的最容易的方法是不断地提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当你为回答或解答一个问题而去读书时，你的学习就带有目的性，就有了兴趣。准备一些问题是很容易的，仅仅把每节的标题成问题就是了。例如学习阿基米德定律时，你可问：阿基米德定律的内容是什麽？它是怎样发现的？怎样证明它的结论是对的？它的公式是什么？使用它应注意甚麽问题？我能否用其他的办法推出？为了回答这些问题，一开始你强迫自己详细看下去，但是，一旦你真正的往下看，你就会被吸引住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89000"/>
            <a:ext cx="295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国外古典花纹系列：规则边框类缎带横幅精致矢量花纹 - 花纹边框向量图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058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想像学习成功后的情景，激发学习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当我们满腔热情地去做任何一件事前， 一 般 都对它的结果有了预期的想象，而坚持去做这件事情。例如你想像某个电影非常好 看才促使你去看，假如你事先想像这个电影不好看，那么你一定不去看。厨师想象出自己做出来的佳肴是什么味道，继而辛苦劳作；作曲家想象出自己作出的曲子会产生什麽样的声音，从而激发出他的创作热情。你可以想象出考试成绩优秀，可以顺利进入大学，为家庭为社会作出贡献，为个人创造好的前程。也可以想象出考试成绩优秀，得到老师、家长的赞扬，得到同学们的羡慕等，从而激发学习兴趣，想像会帮你成功。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国外古典花纹系列：规则边框类缎带横幅精致矢量花纹 - 花纹边框向量图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假如你能坚持用这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种小方法激发自己对某门学科的兴趣，相信你在不久的将来会对自己不感兴趣的学科感了兴趣。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国外古典花纹系列：规则边框类缎带横幅精致矢量花纹 - 花纹边框向量图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050920" y="1916280"/>
            <a:ext cx="475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关于学习兴趣的名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国外古典花纹系列：规则边框类缎带横幅精致矢量花纹 - 花纹边框向量图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兴趣是成功的基础，持久的兴趣才是成功的阶梯。 ——叶金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强烈的兴趣常常可以导致事业的成功。    ——腾岸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强烈的兴趣爱好，往往是决定一个人取得成功的基本保证。——王建闵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兴趣是成功的内在起点。    ——方德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兴趣是创造成功的无形力量。          ——方德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早一点认清自己的天赋才能，把自己放在一个对的起点上，可以提早成功  的时日，可以使你这一生都过着与自己意愿相契合的愉快的日子。——罗兰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兴趣是成功的先导。           ——沈明革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兴趣往往是成功的原动力。        ——金铁林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网易10月份壁纸 - 10月份壁纸 Desktop Wallpaper of computer Illustratio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404640"/>
            <a:ext cx="8317080" cy="36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兴趣是理想的翅膀  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04640"/>
            <a:ext cx="514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说说自己对学习兴趣的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国外古典花纹系列：规则边框类缎带横幅精致矢量花纹 - 花纹边框向量图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5640" y="620640"/>
            <a:ext cx="4681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什么是兴趣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兴趣是一个人力求认识某种事物或从事某种活动的倾向，是人的个性的一个侧面，一个组成部分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兴趣表现为人对客观事物的选择性态度，对某种活动的需要方面的情绪倾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兴趣与人的需要有着密切的关系，它是在需要的基础上，通过实践活动形成和发展起来的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人的某种需要产生时，他就会对有关的事物或活动产生兴趣，需要越强烈，兴趣越浓厚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位棋迷，哪怕是走在马路上，看到有人对弈，也要停步长久的“观战”。一个接受集体委托、编排板报的学生，为了装帧美化版面，提高板报质量，会对报刊杂志上的题头、插图、花边等发生浓厚的兴趣，从而留心收集、剪贴、以备参考。可见，兴趣对人的学习和工作有着十分重要的意义，它是激励人高效率的学习和工作的推动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54120" cy="3068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6000" y="40428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讨厌学习的原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95280" y="1699920"/>
            <a:ext cx="6948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青年时代是学习的大好时机，也应是要求学习的欲望最强烈的时期。可是，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现实中为什么有很多“讨厌学习”、“不愿学习”的学生呢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据调查与分析，大体上是由于下列原因：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(1)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基础差，自卑感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292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的学生一度很用功，但学习上不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数归因于基础差和缺乏方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就认为自己天资差，脑子笨，再努力也白搭，于是对学习无信心，无兴趣。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(2)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没有科学的学习方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只是凭感觉、按习惯用功，效果自然不理想，于是认为学习是很费劲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3429000"/>
            <a:ext cx="604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2:29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41:16Z</dcterms:modified>
  <cp:revision>1</cp:revision>
  <dc:subject>主题班会课件(分28大类): http://shop62905894.taobao.com</dc:subject>
  <dc:title>主题班会课件(分28大类): http://shop62905894.taobao.com</dc:title>
</cp:coreProperties>
</file>