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gif" ContentType="image/gif"/>
  <Override PartName="/ppt/media/image10.jpeg" ContentType="image/jpeg"/>
  <Override PartName="/ppt/media/image9.wmf" ContentType="image/x-wmf"/>
  <Override PartName="/ppt/media/image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13.gif" ContentType="image/gif"/>
  <Override PartName="/ppt/media/chimes.wav" ContentType="audio/x-wav"/>
  <Override PartName="/ppt/media/image16.png" ContentType="image/png"/>
  <Override PartName="/ppt/media/image11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media/image28.gif" ContentType="image/gif"/>
  <Override PartName="/ppt/media/drumroll.wav" ContentType="audio/x-wav"/>
  <Override PartName="/ppt/media/image3.jpeg" ContentType="image/jpeg"/>
  <Override PartName="/ppt/media/image12.gif" ContentType="image/gif"/>
  <Override PartName="/ppt/media/image24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applause.wav" ContentType="audio/x-wav"/>
  <Override PartName="/ppt/media/image2.png" ContentType="image/png"/>
  <Override PartName="/ppt/media/image25.png" ContentType="image/png"/>
  <Override PartName="/ppt/media/image14.gif" ContentType="image/gif"/>
  <Override PartName="/ppt/media/image17.gif" ContentType="image/gif"/>
  <Override PartName="/ppt/media/camera.wav" ContentType="audio/x-wav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488-2CB3-44D6-9E10-43B4A75B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BF7-0A2A-4218-9530-B23CC7CB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2DD-264E-4FAE-951F-5AF0D718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DE9-4000-4474-AB39-73468FA1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97B-5E88-4E2C-9F00-7F12F50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0A5-CAAF-4427-9B76-3A45DA3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8D2-D724-4AD4-8538-8C652AE2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DED-8AAC-45F6-BFE4-DF22BA51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778-BFCE-4F66-A0D3-B945E46C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146-2CF9-4FED-865C-F6F5C08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121-3ABD-4AA5-A653-662936F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E1B-FB50-4E69-9110-EB04885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FF59-5AAF-447B-BE89-8E13E8F59B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5.gif"/><Relationship Id="rId19" Type="http://schemas.openxmlformats.org/officeDocument/2006/relationships/image" Target="../media/image15.gif"/><Relationship Id="rId20" Type="http://schemas.openxmlformats.org/officeDocument/2006/relationships/image" Target="../media/image15.gif"/><Relationship Id="rId21" Type="http://schemas.openxmlformats.org/officeDocument/2006/relationships/image" Target="../media/image15.gif"/><Relationship Id="rId22" Type="http://schemas.openxmlformats.org/officeDocument/2006/relationships/image" Target="../media/image15.gif"/><Relationship Id="rId23" Type="http://schemas.openxmlformats.org/officeDocument/2006/relationships/slide" Target="slide18.xml"/><Relationship Id="rId24" Type="http://schemas.openxmlformats.org/officeDocument/2006/relationships/image" Target="../media/image16.png"/><Relationship Id="rId25" Type="http://schemas.openxmlformats.org/officeDocument/2006/relationships/image" Target="../media/image17.gif"/><Relationship Id="rId26" Type="http://schemas.openxmlformats.org/officeDocument/2006/relationships/audio" Target="../media/camera.wav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" Target="slide4.xml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2.xml"/><Relationship Id="rId4" Type="http://schemas.openxmlformats.org/officeDocument/2006/relationships/image" Target="../media/image16.png"/><Relationship Id="rId5" Type="http://schemas.openxmlformats.org/officeDocument/2006/relationships/image" Target="../media/image28.gif"/><Relationship Id="rId6" Type="http://schemas.openxmlformats.org/officeDocument/2006/relationships/image" Target="../media/image2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3886200"/>
            <a:ext cx="3886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是中学生啦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990720"/>
            <a:ext cx="4953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我们有一份成绩</a:t>
            </a:r>
            <a:endParaRPr b="0" i="1" lang="en-US" sz="4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校增一份光彩</a:t>
            </a:r>
            <a:endParaRPr b="0" i="1" lang="en-US" sz="4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3880" y="990720"/>
            <a:ext cx="49532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希望与你同行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629400" y="2971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8077320" y="304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191120" y="1905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95288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129528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297180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182880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4724280" y="228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038480" y="380880"/>
            <a:ext cx="419400" cy="41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2362320" y="43434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380880" y="16765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3581280" y="35053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8001000" y="1143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7391520" y="3581280"/>
            <a:ext cx="419040" cy="419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438280" y="1981080"/>
            <a:ext cx="419400" cy="41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772400" y="29718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7238880" y="137160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1"/>
          <a:stretch/>
        </p:blipFill>
        <p:spPr>
          <a:xfrm>
            <a:off x="2666880" y="3049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2"/>
          <a:stretch/>
        </p:blipFill>
        <p:spPr>
          <a:xfrm>
            <a:off x="1447920" y="464832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0" y="6105600"/>
            <a:ext cx="133668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5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362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36232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676520"/>
            <a:ext cx="6933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知荣辱，树新风，争做文明中学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明确目标，端正态度，全面发展记牢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骂人，不打架，不要随口说脏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尊敬师长，团结同学，文明礼仪不能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学习，要自重，品学兼优人人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362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36232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219320"/>
            <a:ext cx="6324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乱花钱不浪费，勤俭节约心铭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护公物，保护公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做个尊规守纪的好标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果皮纸屑不乱扔，楼梯走廊不打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随地吐痰不文明，公众场合不喧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社会公德记心间，文明学生人人赞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5445000"/>
            <a:ext cx="790560" cy="581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5002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6208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574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66880" y="838080"/>
            <a:ext cx="460872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心动不如行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838080"/>
            <a:ext cx="763560" cy="83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743200"/>
            <a:ext cx="693432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语言和行动两者之间，成功者选择做“行动的巨人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自己的目标确定一个行动的计划，否则明天永远不会到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676520" y="1752480"/>
            <a:ext cx="4952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班主任赠言</a:t>
            </a:r>
            <a:endParaRPr b="0" lang="en-US" sz="4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7620120" cy="5361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809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09480" y="2286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明天更辉煌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638680" y="5335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歌曲欣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5880" y="2743200"/>
            <a:ext cx="213372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真心英雄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1038240" cy="830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410080"/>
            <a:ext cx="13366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371600" y="4267080"/>
            <a:ext cx="685800" cy="468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552600"/>
            <a:ext cx="447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在我心中 曾经有一个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要用歌声让你忘了所有的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灿烂星空 谁是真的英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平凡的人们给我最多感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再没有恨 也没有了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但愿人间处处都有爱的影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用我们的歌 换你真心笑容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祝福你的人生从此与众不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把握生命里的每一分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全力以赴我们心中的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不经历风雨 怎么见彩虹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没有人能随随便便成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把握生命里每一次感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和心爱的朋友热情相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让真心的话 和开心的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在你我的心里流动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7924680" y="5791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9907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飞翔吧，七彩的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447920"/>
            <a:ext cx="4496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品味成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12408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我们的学校、我们的班级有哪些值得骄傲的成果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1523880"/>
            <a:ext cx="7467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青少年科技教育先进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和谐教育实验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示范初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园林式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苏省绿色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镇江市教育信息化先进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丹阳市德育先进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丹阳市优秀家长学校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49286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7621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       “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金无足赤，人无完人”，找找身上的不足之处，你发现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52480" y="2666880"/>
            <a:ext cx="54104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MS UI Gothic"/>
              </a:rPr>
              <a:t>请欣赏</a:t>
            </a: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MS UI Gothic"/>
              </a:rPr>
              <a:t>Flash</a:t>
            </a: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MS UI Gothic"/>
              </a:rPr>
              <a:t>动画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05360"/>
            <a:ext cx="684360" cy="503280"/>
          </a:xfrm>
          <a:custGeom>
            <a:avLst/>
            <a:gdLst>
              <a:gd name="textAreaLeft" fmla="*/ 281880 w 684360"/>
              <a:gd name="textAreaRight" fmla="*/ 402480 w 68436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ShockwaveFlash1"/>
          <p:cNvGraphicFramePr/>
          <p:nvPr/>
        </p:nvGraphicFramePr>
        <p:xfrm>
          <a:off x="395280" y="189000"/>
          <a:ext cx="806436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64360" cy="640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6:44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7:38Z</dcterms:modified>
  <cp:revision>47</cp:revision>
  <dc:subject>主题班会课件(分28大类): http://shop62905894.taobao.com</dc:subject>
  <dc:title>主题班会课件(分28大类): http://shop62905894.taobao.com</dc:title>
</cp:coreProperties>
</file>