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AB87-69EB-44FE-8A59-0E4E8985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3893-FF69-442C-8E18-D39FE7E0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2667-27A7-43DB-A05D-87321A99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B77B-3EB3-48EB-9297-7554F67A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5698-870D-41FF-B5CB-7114A5E1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6808-D8DD-41A6-B1B0-F05D75C1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D548-911E-406F-BD37-9FAFB4D7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F0F7-979B-458C-A0B9-2EF248B1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176C-F396-4646-B861-97838C6F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A758-B477-4A70-8F56-4A0B5CC0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9551-FE25-450F-88A4-8865200F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E94C-7A67-45A9-9142-F041F182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59C3-59AD-4D4B-8E08-4DFE07F450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95640" y="1341000"/>
            <a:ext cx="48960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规划人生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 立志成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67280" y="3860280"/>
            <a:ext cx="4572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一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班主题班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组讨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60480" y="1599840"/>
            <a:ext cx="75628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应该怎么做规划呢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299736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华文新魏"/>
              </a:rPr>
              <a:t>回顾、检讨和重新认识自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个人成长管理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42920" y="1593720"/>
          <a:ext cx="7705800" cy="4521240"/>
        </p:xfrm>
        <a:graphic>
          <a:graphicData uri="http://schemas.openxmlformats.org/drawingml/2006/table">
            <a:tbl>
              <a:tblPr/>
              <a:tblGrid>
                <a:gridCol w="1751040"/>
                <a:gridCol w="1751400"/>
                <a:gridCol w="1611720"/>
                <a:gridCol w="1539720"/>
                <a:gridCol w="105192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了什么新知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成绩进步多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下一步的目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自我评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和目标的差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凡事预则立，不预则废”；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42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人生需要规划，企业需要策划，不懂策划者，不能明白“磨刀不误砍柴功”的道理。策划也，人人都用，一个人的成功、企业的成功，虽然付出了众多的辛苦，但他们毕竟是成功者；但是：有众多的人、企业付出的辛劳远比成功的人、成功的企业付出的辛劳多出几倍，最终还是以失败而告终。成功并非是努力奋斗和付出辛劳多少的结晶，而是另有缘故。这就是对自己的认识是否到位，策划做得是否合理。下面让我们来看看一些大学教授是怎样看待人生规划的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对人生规划的不同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1713960"/>
            <a:ext cx="7705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最大限度地发挥自己的优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陕西理工学院   许继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选择与坚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华中师范大学管理学院   金文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一个古老哲学命题的启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荷泽学院   徐广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3360" y="836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五、以下关于快乐人生的几句话送给你们参考：</a:t>
            </a:r>
            <a:br>
              <a:rPr sz="40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80838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知道自己在意什么，所以我知道飞向哪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信自己，是一种坚持，并不容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牢记我要的，不强求其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心灵的成长，才是真正的成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快乐是不要给与超过自己现状的压力或者具有超强的快乐心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达到目标，就要具备为之付出的觉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努力是一种态度，不是为达到目的而做的交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好的习惯使人快乐，但养成的过程艰苦难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000" y="980640"/>
            <a:ext cx="8351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无法为出生负责，但你一定要为自己的人生负责。生命是属于你的，你应该根据自己的愿望去生活。人生的重大决定，是由心规划的，像预先计算好的框架，等待着你的星座运行。如期待改变我们的命运，首先要改变心的轨迹。 许多时候，目标与现实之间，往往具有一定的距离。我们必须学会随时去调整，无论如何，人不应该为不切实际的誓言和愿望而活着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55280" y="1773000"/>
            <a:ext cx="8388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9999"/>
                </a:solidFill>
                <a:latin typeface="Arial"/>
                <a:ea typeface="华文行楷"/>
              </a:rPr>
              <a:t>合理规划自己的人生，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9999"/>
                </a:solidFill>
                <a:latin typeface="Arial"/>
                <a:ea typeface="华文行楷"/>
              </a:rPr>
              <a:t>让我们一同来演绎精彩的生活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57440" y="274320"/>
            <a:ext cx="70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思考过吗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45760" y="1600200"/>
            <a:ext cx="724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为什么活着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着是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命有何意义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生的价值是什么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4582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相信每一个充满幻想的青年，几乎都会思索这个亘古难题。于是，许许多多的青年带着这种困惑走进了中年，他们中有的人成功了，有的却失败了，更多的只是平庸地活着。在耗费了宝贵的时间之后，他们才发现：人生有无数条单行的轨道，条条都通向未来，而他们的所谓“探索”，往往表现为无从选择地、漫不经心地、甚至刻意地走错了人生的单行道，或许他们会终于明白：人生终究不是用来“探究”的，活着并精彩地演绎生活，才是惟一的人生。然而，人生要活得多姿多彩，却不能没有梦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3360" y="765000"/>
            <a:ext cx="8216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心怀梦想，志存高远，人生之梦需要实实在在的“规划”才能“追寻”。好的人生离不开好的规划，成功人生离不开成功的规划及在正确规划指导下的持续奋斗。人生如大海航行，人生规划就是人生的基本航线，有了航线，我们就不会偏离目标，更不会迷失方向，才能更加顺利和快速地驶向成功的彼岸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3360" y="274320"/>
            <a:ext cx="772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了规划，就一定会有成功的人生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38400" y="1600200"/>
            <a:ext cx="707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思考一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你们是不是常常做了规划却不能达到预期的效果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按小组讨论两分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后请同学们来谈谈感想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96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找不到基本航线，怎么办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497800" cy="54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肖伯纳有一句名言：“明白事理的人使自己适应世界，不明白事理的人，硬想使世界适应自己。”人生就是在这种不适应中，调整适应，发展适应的长河中前进的。在人生的每一个漂流中，可能会远离我们的人生坐标。问题在于，我们应该学会在远离目标的时侯，去创造条件，接近目标。所谓创造条件，本身就是一种进取，一种求索，一种心向即定目标的挚着，一种坚忍不拔的追求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26560" y="620640"/>
            <a:ext cx="79218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的一生是漫长的，更是变动的。国家政策的调整，外在条件的变化，家境的变迁，突发事件的出现，都会使我们的境遇变得困难起来。在艰难困苦面前，我们要以乐观豁达的心情直面人生；以艰韧不拔的毅力支撑自我；以正确的价值取向占据灵魂。把艰难困苦当成是一种磨炼，一种积垫和一种成熟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55640" y="1125000"/>
            <a:ext cx="7802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古人云：“哀莫大于心死”，“志莫大于永刻”。在艰难险阻面前， 只要我们心中的火不灭，展开的翅不折，就一定能走出生活的沼泽，迎来人生的艳阳天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497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本书中这样写到：一个不能靠自己的能力改变命运的人，是不幸的，也是可怜的，因为这些人没有把命运掌握在自己的手中，反而成为命运的奴隶。而人的一生中究竟有多少个春秋，有多少事是值得回忆和纪念的。生命就像一张白纸，等待着我们去描绘，去谱写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而合理的规划才能在这张白纸上描出精彩的蓝图。那么，要怎样规划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5:17:0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24:37Z</dcterms:modified>
  <cp:revision>21</cp:revision>
  <dc:subject>主题班会课件(分28大类): http://shop62905894.taobao.com</dc:subject>
  <dc:title>主题班会课件(分28大类): http://shop62905894.taobao.com</dc:title>
</cp:coreProperties>
</file>