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31.gif" ContentType="image/gif"/>
  <Override PartName="/ppt/media/image11.jpeg" ContentType="image/jpeg"/>
  <Override PartName="/ppt/media/image1.gif" ContentType="image/gif"/>
  <Override PartName="/ppt/media/image27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B8B-FA44-431A-BBF4-847A8F83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102-8931-40B7-A9F5-2C9FB31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CA0-C051-4732-89E4-887AA82B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105-DB20-433D-81C4-B4C03432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977-7D9E-487C-857E-C221773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B66-07FD-4915-A84D-F2A3E1D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A7F-1A36-4F78-BCD1-58499C1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E6C-7770-4ACC-A2BA-1BAD267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0D0-9772-49CA-A1C5-7FC6E104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7F0-29BA-45FF-95B7-3AA1678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0F2-6453-4D73-803A-3970C75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7DE-2115-439E-A8A8-5B5988D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930-F07C-437E-B445-2B1EA5A03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648400">
            <a:off x="1282680" y="776160"/>
            <a:ext cx="61927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700360" y="2349360"/>
          <a:ext cx="5040360" cy="339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349360"/>
                    <a:ext cx="504036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788000" y="1557360"/>
            <a:ext cx="4248000" cy="1295280"/>
          </a:xfrm>
          <a:prstGeom prst="borderCallout1">
            <a:avLst>
              <a:gd name="adj1" fmla="val 18750"/>
              <a:gd name="adj2" fmla="val -8333"/>
              <a:gd name="adj3" fmla="val 119976"/>
              <a:gd name="adj4" fmla="val -5194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大都生活在社会的最底层，生活都过得不如意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5302080"/>
            <a:ext cx="4248360" cy="1295640"/>
          </a:xfrm>
          <a:prstGeom prst="borderCallout1">
            <a:avLst>
              <a:gd name="adj1" fmla="val 18750"/>
              <a:gd name="adj2" fmla="val -8333"/>
              <a:gd name="adj3" fmla="val -44606"/>
              <a:gd name="adj4" fmla="val -4523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大都生活在社会的中下层面，能安稳地生活与工作，但都没有什么特别的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860640"/>
            <a:ext cx="2232000" cy="237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37" y="1039"/>
                </a:moveTo>
                <a:lnTo>
                  <a:pt x="-1337" y="1039"/>
                </a:lnTo>
                <a:lnTo>
                  <a:pt x="-1337" y="-3607"/>
                </a:lnTo>
                <a:lnTo>
                  <a:pt x="31540" y="-4358"/>
                </a:lnTo>
              </a:path>
            </a:pathLst>
          </a:cu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大都生活在社会的中上层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成为专业人士，如医生、律师、工程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00280"/>
            <a:ext cx="324144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109550"/>
              <a:gd name="adj5" fmla="val 136273"/>
              <a:gd name="adj6" fmla="val 11675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几乎都成了社会各界顶尖成功人士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9280" y="189000"/>
            <a:ext cx="8640720" cy="1013400"/>
            <a:chOff x="179280" y="189000"/>
            <a:chExt cx="8640720" cy="1013400"/>
          </a:xfrm>
        </p:grpSpPr>
        <p:pic>
          <p:nvPicPr>
            <p:cNvPr id="97" name="" descr=""/>
            <p:cNvPicPr/>
            <p:nvPr/>
          </p:nvPicPr>
          <p:blipFill>
            <a:blip r:embed="rId3"/>
            <a:srcRect l="4630" t="35816" r="23481" b="47658"/>
            <a:stretch/>
          </p:blipFill>
          <p:spPr>
            <a:xfrm>
              <a:off x="322200" y="189000"/>
              <a:ext cx="1873440" cy="57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9280" y="255240"/>
              <a:ext cx="864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有一个非常著名的关于目标对人生影响的跟踪调查，对象是一群智力、学历、环境等条件都差不多的年轻人，调查结果发现：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456000" cy="431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539640" y="4724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社会调查显示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校大学生的调查显示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大学生对所学专业不满意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有一些大学生甚至毕业时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知道自己将来要从事什么职业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4797360"/>
            <a:ext cx="4392360" cy="0"/>
          </a:xfrm>
          <a:prstGeom prst="line">
            <a:avLst/>
          </a:prstGeom>
          <a:ln w="19080">
            <a:solidFill>
              <a:srgbClr val="f6c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140360" y="404640"/>
            <a:ext cx="0" cy="4392720"/>
          </a:xfrm>
          <a:prstGeom prst="line">
            <a:avLst/>
          </a:prstGeom>
          <a:ln w="19080">
            <a:solidFill>
              <a:srgbClr val="f6c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3240" y="1546200"/>
            <a:ext cx="474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漫画中右边的两位年轻人是什么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们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29098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什么原因造成这样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384660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我们怎样解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459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阅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彩云"/>
              </a:rPr>
              <a:t>资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结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彩云"/>
              </a:rPr>
              <a:t>漫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彩云"/>
              </a:rPr>
              <a:t>小组讨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回答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360" y="2174760"/>
            <a:ext cx="5256360" cy="121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1" i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成功人士之所以成功，多半是因为他们在有意识地规划了他们的人生</a:t>
            </a:r>
            <a:r>
              <a:rPr b="0" i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64000" y="915840"/>
            <a:ext cx="30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彩云"/>
              </a:rPr>
              <a:t>感  悟  人  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497400">
            <a:off x="5579640" y="3213000"/>
            <a:ext cx="2092320" cy="28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13161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你说一个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于小时侯立下了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目标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大取得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成功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例子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范围不限，可以是名人、伟人，也可以是发生在我们身边的亲人、朋友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447400">
            <a:off x="1619280" y="3573360"/>
            <a:ext cx="1736640" cy="244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476280"/>
            <a:ext cx="59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7628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6308640"/>
            <a:ext cx="59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508464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56664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彩云"/>
              </a:rPr>
              <a:t>他 们 成 功 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7080" y="981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彩云"/>
              </a:rPr>
              <a:t>人生规划的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9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认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7800" y="2852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认识社会需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1080" y="3860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认识职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4803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倾听家长意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彩云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8366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彩云"/>
              </a:rPr>
              <a:t>测试最适合你的职场领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73360"/>
            <a:ext cx="820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参加了世界景观惊奇之旅，其中一项活动是让你站在一扇特殊的窗户前面，按下按钮之后就可观赏到你从未见过的景观，你希望看到的是下面哪一样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68640"/>
            <a:ext cx="49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华文中宋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9999"/>
                </a:solidFill>
                <a:latin typeface="华文中宋"/>
                <a:ea typeface="华文中宋"/>
              </a:rPr>
              <a:t>充满挑战的崎岖山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4000" y="3157560"/>
            <a:ext cx="3095640" cy="3008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62600" y="260280"/>
            <a:ext cx="2057400" cy="143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92000" y="36450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华文中宋"/>
                <a:ea typeface="华文中宋"/>
              </a:rPr>
              <a:t>B</a:t>
            </a:r>
            <a:r>
              <a:rPr b="1" lang="zh-CN" sz="2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任何和食物有关的景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42354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C</a:t>
            </a: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一片绿油油的草原风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48117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华文中宋"/>
                <a:ea typeface="华文中宋"/>
              </a:rPr>
              <a:t>D</a:t>
            </a:r>
            <a:r>
              <a:rPr b="1" lang="zh-CN" sz="2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海天一线的远眺美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538812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E</a:t>
            </a: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任何和树木有关的景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6035760"/>
            <a:ext cx="41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繁星点点的黑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24000" y="620640"/>
            <a:ext cx="8424720" cy="2226960"/>
            <a:chOff x="324000" y="620640"/>
            <a:chExt cx="8424720" cy="2226960"/>
          </a:xfrm>
        </p:grpSpPr>
        <p:sp>
          <p:nvSpPr>
            <p:cNvPr id="133" name=""/>
            <p:cNvSpPr/>
            <p:nvPr/>
          </p:nvSpPr>
          <p:spPr>
            <a:xfrm>
              <a:off x="324000" y="620640"/>
              <a:ext cx="842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里马：目标坚定勇往直前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   你早已为自己的人生订好完美的目标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并且会全力以赴去实践，所以无论身处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什么样的环境，都能有一番令人羡慕的成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计算机、贸易、金融、出版、新科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885000" y="677520"/>
              <a:ext cx="1505160" cy="123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324000" y="3429000"/>
            <a:ext cx="8497800" cy="2525400"/>
            <a:chOff x="324000" y="3429000"/>
            <a:chExt cx="8497800" cy="2525400"/>
          </a:xfrm>
        </p:grpSpPr>
        <p:sp>
          <p:nvSpPr>
            <p:cNvPr id="136" name=""/>
            <p:cNvSpPr/>
            <p:nvPr/>
          </p:nvSpPr>
          <p:spPr>
            <a:xfrm>
              <a:off x="395280" y="3727440"/>
              <a:ext cx="842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快乐猪：人生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HAPPY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为目的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觉得自己只是在做一些自己想做的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事而己，人生的哲学就是“精神重于物质，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开心就好！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创意、艺术家、室内设计、美容、烹饪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3429000"/>
              <a:ext cx="8351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308720" y="3644640"/>
              <a:ext cx="1513080" cy="151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324000" y="703440"/>
            <a:ext cx="8496000" cy="2226960"/>
            <a:chOff x="324000" y="703440"/>
            <a:chExt cx="8496000" cy="2226960"/>
          </a:xfrm>
        </p:grpSpPr>
        <p:sp>
          <p:nvSpPr>
            <p:cNvPr id="140" name=""/>
            <p:cNvSpPr/>
            <p:nvPr/>
          </p:nvSpPr>
          <p:spPr>
            <a:xfrm>
              <a:off x="324000" y="703440"/>
              <a:ext cx="842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勤劳牛：脚踏实地勤劳第一！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你只要把份内的工作完成，就觉得愉悦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满足。你的执行能力很强，还有难能可贵的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责任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适合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秘书、行政、教育、专业技术人员、运动员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rcRect l="16726" t="0" r="0" b="0"/>
            <a:stretch/>
          </p:blipFill>
          <p:spPr>
            <a:xfrm>
              <a:off x="7380360" y="776520"/>
              <a:ext cx="143964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324000" y="3645000"/>
            <a:ext cx="8591400" cy="2226960"/>
            <a:chOff x="324000" y="3645000"/>
            <a:chExt cx="8591400" cy="2226960"/>
          </a:xfrm>
        </p:grpSpPr>
        <p:sp>
          <p:nvSpPr>
            <p:cNvPr id="143" name=""/>
            <p:cNvSpPr/>
            <p:nvPr/>
          </p:nvSpPr>
          <p:spPr>
            <a:xfrm>
              <a:off x="395280" y="3645000"/>
              <a:ext cx="8497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悠游鸟：自由追求新鲜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的反应力、社交能力一级棒，如果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每天接触不同的新鲜事或认识不同的朋友，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会让你的人生更有意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传播、演艺、推销员、公关、旅游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000" y="3645000"/>
              <a:ext cx="8351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rcRect l="0" t="0" r="3191" b="5999"/>
            <a:stretch/>
          </p:blipFill>
          <p:spPr>
            <a:xfrm>
              <a:off x="7451640" y="3978360"/>
              <a:ext cx="1463760" cy="146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324000" y="3424320"/>
            <a:ext cx="8567640" cy="2667960"/>
            <a:chOff x="324000" y="3424320"/>
            <a:chExt cx="8567640" cy="2667960"/>
          </a:xfrm>
        </p:grpSpPr>
        <p:sp>
          <p:nvSpPr>
            <p:cNvPr id="147" name=""/>
            <p:cNvSpPr/>
            <p:nvPr/>
          </p:nvSpPr>
          <p:spPr>
            <a:xfrm>
              <a:off x="324000" y="3424320"/>
              <a:ext cx="8351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4000" y="3438720"/>
              <a:ext cx="8567640" cy="2653560"/>
              <a:chOff x="324000" y="3438720"/>
              <a:chExt cx="8567640" cy="2653560"/>
            </a:xfrm>
          </p:grpSpPr>
          <p:sp>
            <p:nvSpPr>
              <p:cNvPr id="149" name=""/>
              <p:cNvSpPr/>
              <p:nvPr/>
            </p:nvSpPr>
            <p:spPr>
              <a:xfrm>
                <a:off x="324000" y="3438720"/>
                <a:ext cx="84960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F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神秘猫：忽冷忽热超级情绪化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你对人总是忽冷忽热，凡事都依你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的心情而定，做事情掌控权必须在自己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手上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适合你发展的领域是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</a:rPr>
                  <a:t>心理分析师、作者、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</a:rPr>
                  <a:t>征信社、自由业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等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" name="" descr=""/>
              <p:cNvPicPr/>
              <p:nvPr/>
            </p:nvPicPr>
            <p:blipFill>
              <a:blip r:embed="rId1"/>
              <a:srcRect l="9335" t="0" r="15079" b="0"/>
              <a:stretch/>
            </p:blipFill>
            <p:spPr>
              <a:xfrm>
                <a:off x="7316640" y="3640320"/>
                <a:ext cx="1575000" cy="165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1" name=""/>
          <p:cNvGrpSpPr/>
          <p:nvPr/>
        </p:nvGrpSpPr>
        <p:grpSpPr>
          <a:xfrm>
            <a:off x="324000" y="898560"/>
            <a:ext cx="8569080" cy="2242800"/>
            <a:chOff x="324000" y="898560"/>
            <a:chExt cx="8569080" cy="2242800"/>
          </a:xfrm>
        </p:grpSpPr>
        <p:sp>
          <p:nvSpPr>
            <p:cNvPr id="152" name=""/>
            <p:cNvSpPr/>
            <p:nvPr/>
          </p:nvSpPr>
          <p:spPr>
            <a:xfrm>
              <a:off x="324000" y="914400"/>
              <a:ext cx="849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聪明猴：聪明但没耐性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总是能擅用自己的优势，让别人不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觉地喜欢、肯定你。虽然有时候会显露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出不耐烦，但是无损于你的好型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新闻、律师、政治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7020000" y="898560"/>
              <a:ext cx="1873080" cy="187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19280" y="333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大声说出你的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052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想当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职业名称）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从自己性格，兴趣、特长，对社会贡献、待遇等方面说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20842200">
            <a:off x="879480" y="4700520"/>
            <a:ext cx="1333440" cy="189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618000">
            <a:off x="3419280" y="3317760"/>
            <a:ext cx="2663640" cy="111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55678" t="14122" r="10301" b="10733"/>
          <a:stretch/>
        </p:blipFill>
        <p:spPr>
          <a:xfrm rot="20836200">
            <a:off x="7275240" y="4897440"/>
            <a:ext cx="1257120" cy="1844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20469" t="13094" r="27556" b="9529"/>
          <a:stretch/>
        </p:blipFill>
        <p:spPr>
          <a:xfrm>
            <a:off x="3206880" y="4869000"/>
            <a:ext cx="1220760" cy="180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21646" t="13202" r="14085" b="20257"/>
          <a:stretch/>
        </p:blipFill>
        <p:spPr>
          <a:xfrm>
            <a:off x="611280" y="3144960"/>
            <a:ext cx="1871640" cy="1292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5045040" y="4932360"/>
            <a:ext cx="1398600" cy="173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 rot="324000">
            <a:off x="7093080" y="2972880"/>
            <a:ext cx="1312560" cy="1751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6804000" y="476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2708280"/>
            <a:ext cx="84247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048200">
            <a:off x="4571640" y="223956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0200" y="115920"/>
            <a:ext cx="58341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小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理想与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700280"/>
            <a:ext cx="25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编剧：阿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6044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导演：谭荣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360" y="472428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出品：新宁中学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2006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秋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51200"/>
            <a:ext cx="48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演员表：伍老师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伍剑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毛前途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方东光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佟济乔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雷正鹏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戴仁务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陈子昂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228276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华文中宋"/>
                <a:ea typeface="华文中宋"/>
              </a:rPr>
              <a:t>措施：写下目标，贴在显眼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1478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中宋"/>
              </a:rPr>
              <a:t>理论依据：</a:t>
            </a:r>
            <a:r>
              <a:rPr b="1" lang="zh-CN" sz="3600" spc="-1" strike="noStrike">
                <a:solidFill>
                  <a:srgbClr val="808080"/>
                </a:solidFill>
                <a:latin typeface="华文中宋"/>
                <a:ea typeface="华文中宋"/>
              </a:rPr>
              <a:t>目标视觉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4076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-----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你要经常在脑海中想像你达成目标时的情景，情景越生动逼真，你越能体验到成功的喜悦，这就越能激发你追求成功的欲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765000"/>
            <a:ext cx="41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彩云"/>
              </a:rPr>
              <a:t>写下你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79108" t="0" r="0" b="0"/>
          <a:stretch/>
        </p:blipFill>
        <p:spPr>
          <a:xfrm>
            <a:off x="7236000" y="0"/>
            <a:ext cx="190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300720" y="222120"/>
            <a:ext cx="2627280" cy="1262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、规 划 我 的 一 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341360"/>
            <a:ext cx="65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过去一天中，除了上课时间外，有几件事情是按自己的计划完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2360" y="2205000"/>
            <a:ext cx="88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你认为自己是计划型的人还是随意性较强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2360" y="270828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列出有计划地学习、生活的五项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68600" y="189000"/>
            <a:ext cx="29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彩云"/>
                <a:ea typeface="华文彩云"/>
              </a:rPr>
              <a:t>课 外 作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200" y="3270240"/>
            <a:ext cx="50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、 规 划我 的 学 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3860640"/>
          <a:ext cx="6769080" cy="2583000"/>
        </p:xfrm>
        <a:graphic>
          <a:graphicData uri="http://schemas.openxmlformats.org/drawingml/2006/table">
            <a:tbl>
              <a:tblPr/>
              <a:tblGrid>
                <a:gridCol w="720720"/>
                <a:gridCol w="1224000"/>
                <a:gridCol w="936720"/>
                <a:gridCol w="1152360"/>
                <a:gridCol w="2735280"/>
              </a:tblGrid>
              <a:tr h="789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步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学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段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…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…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…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末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学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段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末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95640" y="1197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合唱“真心英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1008" t="2345" r="5520" b="58672"/>
          <a:stretch/>
        </p:blipFill>
        <p:spPr>
          <a:xfrm>
            <a:off x="2627280" y="184464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360" y="364500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836640"/>
            <a:ext cx="35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小 品 感 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1628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品中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毛前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佟济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戴仁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最欣赏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28464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身边有没有人像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毛前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样的同学（</a:t>
            </a: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请不要当场指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？你给这样的同学有什么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93040" y="1145160"/>
            <a:ext cx="611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你有明确的人生规划吗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我对自己的人生做了很明确的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规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思考过这个问题，但是没有明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确的规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没有想过这个问题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0280"/>
            <a:ext cx="42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问 卷 调 查 结 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9560" y="4377240"/>
            <a:ext cx="479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是否觉得了解自己的兴趣与专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146320"/>
            <a:ext cx="32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17.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0830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4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78.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583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3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524340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1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73.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5315040"/>
            <a:ext cx="210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26.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96800" y="1226160"/>
            <a:ext cx="38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有时躺在床上，下决心第二天要干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一件很重要的事，但是第二天，这种劲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头又消失了。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8560" y="3153240"/>
            <a:ext cx="55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 您认为有必要在中学阶段接受人生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规划指导吗？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4120" y="4737600"/>
            <a:ext cx="564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在人生规划方面，您的父母对您有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影响？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60280"/>
            <a:ext cx="42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问 卷 调 查 结 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63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7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66.0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637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33.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40053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94.6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7080" y="407340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3.3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57913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76.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86360" y="5734080"/>
            <a:ext cx="36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23.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93680"/>
            <a:ext cx="77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国人民大学附属中学专职规划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吴志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北京举办的一次讲座上呼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我们自己走了不少弯路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不能让孩子再走弯路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!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学校、家长应重视对学生进行早期职业生涯规划教育，为学生日后准确的职业定位打好基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7622" t="0" r="0" b="0"/>
          <a:stretch/>
        </p:blipFill>
        <p:spPr>
          <a:xfrm>
            <a:off x="2340000" y="2567160"/>
            <a:ext cx="6119640" cy="3957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-51120" y="2708280"/>
            <a:ext cx="1521000" cy="2657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专家呼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3466800"/>
            <a:ext cx="511164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我 的 人 生 我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规 划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我 的 命 运 我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主 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04640"/>
            <a:ext cx="59767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0" cy="1224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6453360"/>
            <a:ext cx="59770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5229360"/>
            <a:ext cx="0" cy="1224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173320"/>
            <a:ext cx="23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课  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6560" y="6166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比 塞 尔 人 的 迷 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3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有一个流传很广的真实故事，在非洲西撒哈拉沙漠里，有一个名叫比塞尔的小村落，不为人知，与世隔绝。当地的人没有一个走出过村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6712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不是他们不愿意离开这块风景秀丽但贫瘠落后的土地，比塞尔人曾多次试图走出沙漠，都没有成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2360" y="5121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后来，有一个叫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肯莱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欧洲青年，来到了比塞尔，建议他们走出沙漠。当地一个叫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阿古特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青年，跟随着肯莱文，一直向着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北斗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方向走，用三天时间走出了沙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825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原来，比塞尔村处在浩瀚的沙漠中间，在一望无际的沙漠里，没有一点参照物，如果凭着感觉往前走，会走出许多大小不一的圆圈，最后只能回到起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3215" t="0" r="0" b="21015"/>
          <a:stretch/>
        </p:blipFill>
        <p:spPr>
          <a:xfrm>
            <a:off x="5940360" y="44280"/>
            <a:ext cx="3097440" cy="1667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6808" r="13787" b="23001"/>
          <a:stretch/>
        </p:blipFill>
        <p:spPr>
          <a:xfrm>
            <a:off x="4427640" y="44280"/>
            <a:ext cx="1393560" cy="1656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2556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多年以后，比塞尔成了远近闻名的旅游明珠。比塞尔人在村子中央小广场上，设立了一个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阿古特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的铜像，铜像的基座上镌刻着一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1870200"/>
            <a:ext cx="6193080" cy="764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生活从选定方向开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553440" cy="3611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24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0:36Z</dcterms:modified>
  <cp:revision>5</cp:revision>
  <dc:subject>主题班会课件(分28大类): http://shop62905894.taobao.com</dc:subject>
  <dc:title>主题班会课件(分28大类): http://shop62905894.taobao.com</dc:title>
</cp:coreProperties>
</file>